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wmf" ContentType="image/x-wmf"/>
  <Override PartName="/ppt/media/image54.wmf" ContentType="image/x-wmf"/>
  <Override PartName="/ppt/media/image53.wmf" ContentType="image/x-wmf"/>
  <Override PartName="/ppt/media/image51.png" ContentType="image/png"/>
  <Override PartName="/ppt/media/image49.jpeg" ContentType="image/jpeg"/>
  <Override PartName="/ppt/media/image45.wmf" ContentType="image/x-wmf"/>
  <Override PartName="/ppt/media/image85.gif" ContentType="image/gif"/>
  <Override PartName="/ppt/media/image88.png" ContentType="image/png"/>
  <Override PartName="/ppt/media/image47.wmf" ContentType="image/x-wmf"/>
  <Override PartName="/ppt/media/image13.jpeg" ContentType="image/jpeg"/>
  <Override PartName="/ppt/media/image48.jpeg" ContentType="image/jpeg"/>
  <Override PartName="/ppt/media/image46.wmf" ContentType="image/x-wmf"/>
  <Override PartName="/ppt/media/image89.png" ContentType="image/png"/>
  <Override PartName="/ppt/media/image44.jpeg" ContentType="image/jpeg"/>
  <Override PartName="/ppt/media/image60.wmf" ContentType="image/x-wmf"/>
  <Override PartName="/ppt/media/image43.jpeg" ContentType="image/jpeg"/>
  <Override PartName="/ppt/media/image50.wmf" ContentType="image/x-wmf"/>
  <Override PartName="/ppt/media/image90.gif" ContentType="image/gif"/>
  <Override PartName="/ppt/media/image93.png" ContentType="image/png"/>
  <Override PartName="/ppt/media/image40.png" ContentType="image/png"/>
  <Override PartName="/ppt/media/image37.png" ContentType="image/png"/>
  <Override PartName="/ppt/media/image33.png" ContentType="image/png"/>
  <Override PartName="/ppt/media/image31.gif" ContentType="image/gif"/>
  <Override PartName="/ppt/media/image34.png" ContentType="image/png"/>
  <Override PartName="/ppt/media/image30.png" ContentType="image/png"/>
  <Override PartName="/ppt/media/image11.png" ContentType="image/png"/>
  <Override PartName="/ppt/media/image79.wmf" ContentType="image/x-wmf"/>
  <Override PartName="/ppt/media/image29.wmf" ContentType="image/x-wmf"/>
  <Override PartName="/ppt/media/image35.jpeg" ContentType="image/jpeg"/>
  <Override PartName="/ppt/media/image10.png" ContentType="image/png"/>
  <Override PartName="/ppt/media/image78.wmf" ContentType="image/x-wmf"/>
  <Override PartName="/ppt/media/image27.jpeg" ContentType="image/jpeg"/>
  <Override PartName="/ppt/media/image17.wmf" ContentType="image/x-wmf"/>
  <Override PartName="/ppt/media/image9.png" ContentType="image/png"/>
  <Override PartName="/ppt/media/image6.gif" ContentType="image/gif"/>
  <Override PartName="/ppt/media/image69.wmf" ContentType="image/x-wmf"/>
  <Override PartName="/ppt/media/image39.png" ContentType="image/png"/>
  <Override PartName="/ppt/media/image36.gif" ContentType="image/gif"/>
  <Override PartName="/ppt/media/image61.wmf" ContentType="image/x-wmf"/>
  <Override PartName="/ppt/media/image21.jpeg" ContentType="image/jpeg"/>
  <Override PartName="/ppt/media/image80.jpeg" ContentType="image/jpeg"/>
  <Override PartName="/ppt/media/image28.jpeg" ContentType="image/jpeg"/>
  <Override PartName="/ppt/media/image63.wmf" ContentType="image/x-wmf"/>
  <Override PartName="/ppt/media/image22.jpeg" ContentType="image/jpeg"/>
  <Override PartName="/ppt/media/image75.png" ContentType="image/png"/>
  <Override PartName="/ppt/media/image81.jpeg" ContentType="image/jpeg"/>
  <Override PartName="/ppt/media/image64.wmf" ContentType="image/x-wmf"/>
  <Override PartName="/ppt/media/image25.jpeg" ContentType="image/jpeg"/>
  <Override PartName="/ppt/media/image62.wmf" ContentType="image/x-wmf"/>
  <Override PartName="/ppt/media/image92.jpeg" ContentType="image/jpeg"/>
  <Override PartName="/ppt/media/image8.jpeg" ContentType="image/jpeg"/>
  <Override PartName="/ppt/media/image87.wmf" ContentType="image/x-wmf"/>
  <Override PartName="/ppt/media/image76.jpeg" ContentType="image/jpeg"/>
  <Override PartName="/ppt/media/image74.wmf" ContentType="image/x-wmf"/>
  <Override PartName="/ppt/media/image4.png" ContentType="image/png"/>
  <Override PartName="/ppt/media/image12.jpeg" ContentType="image/jpeg"/>
  <Override PartName="/ppt/media/image86.wmf" ContentType="image/x-wmf"/>
  <Override PartName="/ppt/media/image41.wmf" ContentType="image/x-wmf"/>
  <Override PartName="/ppt/media/image84.png" ContentType="image/png"/>
  <Override PartName="/ppt/media/image77.wmf" ContentType="image/x-wmf"/>
  <Override PartName="/ppt/media/image73.png" ContentType="image/png"/>
  <Override PartName="/ppt/media/image70.wmf" ContentType="image/x-wmf"/>
  <Override PartName="/ppt/media/image68.png" ContentType="image/png"/>
  <Override PartName="/ppt/media/image65.jpeg" ContentType="image/jpeg"/>
  <Override PartName="/ppt/media/image71.wmf" ContentType="image/x-wmf"/>
  <Override PartName="/ppt/media/image67.wmf" ContentType="image/x-wmf"/>
  <Override PartName="/ppt/media/image91.gif" ContentType="image/gif"/>
  <Override PartName="/ppt/media/image26.gif" ContentType="image/gif"/>
  <Override PartName="/ppt/media/image59.wmf" ContentType="image/x-wmf"/>
  <Override PartName="/ppt/media/image2.wmf" ContentType="image/x-wmf"/>
  <Override PartName="/ppt/media/image14.wmf" ContentType="image/x-wmf"/>
  <Override PartName="/ppt/media/image1.wmf" ContentType="image/x-wmf"/>
  <Override PartName="/ppt/media/image38.jpeg" ContentType="image/jpeg"/>
  <Override PartName="/ppt/media/image72.png" ContentType="image/png"/>
  <Override PartName="/ppt/media/image42.wmf" ContentType="image/x-wmf"/>
  <Override PartName="/ppt/media/image5.gif" ContentType="image/gif"/>
  <Override PartName="/ppt/media/image82.jpeg" ContentType="image/jpeg"/>
  <Override PartName="/ppt/media/image23.jpeg" ContentType="image/jpeg"/>
  <Override PartName="/ppt/media/image24.jpeg" ContentType="image/jpeg"/>
  <Override PartName="/ppt/media/image52.wmf" ContentType="image/x-wmf"/>
  <Override PartName="/ppt/media/image3.wmf" ContentType="image/x-wmf"/>
  <Override PartName="/ppt/media/image15.wmf" ContentType="image/x-wmf"/>
  <Override PartName="/ppt/media/image7.gif" ContentType="image/gif"/>
  <Override PartName="/ppt/media/image19.gif" ContentType="image/gif"/>
  <Override PartName="/ppt/media/image56.gif" ContentType="image/gif"/>
  <Override PartName="/ppt/media/image66.jpeg" ContentType="image/jpeg"/>
  <Override PartName="/ppt/media/image16.wmf" ContentType="image/x-wmf"/>
  <Override PartName="/ppt/media/image55.png" ContentType="image/png"/>
  <Override PartName="/ppt/media/image20.wmf" ContentType="image/x-wmf"/>
  <Override PartName="/ppt/media/image32.jpeg" ContentType="image/jpeg"/>
  <Override PartName="/ppt/media/image57.wmf" ContentType="image/x-wmf"/>
  <Override PartName="/ppt/media/image18.wmf" ContentType="image/x-wmf"/>
  <Override PartName="/ppt/media/image8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BED00A-D75B-42BA-AE27-4E41E3FE7C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15C6C4-14D8-4F8F-AC58-08E2B9D3BD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2B9544-6E68-4D57-A575-8BD5827846C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E56BEA-A0F2-47C1-8EBB-51CE30CA092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BDFAC3-AB5C-42FF-9B6F-E28023FA7A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1D1BFC-9F59-4903-B257-51A39EBCAE3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E2D841-B035-4B65-8294-87BF0AA7BC6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C1D60F-C2A1-499B-A582-917A16B09FC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E32223-55AC-41FC-AB89-6176943D969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05E266-DF37-4667-A232-5B5A0758EC4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79AE1A-9FEC-452E-A1FD-32600B0E434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329E9B-957D-462F-B30D-16C28B92E1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FABF43-FF7D-4A5D-8209-F2B1A93E8F3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376DDC-C60B-492F-AA2A-FCCC5AC6916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270C3A-A904-4870-80AC-25940CB781C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D164F5-18CA-4E4F-AC40-8B21A2CD2E6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D7D4A2-6DC1-4294-85EE-58AF4B68EB9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051035-26F0-4177-AA24-966C73F9E4A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AC2C0D-BC17-4BD4-85E5-1A71789F850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586575-F8E5-491E-B548-BAD8DD47C28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5AAAA2-A429-4402-AD48-E40FEC9ED59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626D23-E02C-42BE-B85E-7EA52C90550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E1C128-EE7A-413E-8D44-3B2E31A45B6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52E0BA-80C9-44D0-A6D8-3BA54C67030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A680F0-3F86-48A5-B9DA-6FE1C3FCDDC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EEC650-F529-4583-A430-962FF8E86E1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B72620-1127-45E6-AFEF-F87D040DB89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8D3A57-616A-4152-A2D1-FA22962E015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A317D0-5C80-49A1-BB22-109892D1174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FB07-EAF4-4929-84F3-5E0F92CAE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52E7-46E4-4F1F-89ED-3236C61EC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A25F-9A56-498C-AAEF-9A04BC635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76D6-D882-4351-BB60-2F173BAF5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03069-61CF-45A4-A2E4-67476775B9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C4F5-3368-425D-BD7D-9524237256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3B12-D95B-4878-A3AF-C9FDD54F4D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34EF0-B63D-47E5-87AE-FD165F1510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6B594-FF72-43DB-B61B-461CF450B8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-92520"/>
            <a:ext cx="8383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B1004-6D22-4624-AFDA-F05D84D909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8E7A5-7234-4B8A-B4F6-5FE559B097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0FE0-83D2-4A27-A273-A468A9BA7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6CF27-2E99-4362-B01D-DD899D95E3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F273-5408-4AC7-87D8-A2264DDEE0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00095-7574-47DF-9F27-C319D1BB28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33D57-2E54-40CA-9E8E-D175082ADD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4F777-C648-40DF-83A4-347BA2144B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BECF-34C1-4BFE-85C2-11A3B81EC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1678-16F7-4755-ACC0-FF58C86B7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1E89-9EAA-44E9-AEDD-D53E79F27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92520"/>
            <a:ext cx="8383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C734-2AD3-40D6-A71B-54C645B38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5CE9-434C-44A1-A8FB-33C322815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B50EF-76F7-4183-9395-76D04F4E9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8271-9B94-4D7C-AD4E-74201E640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318960" y="1828800"/>
            <a:ext cx="8823240" cy="5027760"/>
            <a:chOff x="318960" y="1828800"/>
            <a:chExt cx="8823240" cy="5027760"/>
          </a:xfrm>
        </p:grpSpPr>
        <p:sp>
          <p:nvSpPr>
            <p:cNvPr id="1" name="AutoShape 2"/>
            <p:cNvSpPr/>
            <p:nvPr/>
          </p:nvSpPr>
          <p:spPr>
            <a:xfrm>
              <a:off x="837720" y="4617000"/>
              <a:ext cx="8304480" cy="2239200"/>
            </a:xfrm>
            <a:custGeom>
              <a:avLst/>
              <a:gdLst>
                <a:gd name="textAreaLeft" fmla="*/ 0 w 8304480"/>
                <a:gd name="textAreaRight" fmla="*/ 8304840 w 8304480"/>
                <a:gd name="textAreaTop" fmla="*/ 0 h 2239200"/>
                <a:gd name="textAreaBottom" fmla="*/ 2239560 h 223920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333000" y="1828800"/>
              <a:ext cx="8809200" cy="5027760"/>
            </a:xfrm>
            <a:custGeom>
              <a:avLst/>
              <a:gdLst>
                <a:gd name="textAreaLeft" fmla="*/ 0 w 8809200"/>
                <a:gd name="textAreaRight" fmla="*/ 8809560 w 8809200"/>
                <a:gd name="textAreaTop" fmla="*/ 0 h 5027760"/>
                <a:gd name="textAreaBottom" fmla="*/ 5028120 h 502776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837720" y="4653360"/>
              <a:ext cx="8304480" cy="2202840"/>
            </a:xfrm>
            <a:custGeom>
              <a:avLst/>
              <a:gdLst>
                <a:gd name="textAreaLeft" fmla="*/ 0 w 8304480"/>
                <a:gd name="textAreaRight" fmla="*/ 8304840 w 8304480"/>
                <a:gd name="textAreaTop" fmla="*/ 0 h 2202840"/>
                <a:gd name="textAreaBottom" fmla="*/ 2203200 h 220284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837720" y="1828800"/>
              <a:ext cx="7312320" cy="45720"/>
            </a:xfrm>
            <a:custGeom>
              <a:avLst/>
              <a:gdLst>
                <a:gd name="textAreaLeft" fmla="*/ 0 w 7312320"/>
                <a:gd name="textAreaRight" fmla="*/ 7312680 w 73123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837720" y="1828800"/>
              <a:ext cx="45720" cy="2832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832480"/>
                <a:gd name="textAreaBottom" fmla="*/ 2832840 h 283248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836280" y="4609080"/>
              <a:ext cx="45720" cy="22471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247120"/>
                <a:gd name="textAreaBottom" fmla="*/ 2247480 h 224712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318960" y="4609080"/>
              <a:ext cx="4569480" cy="45720"/>
            </a:xfrm>
            <a:custGeom>
              <a:avLst/>
              <a:gdLst>
                <a:gd name="textAreaLeft" fmla="*/ 0 w 4569480"/>
                <a:gd name="textAreaRight" fmla="*/ 4569840 w 45694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318960" y="4609080"/>
              <a:ext cx="47520" cy="2247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247120"/>
                <a:gd name="textAreaBottom" fmla="*/ 2247480 h 224712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Text Box 10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sldNum" idx="1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30DB25-73C4-405F-9CB0-1E8D079B19D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318960" y="1752480"/>
            <a:ext cx="8823240" cy="5127480"/>
            <a:chOff x="318960" y="1752480"/>
            <a:chExt cx="8823240" cy="5127480"/>
          </a:xfrm>
        </p:grpSpPr>
        <p:sp>
          <p:nvSpPr>
            <p:cNvPr id="51" name="AutoShape 2"/>
            <p:cNvSpPr/>
            <p:nvPr/>
          </p:nvSpPr>
          <p:spPr>
            <a:xfrm>
              <a:off x="333000" y="1752480"/>
              <a:ext cx="8809200" cy="5104080"/>
            </a:xfrm>
            <a:custGeom>
              <a:avLst/>
              <a:gdLst>
                <a:gd name="textAreaLeft" fmla="*/ 0 w 8809200"/>
                <a:gd name="textAreaRight" fmla="*/ 8809560 w 8809200"/>
                <a:gd name="textAreaTop" fmla="*/ 0 h 5104080"/>
                <a:gd name="textAreaBottom" fmla="*/ 5104440 h 510408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AutoShape 3"/>
            <p:cNvSpPr/>
            <p:nvPr/>
          </p:nvSpPr>
          <p:spPr>
            <a:xfrm>
              <a:off x="837720" y="3809160"/>
              <a:ext cx="8304480" cy="3047040"/>
            </a:xfrm>
            <a:custGeom>
              <a:avLst/>
              <a:gdLst>
                <a:gd name="textAreaLeft" fmla="*/ 0 w 8304480"/>
                <a:gd name="textAreaRight" fmla="*/ 8304840 w 8304480"/>
                <a:gd name="textAreaTop" fmla="*/ 0 h 3047040"/>
                <a:gd name="textAreaBottom" fmla="*/ 3047400 h 304704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4"/>
            <p:cNvSpPr/>
            <p:nvPr/>
          </p:nvSpPr>
          <p:spPr>
            <a:xfrm>
              <a:off x="318960" y="3772800"/>
              <a:ext cx="5483880" cy="45720"/>
            </a:xfrm>
            <a:custGeom>
              <a:avLst/>
              <a:gdLst>
                <a:gd name="textAreaLeft" fmla="*/ 0 w 5483880"/>
                <a:gd name="textAreaRight" fmla="*/ 5484240 w 54838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"/>
            <p:cNvSpPr/>
            <p:nvPr/>
          </p:nvSpPr>
          <p:spPr>
            <a:xfrm>
              <a:off x="837720" y="1752480"/>
              <a:ext cx="7768080" cy="45720"/>
            </a:xfrm>
            <a:custGeom>
              <a:avLst/>
              <a:gdLst>
                <a:gd name="textAreaLeft" fmla="*/ 0 w 7768080"/>
                <a:gd name="textAreaRight" fmla="*/ 7768440 w 77680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AutoShape 6"/>
            <p:cNvSpPr/>
            <p:nvPr/>
          </p:nvSpPr>
          <p:spPr>
            <a:xfrm>
              <a:off x="318960" y="3772800"/>
              <a:ext cx="47520" cy="310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107160"/>
                <a:gd name="textAreaBottom" fmla="*/ 3107520 h 310716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AutoShape 7"/>
            <p:cNvSpPr/>
            <p:nvPr/>
          </p:nvSpPr>
          <p:spPr>
            <a:xfrm>
              <a:off x="837720" y="1752480"/>
              <a:ext cx="45720" cy="5118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118480"/>
                <a:gd name="textAreaBottom" fmla="*/ 5118840 h 511848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99072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2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9512AC-9782-436F-AA83-BE1AE12246A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gif"/><Relationship Id="rId18" Type="http://schemas.openxmlformats.org/officeDocument/2006/relationships/image" Target="../media/image6.gif"/><Relationship Id="rId19" Type="http://schemas.openxmlformats.org/officeDocument/2006/relationships/image" Target="../media/image7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png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55.png"/><Relationship Id="rId7" Type="http://schemas.openxmlformats.org/officeDocument/2006/relationships/image" Target="../media/image56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62.wmf"/><Relationship Id="rId7" Type="http://schemas.openxmlformats.org/officeDocument/2006/relationships/image" Target="../media/image63.wmf"/><Relationship Id="rId8" Type="http://schemas.openxmlformats.org/officeDocument/2006/relationships/image" Target="../media/image64.wmf"/><Relationship Id="rId9" Type="http://schemas.openxmlformats.org/officeDocument/2006/relationships/image" Target="../media/image65.jpeg"/><Relationship Id="rId10" Type="http://schemas.openxmlformats.org/officeDocument/2006/relationships/image" Target="../media/image6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png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image" Target="../media/image74.wmf"/><Relationship Id="rId9" Type="http://schemas.openxmlformats.org/officeDocument/2006/relationships/image" Target="../media/image75.png"/><Relationship Id="rId10" Type="http://schemas.openxmlformats.org/officeDocument/2006/relationships/image" Target="../media/image7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image" Target="../media/image79.wmf"/><Relationship Id="rId5" Type="http://schemas.openxmlformats.org/officeDocument/2006/relationships/image" Target="../media/image80.jpeg"/><Relationship Id="rId6" Type="http://schemas.openxmlformats.org/officeDocument/2006/relationships/image" Target="../media/image81.jpeg"/><Relationship Id="rId7" Type="http://schemas.openxmlformats.org/officeDocument/2006/relationships/image" Target="../media/image8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png"/><Relationship Id="rId3" Type="http://schemas.openxmlformats.org/officeDocument/2006/relationships/image" Target="../media/image85.gi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89.png"/><Relationship Id="rId3" Type="http://schemas.openxmlformats.org/officeDocument/2006/relationships/image" Target="../media/image89.png"/><Relationship Id="rId4" Type="http://schemas.openxmlformats.org/officeDocument/2006/relationships/image" Target="../media/image89.png"/><Relationship Id="rId5" Type="http://schemas.openxmlformats.org/officeDocument/2006/relationships/image" Target="../media/image90.gif"/><Relationship Id="rId6" Type="http://schemas.openxmlformats.org/officeDocument/2006/relationships/image" Target="../media/image9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1"/>
          <p:cNvSpPr txBox="1"/>
          <p:nvPr/>
        </p:nvSpPr>
        <p:spPr>
          <a:xfrm>
            <a:off x="395280" y="549360"/>
            <a:ext cx="813744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рофессии наших мам</a:t>
            </a:r>
            <a:endParaRPr b="1" i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156360" y="3716280"/>
            <a:ext cx="2760480" cy="2808360"/>
          </a:xfrm>
          <a:prstGeom prst="rect">
            <a:avLst/>
          </a:prstGeom>
          <a:ln w="38160">
            <a:solidFill>
              <a:srgbClr val="cc3399"/>
            </a:solidFill>
            <a:miter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755800" cy="2767320"/>
          </a:xfrm>
          <a:prstGeom prst="rect">
            <a:avLst/>
          </a:prstGeom>
          <a:ln w="38160">
            <a:solidFill>
              <a:srgbClr val="cc3399"/>
            </a:solidFill>
            <a:miter/>
          </a:ln>
        </p:spPr>
      </p:pic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3348000" y="2852640"/>
            <a:ext cx="2718000" cy="2737080"/>
          </a:xfrm>
          <a:prstGeom prst="rect">
            <a:avLst/>
          </a:prstGeom>
          <a:ln w="38160">
            <a:solidFill>
              <a:srgbClr val="cc3399"/>
            </a:solidFill>
            <a:miter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2794320" y="404640"/>
            <a:ext cx="354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4a"/>
                </a:solidFill>
                <a:latin typeface="Arial"/>
              </a:rPr>
              <a:t>Вычисли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651240" y="1571760"/>
            <a:ext cx="156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+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-1  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-8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+9 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272320" y="1571760"/>
            <a:ext cx="63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5937480" y="1571760"/>
            <a:ext cx="156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8-2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+15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20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0-9  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4988520" y="1571760"/>
            <a:ext cx="63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493440" y="1571760"/>
            <a:ext cx="1558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-3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+1 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7-2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+9  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7358040" y="1571760"/>
            <a:ext cx="633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2514600" y="4500720"/>
            <a:ext cx="336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Проверь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9" descr=""/>
          <p:cNvPicPr/>
          <p:nvPr/>
        </p:nvPicPr>
        <p:blipFill>
          <a:blip r:embed="rId1"/>
          <a:stretch/>
        </p:blipFill>
        <p:spPr>
          <a:xfrm>
            <a:off x="6215040" y="3521160"/>
            <a:ext cx="2000160" cy="3082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C:\Documents and Settings\Администратор\Рабочий стол\мамы 1 а\DSC_0200.JPG"/>
          <p:cNvPicPr/>
          <p:nvPr/>
        </p:nvPicPr>
        <p:blipFill>
          <a:blip r:embed="rId2"/>
          <a:stretch/>
        </p:blipFill>
        <p:spPr>
          <a:xfrm>
            <a:off x="285840" y="3643200"/>
            <a:ext cx="212868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indefinite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8" dur="indefinite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9" dur="indefinite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 -6 L 4.81481 -6 L 0.02708 -0.57107 E">
                                      <p:cBhvr>
                                        <p:cTn id="352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143160" y="285840"/>
            <a:ext cx="5607000" cy="4105080"/>
          </a:xfrm>
          <a:prstGeom prst="rect">
            <a:avLst/>
          </a:prstGeom>
          <a:solidFill>
            <a:srgbClr val="ccecff"/>
          </a:soli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3"/>
          <p:cNvSpPr/>
          <p:nvPr/>
        </p:nvSpPr>
        <p:spPr>
          <a:xfrm>
            <a:off x="3635280" y="3213000"/>
            <a:ext cx="647640" cy="936720"/>
          </a:xfrm>
          <a:custGeom>
            <a:avLst/>
            <a:gdLst>
              <a:gd name="textAreaLeft" fmla="*/ 22680 w 647640"/>
              <a:gd name="textAreaRight" fmla="*/ 631800 w 647640"/>
              <a:gd name="textAreaTop" fmla="*/ 973800 h 936720"/>
              <a:gd name="textAreaBottom" fmla="*/ 12268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6084720" y="3141720"/>
            <a:ext cx="792360" cy="576360"/>
          </a:xfrm>
          <a:prstGeom prst="triangle">
            <a:avLst>
              <a:gd name="adj" fmla="val 50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4211640" y="2852640"/>
            <a:ext cx="1728720" cy="576360"/>
          </a:xfrm>
          <a:prstGeom prst="triangle">
            <a:avLst>
              <a:gd name="adj" fmla="val 50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4500720" y="3429000"/>
            <a:ext cx="1150920" cy="7920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6156360" y="3716280"/>
            <a:ext cx="647640" cy="50472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8"/>
          <p:cNvSpPr/>
          <p:nvPr/>
        </p:nvSpPr>
        <p:spPr>
          <a:xfrm>
            <a:off x="7885080" y="2421000"/>
            <a:ext cx="1008000" cy="1728720"/>
          </a:xfrm>
          <a:custGeom>
            <a:avLst/>
            <a:gdLst>
              <a:gd name="textAreaLeft" fmla="*/ 35280 w 1008000"/>
              <a:gd name="textAreaRight" fmla="*/ 983520 w 1008000"/>
              <a:gd name="textAreaTop" fmla="*/ 1797120 h 1728720"/>
              <a:gd name="textAreaBottom" fmla="*/ 226368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9"/>
          <p:cNvSpPr/>
          <p:nvPr/>
        </p:nvSpPr>
        <p:spPr>
          <a:xfrm rot="8040000">
            <a:off x="3061440" y="3572280"/>
            <a:ext cx="503280" cy="504720"/>
          </a:xfrm>
          <a:custGeom>
            <a:avLst/>
            <a:gdLst>
              <a:gd name="textAreaLeft" fmla="*/ 73440 w 503280"/>
              <a:gd name="textAreaRight" fmla="*/ 429840 w 503280"/>
              <a:gd name="textAreaTop" fmla="*/ 73800 h 504720"/>
              <a:gd name="textAreaBottom" fmla="*/ 430920 h 504720"/>
            </a:gdLst>
            <a:ahLst/>
            <a:rect l="textAreaLeft" t="textAreaTop" r="textAreaRight" b="textAreaBottom"/>
            <a:pathLst>
              <a:path w="21600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10"/>
          <p:cNvSpPr/>
          <p:nvPr/>
        </p:nvSpPr>
        <p:spPr>
          <a:xfrm>
            <a:off x="3276720" y="3789360"/>
            <a:ext cx="73080" cy="431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 rot="8040000">
            <a:off x="6951600" y="3213720"/>
            <a:ext cx="863640" cy="865080"/>
          </a:xfrm>
          <a:custGeom>
            <a:avLst/>
            <a:gdLst>
              <a:gd name="textAreaLeft" fmla="*/ 126360 w 863640"/>
              <a:gd name="textAreaRight" fmla="*/ 737280 w 863640"/>
              <a:gd name="textAreaTop" fmla="*/ 126720 h 865080"/>
              <a:gd name="textAreaBottom" fmla="*/ 738360 h 865080"/>
            </a:gdLst>
            <a:ahLst/>
            <a:rect l="textAreaLeft" t="textAreaTop" r="textAreaRight" b="textAreaBottom"/>
            <a:pathLst>
              <a:path w="21600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12"/>
          <p:cNvSpPr/>
          <p:nvPr/>
        </p:nvSpPr>
        <p:spPr>
          <a:xfrm>
            <a:off x="7236000" y="3645000"/>
            <a:ext cx="358560" cy="576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13"/>
          <p:cNvSpPr/>
          <p:nvPr/>
        </p:nvSpPr>
        <p:spPr>
          <a:xfrm>
            <a:off x="2700360" y="189000"/>
            <a:ext cx="6264360" cy="2303280"/>
          </a:xfrm>
          <a:prstGeom prst="cloudCallout">
            <a:avLst>
              <a:gd name="adj1" fmla="val -60671"/>
              <a:gd name="adj2" fmla="val 30152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348000" y="765000"/>
            <a:ext cx="484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800000"/>
                </a:solidFill>
                <a:latin typeface="Arial"/>
              </a:rPr>
              <a:t>Построим домики и посадим деревья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3059280" y="476280"/>
            <a:ext cx="56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Нарисуйте сначала большой дом, потом – низкий. Около высокого дома слева нарисуй низкую ёлочку, около низкого дома - справа высокую ёлочку. Рядом с высокой ёлкой – большой гриб, а около низкой ёлки – маленький гри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10" descr="C:\Documents and Settings\Администратор\Рабочий стол\мамы 1 а\2.jpg"/>
          <p:cNvPicPr/>
          <p:nvPr/>
        </p:nvPicPr>
        <p:blipFill>
          <a:blip r:embed="rId1"/>
          <a:stretch/>
        </p:blipFill>
        <p:spPr>
          <a:xfrm>
            <a:off x="-571680" y="-285840"/>
            <a:ext cx="3544920" cy="5361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" descr=""/>
          <p:cNvPicPr/>
          <p:nvPr/>
        </p:nvPicPr>
        <p:blipFill>
          <a:blip r:embed="rId2"/>
          <a:stretch/>
        </p:blipFill>
        <p:spPr>
          <a:xfrm>
            <a:off x="2857680" y="4143240"/>
            <a:ext cx="290484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565200" y="285840"/>
            <a:ext cx="828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Сколько всего квадратов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3357720" y="1214280"/>
            <a:ext cx="5292720" cy="471816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3"/>
          <p:cNvSpPr/>
          <p:nvPr/>
        </p:nvSpPr>
        <p:spPr>
          <a:xfrm>
            <a:off x="5428800" y="300024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2"/>
          <a:stretch/>
        </p:blipFill>
        <p:spPr>
          <a:xfrm>
            <a:off x="8001000" y="60008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" descr="C:\Documents and Settings\Администратор\Рабочий стол\мамы 1 а\6.jpg"/>
          <p:cNvPicPr/>
          <p:nvPr/>
        </p:nvPicPr>
        <p:blipFill>
          <a:blip r:embed="rId3"/>
          <a:stretch/>
        </p:blipFill>
        <p:spPr>
          <a:xfrm>
            <a:off x="0" y="1857240"/>
            <a:ext cx="2187720" cy="4429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" descr=""/>
          <p:cNvPicPr/>
          <p:nvPr/>
        </p:nvPicPr>
        <p:blipFill>
          <a:blip r:embed="rId1"/>
          <a:stretch/>
        </p:blipFill>
        <p:spPr>
          <a:xfrm>
            <a:off x="3071880" y="1571760"/>
            <a:ext cx="5800680" cy="3890880"/>
          </a:xfrm>
          <a:prstGeom prst="rect">
            <a:avLst/>
          </a:prstGeom>
          <a:ln w="0">
            <a:noFill/>
          </a:ln>
        </p:spPr>
      </p:pic>
      <p:grpSp>
        <p:nvGrpSpPr>
          <p:cNvPr id="281" name="Group 2"/>
          <p:cNvGrpSpPr/>
          <p:nvPr/>
        </p:nvGrpSpPr>
        <p:grpSpPr>
          <a:xfrm>
            <a:off x="7102440" y="-115920"/>
            <a:ext cx="2162160" cy="2174760"/>
            <a:chOff x="7102440" y="-115920"/>
            <a:chExt cx="2162160" cy="2174760"/>
          </a:xfrm>
        </p:grpSpPr>
        <p:pic>
          <p:nvPicPr>
            <p:cNvPr id="282" name="Picture 3" descr=""/>
            <p:cNvPicPr/>
            <p:nvPr/>
          </p:nvPicPr>
          <p:blipFill>
            <a:blip r:embed="rId2"/>
            <a:stretch/>
          </p:blipFill>
          <p:spPr>
            <a:xfrm>
              <a:off x="7102440" y="-115920"/>
              <a:ext cx="2162160" cy="21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 Box 4"/>
            <p:cNvSpPr/>
            <p:nvPr/>
          </p:nvSpPr>
          <p:spPr>
            <a:xfrm>
              <a:off x="7848000" y="623160"/>
              <a:ext cx="675360" cy="6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Отве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4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72280" y="5786280"/>
            <a:ext cx="1071720" cy="10717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7"/>
          <p:cNvSpPr/>
          <p:nvPr/>
        </p:nvSpPr>
        <p:spPr>
          <a:xfrm>
            <a:off x="285840" y="28584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ворят про звуки пар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школе нам с тобой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3429000" y="64296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жарны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214960" y="500040"/>
            <a:ext cx="213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Учител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 flipH="1">
            <a:off x="3927240" y="642960"/>
            <a:ext cx="717480" cy="500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3929040" y="571680"/>
            <a:ext cx="642960" cy="642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13"/>
          <p:cNvSpPr/>
          <p:nvPr/>
        </p:nvSpPr>
        <p:spPr>
          <a:xfrm>
            <a:off x="285840" y="4714920"/>
            <a:ext cx="3000240" cy="178596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14"/>
          <p:cNvSpPr/>
          <p:nvPr/>
        </p:nvSpPr>
        <p:spPr>
          <a:xfrm>
            <a:off x="8661240" y="6375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17" descr="C:\Documents and Settings\Администратор\Рабочий стол\13321563.jpg"/>
          <p:cNvPicPr/>
          <p:nvPr/>
        </p:nvPicPr>
        <p:blipFill>
          <a:blip r:embed="rId5"/>
          <a:stretch/>
        </p:blipFill>
        <p:spPr>
          <a:xfrm>
            <a:off x="714240" y="1143000"/>
            <a:ext cx="2000520" cy="42512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90" dur="indefinite" restart="never" nodeType="tmRoot">
          <p:childTnLst>
            <p:seq>
              <p:cTn id="491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5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838080" y="5335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2643120" y="857160"/>
            <a:ext cx="11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4429080" y="1071720"/>
            <a:ext cx="13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Arial"/>
              </a:rPr>
              <a:t>29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286000" y="20574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3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343400" y="26668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4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357720" y="3571920"/>
            <a:ext cx="122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6600"/>
                </a:solidFill>
                <a:latin typeface="Arial"/>
              </a:rPr>
              <a:t>49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6858000" y="13716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cc"/>
                </a:solidFill>
                <a:latin typeface="Arial"/>
              </a:rPr>
              <a:t>6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5791320" y="36576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7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990720" y="43434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cc"/>
                </a:solidFill>
                <a:latin typeface="Arial"/>
              </a:rPr>
              <a:t>8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5943600" y="48769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89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4419720" y="56386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9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7848720" y="41148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1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533520" y="18288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5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4"/>
          <p:cNvSpPr/>
          <p:nvPr/>
        </p:nvSpPr>
        <p:spPr>
          <a:xfrm>
            <a:off x="1752480" y="990720"/>
            <a:ext cx="1067040" cy="1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15"/>
          <p:cNvSpPr/>
          <p:nvPr/>
        </p:nvSpPr>
        <p:spPr>
          <a:xfrm>
            <a:off x="3657600" y="1143000"/>
            <a:ext cx="609480" cy="2286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16"/>
          <p:cNvSpPr/>
          <p:nvPr/>
        </p:nvSpPr>
        <p:spPr>
          <a:xfrm flipH="1">
            <a:off x="3198960" y="1752480"/>
            <a:ext cx="1374480" cy="6098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17"/>
          <p:cNvSpPr/>
          <p:nvPr/>
        </p:nvSpPr>
        <p:spPr>
          <a:xfrm flipH="1" flipV="1">
            <a:off x="1217520" y="2436840"/>
            <a:ext cx="2136960" cy="1527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18"/>
          <p:cNvSpPr/>
          <p:nvPr/>
        </p:nvSpPr>
        <p:spPr>
          <a:xfrm>
            <a:off x="3124080" y="2743200"/>
            <a:ext cx="1143000" cy="3049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19"/>
          <p:cNvSpPr/>
          <p:nvPr/>
        </p:nvSpPr>
        <p:spPr>
          <a:xfrm flipH="1">
            <a:off x="4037040" y="3429000"/>
            <a:ext cx="689040" cy="3049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20"/>
          <p:cNvSpPr/>
          <p:nvPr/>
        </p:nvSpPr>
        <p:spPr>
          <a:xfrm flipV="1">
            <a:off x="1371600" y="1827000"/>
            <a:ext cx="5410080" cy="384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21"/>
          <p:cNvSpPr/>
          <p:nvPr/>
        </p:nvSpPr>
        <p:spPr>
          <a:xfrm flipH="1">
            <a:off x="6322680" y="2133720"/>
            <a:ext cx="917640" cy="16761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2"/>
          <p:cNvSpPr/>
          <p:nvPr/>
        </p:nvSpPr>
        <p:spPr>
          <a:xfrm flipH="1">
            <a:off x="1751040" y="4419720"/>
            <a:ext cx="4194000" cy="457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23"/>
          <p:cNvSpPr/>
          <p:nvPr/>
        </p:nvSpPr>
        <p:spPr>
          <a:xfrm>
            <a:off x="1828800" y="5029200"/>
            <a:ext cx="4267080" cy="1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4"/>
          <p:cNvSpPr/>
          <p:nvPr/>
        </p:nvSpPr>
        <p:spPr>
          <a:xfrm flipH="1">
            <a:off x="5179680" y="5486400"/>
            <a:ext cx="765000" cy="3808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25"/>
          <p:cNvSpPr/>
          <p:nvPr/>
        </p:nvSpPr>
        <p:spPr>
          <a:xfrm flipV="1">
            <a:off x="5486400" y="4951080"/>
            <a:ext cx="2743200" cy="1222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зовите числа в порядке возраст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27" descr=""/>
          <p:cNvPicPr/>
          <p:nvPr/>
        </p:nvPicPr>
        <p:blipFill>
          <a:blip r:embed="rId1"/>
          <a:stretch/>
        </p:blipFill>
        <p:spPr>
          <a:xfrm>
            <a:off x="1000080" y="5429160"/>
            <a:ext cx="1714680" cy="10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4464000" cy="267336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321" name="AutoShape 3"/>
          <p:cNvSpPr/>
          <p:nvPr/>
        </p:nvSpPr>
        <p:spPr>
          <a:xfrm>
            <a:off x="4067280" y="189000"/>
            <a:ext cx="5076720" cy="3168720"/>
          </a:xfrm>
          <a:prstGeom prst="cloudCallout">
            <a:avLst>
              <a:gd name="adj1" fmla="val -64351"/>
              <a:gd name="adj2" fmla="val 17685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4572000" y="765000"/>
            <a:ext cx="4392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очереди к парикмахеру стояли Коля, Толя, Миша, Гриша и Тиша. Сева – самый высокий; Миша, Гриша и Тиша одного роста, но Тиша – самый толстый, а Гриша - самый худой; Коля -самый низкий. Кого как зовут?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Назови по поряд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4430880" y="63086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5150880" y="630864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Гри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6014520" y="63086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и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6806520" y="63086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и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7524720" y="630864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8244000" y="630864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4732200" y="549360"/>
            <a:ext cx="441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Кто стоит левее Севы? Кто – правее Толи? Кто стоит между Колей и Гришей? Между Севой и Мишей? Как зовут первого слева мальчика? Третьего? Пятого? Если Сева уйдёт домой, сколько останется мальчиков? Если к ним подойдёт Петя, сколько мальчиков будет тогд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12" descr="C:\Documents and Settings\Администратор\Рабочий стол\мамы 1 а\Мама.jpg"/>
          <p:cNvPicPr/>
          <p:nvPr/>
        </p:nvPicPr>
        <p:blipFill>
          <a:blip r:embed="rId2"/>
          <a:stretch/>
        </p:blipFill>
        <p:spPr>
          <a:xfrm>
            <a:off x="357120" y="357120"/>
            <a:ext cx="3772080" cy="4714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1"/>
          <a:stretch/>
        </p:blipFill>
        <p:spPr>
          <a:xfrm>
            <a:off x="512640" y="19080"/>
            <a:ext cx="8363160" cy="1150920"/>
          </a:xfrm>
          <a:prstGeom prst="rect">
            <a:avLst/>
          </a:prstGeom>
          <a:ln w="0">
            <a:noFill/>
          </a:ln>
        </p:spPr>
      </p:pic>
      <p:sp>
        <p:nvSpPr>
          <p:cNvPr id="332" name="Oval 2"/>
          <p:cNvSpPr/>
          <p:nvPr/>
        </p:nvSpPr>
        <p:spPr>
          <a:xfrm>
            <a:off x="1071720" y="1500120"/>
            <a:ext cx="7358040" cy="4643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Oval 3"/>
          <p:cNvSpPr/>
          <p:nvPr/>
        </p:nvSpPr>
        <p:spPr>
          <a:xfrm>
            <a:off x="1500120" y="2143080"/>
            <a:ext cx="6357960" cy="342900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4"/>
          <p:cNvSpPr/>
          <p:nvPr/>
        </p:nvSpPr>
        <p:spPr>
          <a:xfrm>
            <a:off x="4714920" y="2786040"/>
            <a:ext cx="2286000" cy="227160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5"/>
          <p:cNvSpPr/>
          <p:nvPr/>
        </p:nvSpPr>
        <p:spPr>
          <a:xfrm>
            <a:off x="2428920" y="2714760"/>
            <a:ext cx="2286000" cy="227160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4714920" y="1214280"/>
            <a:ext cx="1440" cy="521496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7"/>
          <p:cNvSpPr/>
          <p:nvPr/>
        </p:nvSpPr>
        <p:spPr>
          <a:xfrm>
            <a:off x="714240" y="3786120"/>
            <a:ext cx="8001000" cy="1429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AutoShape 8"/>
          <p:cNvSpPr/>
          <p:nvPr/>
        </p:nvSpPr>
        <p:spPr>
          <a:xfrm>
            <a:off x="4643280" y="1357200"/>
            <a:ext cx="214560" cy="857520"/>
          </a:xfrm>
          <a:prstGeom prst="upDownArrow">
            <a:avLst>
              <a:gd name="adj1" fmla="val 50000"/>
              <a:gd name="adj2" fmla="val 49958"/>
            </a:avLst>
          </a:prstGeom>
          <a:solidFill>
            <a:srgbClr val="008000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1000080" y="3643200"/>
            <a:ext cx="1143000" cy="357480"/>
          </a:xfrm>
          <a:prstGeom prst="leftRightArrow">
            <a:avLst>
              <a:gd name="adj1" fmla="val 50000"/>
              <a:gd name="adj2" fmla="val 49959"/>
            </a:avLst>
          </a:prstGeom>
          <a:solidFill>
            <a:srgbClr val="008000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4143240" y="1357200"/>
            <a:ext cx="1143000" cy="357480"/>
          </a:xfrm>
          <a:prstGeom prst="leftRightArrow">
            <a:avLst>
              <a:gd name="adj1" fmla="val 50000"/>
              <a:gd name="adj2" fmla="val 49959"/>
            </a:avLst>
          </a:prstGeom>
          <a:solidFill>
            <a:srgbClr val="008000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11"/>
          <p:cNvSpPr/>
          <p:nvPr/>
        </p:nvSpPr>
        <p:spPr>
          <a:xfrm>
            <a:off x="4214880" y="2000160"/>
            <a:ext cx="1143000" cy="357120"/>
          </a:xfrm>
          <a:prstGeom prst="leftRightArrow">
            <a:avLst>
              <a:gd name="adj1" fmla="val 50000"/>
              <a:gd name="adj2" fmla="val 50009"/>
            </a:avLst>
          </a:prstGeom>
          <a:solidFill>
            <a:srgbClr val="008000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12"/>
          <p:cNvSpPr/>
          <p:nvPr/>
        </p:nvSpPr>
        <p:spPr>
          <a:xfrm rot="18000000">
            <a:off x="4240080" y="3711600"/>
            <a:ext cx="976320" cy="277560"/>
          </a:xfrm>
          <a:prstGeom prst="leftRightArrow">
            <a:avLst>
              <a:gd name="adj1" fmla="val 48407"/>
              <a:gd name="adj2" fmla="val 50043"/>
            </a:avLst>
          </a:prstGeom>
          <a:solidFill>
            <a:srgbClr val="008000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"/>
          <p:cNvPicPr/>
          <p:nvPr/>
        </p:nvPicPr>
        <p:blipFill>
          <a:blip r:embed="rId2"/>
          <a:stretch/>
        </p:blipFill>
        <p:spPr>
          <a:xfrm>
            <a:off x="6175440" y="4548240"/>
            <a:ext cx="2962080" cy="22604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>
            <a:off x="1214280" y="4213080"/>
            <a:ext cx="2357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13"/>
          <p:cNvSpPr/>
          <p:nvPr/>
        </p:nvSpPr>
        <p:spPr>
          <a:xfrm rot="5400000">
            <a:off x="2288880" y="2930040"/>
            <a:ext cx="214200" cy="2357640"/>
          </a:xfrm>
          <a:custGeom>
            <a:avLst/>
            <a:gdLst>
              <a:gd name="textAreaLeft" fmla="*/ 63000 w 214200"/>
              <a:gd name="textAreaRight" fmla="*/ 214560 w 214200"/>
              <a:gd name="textAreaTop" fmla="*/ 37800 h 2357640"/>
              <a:gd name="textAreaBottom" fmla="*/ 231984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49"/>
                  <a:pt x="0" y="697"/>
                </a:cubicBezTo>
                <a:lnTo>
                  <a:pt x="0" y="20903"/>
                </a:lnTo>
                <a:cubicBezTo>
                  <a:pt x="0" y="21252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>
            <a:off x="1214280" y="4641840"/>
            <a:ext cx="17859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15"/>
          <p:cNvSpPr/>
          <p:nvPr/>
        </p:nvSpPr>
        <p:spPr>
          <a:xfrm flipH="1" flipV="1" rot="5400000">
            <a:off x="2000880" y="3858480"/>
            <a:ext cx="214200" cy="1785960"/>
          </a:xfrm>
          <a:custGeom>
            <a:avLst/>
            <a:gdLst>
              <a:gd name="textAreaLeft" fmla="*/ 63000 w 214200"/>
              <a:gd name="textAreaRight" fmla="*/ 214560 w 214200"/>
              <a:gd name="textAreaTop" fmla="*/ 37800 h 1785960"/>
              <a:gd name="textAreaBottom" fmla="*/ 174816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0"/>
                  <a:pt x="0" y="920"/>
                </a:cubicBezTo>
                <a:lnTo>
                  <a:pt x="0" y="20680"/>
                </a:lnTo>
                <a:cubicBezTo>
                  <a:pt x="0" y="2114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6"/>
          <p:cNvSpPr/>
          <p:nvPr/>
        </p:nvSpPr>
        <p:spPr>
          <a:xfrm>
            <a:off x="3857760" y="3929040"/>
            <a:ext cx="357120" cy="100008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1000080"/>
              <a:gd name="textAreaBottom" fmla="*/ 99108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16200" y="10800"/>
                  <a:pt x="21600" y="10800"/>
                </a:cubicBezTo>
                <a:cubicBezTo>
                  <a:pt x="162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4214880" y="41911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2071800" y="35719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9"/>
          <p:cNvSpPr/>
          <p:nvPr/>
        </p:nvSpPr>
        <p:spPr>
          <a:xfrm>
            <a:off x="3143160" y="43578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1928880" y="485784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Заголовок 1"/>
          <p:cNvSpPr/>
          <p:nvPr/>
        </p:nvSpPr>
        <p:spPr>
          <a:xfrm>
            <a:off x="1071720" y="428760"/>
            <a:ext cx="7715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Решение 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Текст 3"/>
          <p:cNvSpPr/>
          <p:nvPr/>
        </p:nvSpPr>
        <p:spPr>
          <a:xfrm>
            <a:off x="928800" y="1357200"/>
            <a:ext cx="7643880" cy="50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18"/>
          <p:cNvSpPr/>
          <p:nvPr/>
        </p:nvSpPr>
        <p:spPr>
          <a:xfrm>
            <a:off x="714240" y="1724400"/>
            <a:ext cx="735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3600" spc="-1" strike="noStrike">
                <a:solidFill>
                  <a:srgbClr val="00000a"/>
                </a:solidFill>
                <a:latin typeface="Calibri"/>
                <a:ea typeface="Times New Roman"/>
              </a:rPr>
              <a:t>В магазине привезли в первый день 7 сувениров, во второй </a:t>
            </a:r>
            <a:r>
              <a:rPr b="0" i="1" lang="ru-RU" sz="3600" spc="-1" strike="noStrike">
                <a:solidFill>
                  <a:srgbClr val="00000a"/>
                </a:solidFill>
                <a:latin typeface="Arial"/>
                <a:ea typeface="Times New Roman"/>
              </a:rPr>
              <a:t>–</a:t>
            </a:r>
            <a:r>
              <a:rPr b="0" i="1" lang="ru-RU" sz="3600" spc="-1" strike="noStrike">
                <a:solidFill>
                  <a:srgbClr val="00000a"/>
                </a:solidFill>
                <a:latin typeface="Calibri"/>
                <a:ea typeface="Times New Roman"/>
              </a:rPr>
              <a:t> на 5 сувениров больше. Сколько всего сувениров привезли в магазин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71360" y="1571760"/>
            <a:ext cx="735804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072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Calibri"/>
                <a:ea typeface="Times New Roman"/>
              </a:rPr>
              <a:t>В магазине привезли в </a:t>
            </a:r>
            <a:r>
              <a:rPr b="0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первый день </a:t>
            </a:r>
            <a:r>
              <a:rPr b="0" i="1" lang="ru-RU" sz="4400" spc="-1" strike="noStrike">
                <a:solidFill>
                  <a:srgbClr val="ffff00"/>
                </a:solidFill>
                <a:latin typeface="Calibri"/>
                <a:ea typeface="Times New Roman"/>
              </a:rPr>
              <a:t>7 сувениров, </a:t>
            </a:r>
            <a:r>
              <a:rPr b="0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во второй</a:t>
            </a:r>
            <a:r>
              <a:rPr b="0" i="1" lang="ru-RU" sz="44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r>
              <a:rPr b="0" i="1" lang="ru-RU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0" i="1" lang="ru-RU" sz="4400" spc="-1" strike="noStrike">
                <a:solidFill>
                  <a:srgbClr val="ffff00"/>
                </a:solidFill>
                <a:latin typeface="Calibri"/>
                <a:ea typeface="Times New Roman"/>
              </a:rPr>
              <a:t> на 5 сувениров больше. Сколько </a:t>
            </a:r>
            <a:r>
              <a:rPr b="0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всего</a:t>
            </a:r>
            <a:r>
              <a:rPr b="0" i="1" lang="ru-RU" sz="4400" spc="-1" strike="noStrike">
                <a:solidFill>
                  <a:srgbClr val="ffff00"/>
                </a:solidFill>
                <a:latin typeface="Calibri"/>
                <a:ea typeface="Times New Roman"/>
              </a:rPr>
              <a:t> сувениров привезли в магазин?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верь реш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28800" y="1814400"/>
            <a:ext cx="79214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2 (с.) – во 2 д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с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всего привезли 19 сувени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1"/>
          <p:cNvSpPr txBox="1"/>
          <p:nvPr/>
        </p:nvSpPr>
        <p:spPr>
          <a:xfrm>
            <a:off x="1042920" y="476280"/>
            <a:ext cx="6194520" cy="496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22320">
                  <a:solidFill>
                    <a:srgbClr val="000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Чтоб врачом, моряком</a:t>
            </a:r>
            <a:endParaRPr b="0" lang="en-US" sz="1800" spc="1" strike="noStrike">
              <a:ln w="22320">
                <a:solidFill>
                  <a:srgbClr val="000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2232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ли лётчиком стать,</a:t>
            </a:r>
            <a:endParaRPr b="0" lang="en-US" sz="1800" spc="1" strike="noStrike">
              <a:ln w="2232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22320">
                  <a:solidFill>
                    <a:srgbClr val="00008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до прежде всего</a:t>
            </a:r>
            <a:endParaRPr b="0" lang="en-US" sz="1800" spc="1" strike="noStrike">
              <a:ln w="22320">
                <a:solidFill>
                  <a:srgbClr val="00008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22320">
                  <a:solidFill>
                    <a:srgbClr val="00008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рифметику знать.</a:t>
            </a:r>
            <a:endParaRPr b="0" lang="en-US" sz="1800" spc="1" strike="noStrike">
              <a:ln w="22320">
                <a:solidFill>
                  <a:srgbClr val="00008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22320">
                  <a:solidFill>
                    <a:srgbClr val="00008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на свете нет профессий,</a:t>
            </a:r>
            <a:endParaRPr b="0" lang="en-US" sz="1800" spc="1" strike="noStrike">
              <a:ln w="22320">
                <a:solidFill>
                  <a:srgbClr val="00008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22320">
                  <a:solidFill>
                    <a:srgbClr val="00008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 заметьте - ка,</a:t>
            </a:r>
            <a:endParaRPr b="0" lang="en-US" sz="1800" spc="1" strike="noStrike">
              <a:ln w="22320">
                <a:solidFill>
                  <a:srgbClr val="00008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22320">
                  <a:solidFill>
                    <a:srgbClr val="00008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де бы нам ни пригодилась </a:t>
            </a:r>
            <a:endParaRPr b="0" lang="en-US" sz="1800" spc="1" strike="noStrike">
              <a:ln w="22320">
                <a:solidFill>
                  <a:srgbClr val="00008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22320">
                  <a:solidFill>
                    <a:srgbClr val="00008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риф-ме-ти-ка".</a:t>
            </a:r>
            <a:endParaRPr b="0" lang="en-US" sz="1800" spc="1" strike="noStrike">
              <a:ln w="22320">
                <a:solidFill>
                  <a:srgbClr val="00008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7"/>
          <a:stretch/>
        </p:blipFill>
        <p:spPr>
          <a:xfrm>
            <a:off x="7359480" y="4149720"/>
            <a:ext cx="1784520" cy="2158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18"/>
          <a:stretch/>
        </p:blipFill>
        <p:spPr>
          <a:xfrm>
            <a:off x="6732720" y="1413000"/>
            <a:ext cx="1871640" cy="1571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19"/>
          <a:stretch/>
        </p:blipFill>
        <p:spPr>
          <a:xfrm>
            <a:off x="250920" y="4797360"/>
            <a:ext cx="2520720" cy="1978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4859280" y="0"/>
            <a:ext cx="42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666ff"/>
                </a:solidFill>
                <a:latin typeface="Times New Roman"/>
              </a:rPr>
              <a:t>Предприниматель</a:t>
            </a:r>
            <a:r>
              <a:rPr b="0" lang="ru-RU" sz="5400" spc="-1" strike="noStrike">
                <a:solidFill>
                  <a:srgbClr val="6666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6666ff"/>
                </a:solidFill>
                <a:latin typeface="Times New Roman"/>
              </a:rPr>
              <a:t>ПРОДАВЕ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3857760" y="4857840"/>
            <a:ext cx="2560320" cy="1785960"/>
            <a:chOff x="3857760" y="4857840"/>
            <a:chExt cx="2560320" cy="1785960"/>
          </a:xfrm>
        </p:grpSpPr>
        <p:pic>
          <p:nvPicPr>
            <p:cNvPr id="364" name="Picture 5" descr=""/>
            <p:cNvPicPr/>
            <p:nvPr/>
          </p:nvPicPr>
          <p:blipFill>
            <a:blip r:embed="rId1"/>
            <a:stretch/>
          </p:blipFill>
          <p:spPr>
            <a:xfrm>
              <a:off x="3857760" y="5001840"/>
              <a:ext cx="1175760" cy="163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6" descr=""/>
            <p:cNvPicPr/>
            <p:nvPr/>
          </p:nvPicPr>
          <p:blipFill>
            <a:blip r:embed="rId2"/>
            <a:stretch/>
          </p:blipFill>
          <p:spPr>
            <a:xfrm>
              <a:off x="5081040" y="4857840"/>
              <a:ext cx="1337040" cy="17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AutoShape 7"/>
          <p:cNvSpPr/>
          <p:nvPr/>
        </p:nvSpPr>
        <p:spPr>
          <a:xfrm>
            <a:off x="8459640" y="63086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11" descr="C:\Documents and Settings\Администратор\Рабочий стол\мамы 1 а\7.jpg"/>
          <p:cNvPicPr/>
          <p:nvPr/>
        </p:nvPicPr>
        <p:blipFill>
          <a:blip r:embed="rId3"/>
          <a:stretch/>
        </p:blipFill>
        <p:spPr>
          <a:xfrm>
            <a:off x="0" y="0"/>
            <a:ext cx="2708280" cy="4343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0" descr="C:\Documents and Settings\Администратор\Рабочий стол\мамы 1 а\9.jpg"/>
          <p:cNvPicPr/>
          <p:nvPr/>
        </p:nvPicPr>
        <p:blipFill>
          <a:blip r:embed="rId4"/>
          <a:stretch/>
        </p:blipFill>
        <p:spPr>
          <a:xfrm>
            <a:off x="6357960" y="2498760"/>
            <a:ext cx="2786040" cy="435924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2"/>
          <p:cNvSpPr/>
          <p:nvPr/>
        </p:nvSpPr>
        <p:spPr>
          <a:xfrm>
            <a:off x="3639600" y="1857240"/>
            <a:ext cx="2968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давец кричит: - «Купите»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скорей домой несит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блоки, груши и ды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рынке и в магази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много не мал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ного това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5"/>
          <a:stretch/>
        </p:blipFill>
        <p:spPr>
          <a:xfrm>
            <a:off x="428760" y="2779560"/>
            <a:ext cx="3693960" cy="4078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684" dur="indefinite" restart="never" nodeType="tmRoot">
          <p:childTnLst>
            <p:seq>
              <p:cTn id="685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9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571680" y="214200"/>
            <a:ext cx="46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Times New Roman"/>
              </a:rPr>
              <a:t>ПОЧТАЛЬО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2"/>
          <p:cNvSpPr/>
          <p:nvPr/>
        </p:nvSpPr>
        <p:spPr>
          <a:xfrm>
            <a:off x="1928880" y="4714920"/>
            <a:ext cx="2907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чтальон приносит почт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о знают дети точ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урналы, газеты, реклам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брата, для папы и мам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7" descr=""/>
          <p:cNvPicPr/>
          <p:nvPr/>
        </p:nvPicPr>
        <p:blipFill>
          <a:blip r:embed="rId1"/>
          <a:stretch/>
        </p:blipFill>
        <p:spPr>
          <a:xfrm>
            <a:off x="0" y="928800"/>
            <a:ext cx="2089080" cy="1562040"/>
          </a:xfrm>
          <a:prstGeom prst="rect">
            <a:avLst/>
          </a:prstGeom>
          <a:ln w="0">
            <a:noFill/>
          </a:ln>
        </p:spPr>
      </p:pic>
      <p:grpSp>
        <p:nvGrpSpPr>
          <p:cNvPr id="374" name="Group 8"/>
          <p:cNvGrpSpPr/>
          <p:nvPr/>
        </p:nvGrpSpPr>
        <p:grpSpPr>
          <a:xfrm>
            <a:off x="1928520" y="2214720"/>
            <a:ext cx="3260520" cy="1077840"/>
            <a:chOff x="1928520" y="2214720"/>
            <a:chExt cx="3260520" cy="1077840"/>
          </a:xfrm>
        </p:grpSpPr>
        <p:sp>
          <p:nvSpPr>
            <p:cNvPr id="375" name="AutoShape 9"/>
            <p:cNvSpPr/>
            <p:nvPr/>
          </p:nvSpPr>
          <p:spPr>
            <a:xfrm flipH="1">
              <a:off x="1928160" y="2214720"/>
              <a:ext cx="3260520" cy="1077840"/>
            </a:xfrm>
            <a:prstGeom prst="wedgeEllipseCallout">
              <a:avLst>
                <a:gd name="adj1" fmla="val -37416"/>
                <a:gd name="adj2" fmla="val 69851"/>
              </a:avLst>
            </a:prstGeom>
            <a:solidFill>
              <a:srgbClr val="008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Text Box 10"/>
            <p:cNvSpPr/>
            <p:nvPr/>
          </p:nvSpPr>
          <p:spPr>
            <a:xfrm flipH="1">
              <a:off x="2087640" y="2474640"/>
              <a:ext cx="275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В Новый год и к Рождеств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Вам открытку принесу!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Oval 11"/>
          <p:cNvSpPr/>
          <p:nvPr/>
        </p:nvSpPr>
        <p:spPr>
          <a:xfrm>
            <a:off x="8244000" y="6453360"/>
            <a:ext cx="215640" cy="142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12"/>
          <p:cNvSpPr/>
          <p:nvPr/>
        </p:nvSpPr>
        <p:spPr>
          <a:xfrm>
            <a:off x="8748720" y="6453360"/>
            <a:ext cx="216000" cy="142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13" descr=""/>
          <p:cNvPicPr/>
          <p:nvPr/>
        </p:nvPicPr>
        <p:blipFill>
          <a:blip r:embed="rId2"/>
          <a:stretch/>
        </p:blipFill>
        <p:spPr>
          <a:xfrm>
            <a:off x="0" y="2565360"/>
            <a:ext cx="3095640" cy="4084560"/>
          </a:xfrm>
          <a:prstGeom prst="rect">
            <a:avLst/>
          </a:prstGeom>
          <a:ln w="0">
            <a:noFill/>
          </a:ln>
        </p:spPr>
      </p:pic>
      <p:sp>
        <p:nvSpPr>
          <p:cNvPr id="380" name="Oval 14"/>
          <p:cNvSpPr/>
          <p:nvPr/>
        </p:nvSpPr>
        <p:spPr>
          <a:xfrm>
            <a:off x="6084720" y="3716280"/>
            <a:ext cx="21600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15"/>
          <p:cNvSpPr/>
          <p:nvPr/>
        </p:nvSpPr>
        <p:spPr>
          <a:xfrm>
            <a:off x="7740720" y="6237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13" descr="C:\Documents and Settings\Администратор\Рабочий стол\мамы 1 а\x_0ea93bd5.jpg"/>
          <p:cNvPicPr/>
          <p:nvPr/>
        </p:nvPicPr>
        <p:blipFill>
          <a:blip r:embed="rId3"/>
          <a:stretch/>
        </p:blipFill>
        <p:spPr>
          <a:xfrm>
            <a:off x="6643800" y="2838600"/>
            <a:ext cx="2500200" cy="40194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C:\Documents and Settings\Администратор\Рабочий стол\мамы 1 а\15.jpg"/>
          <p:cNvPicPr/>
          <p:nvPr/>
        </p:nvPicPr>
        <p:blipFill>
          <a:blip r:embed="rId4"/>
          <a:stretch/>
        </p:blipFill>
        <p:spPr>
          <a:xfrm>
            <a:off x="6192720" y="0"/>
            <a:ext cx="2951280" cy="2606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690" dur="indefinite" restart="never" nodeType="tmRoot">
          <p:childTnLst>
            <p:seq>
              <p:cTn id="691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5" dur="1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2963880" cy="3816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395280" y="115920"/>
            <a:ext cx="2376360" cy="232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"/>
          <p:cNvPicPr/>
          <p:nvPr/>
        </p:nvPicPr>
        <p:blipFill>
          <a:blip r:embed="rId3"/>
          <a:stretch/>
        </p:blipFill>
        <p:spPr>
          <a:xfrm>
            <a:off x="3132000" y="0"/>
            <a:ext cx="2735280" cy="2333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"/>
          <p:cNvPicPr/>
          <p:nvPr/>
        </p:nvPicPr>
        <p:blipFill>
          <a:blip r:embed="rId4"/>
          <a:stretch/>
        </p:blipFill>
        <p:spPr>
          <a:xfrm>
            <a:off x="5724360" y="4437000"/>
            <a:ext cx="3276720" cy="21304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"/>
          <p:cNvPicPr/>
          <p:nvPr/>
        </p:nvPicPr>
        <p:blipFill>
          <a:blip r:embed="rId5"/>
          <a:stretch/>
        </p:blipFill>
        <p:spPr>
          <a:xfrm>
            <a:off x="5940360" y="189000"/>
            <a:ext cx="2635200" cy="238752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6"/>
          <p:cNvSpPr/>
          <p:nvPr/>
        </p:nvSpPr>
        <p:spPr>
          <a:xfrm>
            <a:off x="2411280" y="4365720"/>
            <a:ext cx="2592360" cy="91440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7"/>
          <p:cNvSpPr/>
          <p:nvPr/>
        </p:nvSpPr>
        <p:spPr>
          <a:xfrm>
            <a:off x="2411280" y="4365720"/>
            <a:ext cx="12970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8"/>
          <p:cNvSpPr/>
          <p:nvPr/>
        </p:nvSpPr>
        <p:spPr>
          <a:xfrm flipV="1">
            <a:off x="3708360" y="4363560"/>
            <a:ext cx="1295280" cy="29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9"/>
          <p:cNvSpPr/>
          <p:nvPr/>
        </p:nvSpPr>
        <p:spPr>
          <a:xfrm>
            <a:off x="2484360" y="2492280"/>
            <a:ext cx="4103640" cy="1513080"/>
          </a:xfrm>
          <a:prstGeom prst="cloudCallout">
            <a:avLst>
              <a:gd name="adj1" fmla="val -64546"/>
              <a:gd name="adj2" fmla="val 2450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10"/>
          <p:cNvSpPr/>
          <p:nvPr/>
        </p:nvSpPr>
        <p:spPr>
          <a:xfrm>
            <a:off x="2987640" y="2852640"/>
            <a:ext cx="311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Отгадай номер дома и узнай кто в нём живёт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2588040" y="4581360"/>
            <a:ext cx="217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Arial Black"/>
              </a:rPr>
              <a:t>6 – 3 + 2 - 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12"/>
          <p:cNvSpPr/>
          <p:nvPr/>
        </p:nvSpPr>
        <p:spPr>
          <a:xfrm>
            <a:off x="5292720" y="333360"/>
            <a:ext cx="792000" cy="863640"/>
          </a:xfrm>
          <a:prstGeom prst="flowChartPunchedTap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13"/>
          <p:cNvSpPr/>
          <p:nvPr/>
        </p:nvSpPr>
        <p:spPr>
          <a:xfrm>
            <a:off x="2411280" y="260280"/>
            <a:ext cx="792360" cy="863640"/>
          </a:xfrm>
          <a:prstGeom prst="flowChartPunchedTap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14"/>
          <p:cNvSpPr/>
          <p:nvPr/>
        </p:nvSpPr>
        <p:spPr>
          <a:xfrm>
            <a:off x="8101080" y="260280"/>
            <a:ext cx="792000" cy="863640"/>
          </a:xfrm>
          <a:prstGeom prst="flowChartPunchedTap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AutoShape 15"/>
          <p:cNvSpPr/>
          <p:nvPr/>
        </p:nvSpPr>
        <p:spPr>
          <a:xfrm>
            <a:off x="7812000" y="4005360"/>
            <a:ext cx="792360" cy="863640"/>
          </a:xfrm>
          <a:prstGeom prst="flowChartPunchedTap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2987640" y="2565360"/>
            <a:ext cx="367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У него четыре лап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апки – цап-царап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ара чутких уш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н – гроза мыш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17" descr=""/>
          <p:cNvPicPr/>
          <p:nvPr/>
        </p:nvPicPr>
        <p:blipFill>
          <a:blip r:embed="rId7"/>
          <a:stretch/>
        </p:blipFill>
        <p:spPr>
          <a:xfrm>
            <a:off x="4140360" y="5013360"/>
            <a:ext cx="1944360" cy="1592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9" dur="8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0" dur="8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8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1"/>
          <p:cNvSpPr/>
          <p:nvPr/>
        </p:nvSpPr>
        <p:spPr>
          <a:xfrm>
            <a:off x="3627360" y="0"/>
            <a:ext cx="519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cc00"/>
                </a:solidFill>
                <a:latin typeface="Times New Roman"/>
              </a:rPr>
              <a:t>ВОСПИТАТЕ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5070600" y="4143240"/>
            <a:ext cx="379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спитатель работает в детском сад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туда рано утром сегодня пойд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спитатель и добрая ня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нимаются целый день с н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2944800" cy="3665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4" descr=""/>
          <p:cNvPicPr/>
          <p:nvPr/>
        </p:nvPicPr>
        <p:blipFill>
          <a:blip r:embed="rId2"/>
          <a:stretch/>
        </p:blipFill>
        <p:spPr>
          <a:xfrm>
            <a:off x="324000" y="5229360"/>
            <a:ext cx="1230120" cy="135576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15"/>
          <p:cNvSpPr/>
          <p:nvPr/>
        </p:nvSpPr>
        <p:spPr>
          <a:xfrm>
            <a:off x="8532720" y="63086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AutoShape 16"/>
          <p:cNvSpPr/>
          <p:nvPr/>
        </p:nvSpPr>
        <p:spPr>
          <a:xfrm>
            <a:off x="7812000" y="63086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7"/>
          <p:cNvGrpSpPr/>
          <p:nvPr/>
        </p:nvGrpSpPr>
        <p:grpSpPr>
          <a:xfrm>
            <a:off x="3714840" y="1571760"/>
            <a:ext cx="969840" cy="1214280"/>
            <a:chOff x="3714840" y="1571760"/>
            <a:chExt cx="969840" cy="1214280"/>
          </a:xfrm>
        </p:grpSpPr>
        <p:pic>
          <p:nvPicPr>
            <p:cNvPr id="408" name="Picture 18" descr=""/>
            <p:cNvPicPr/>
            <p:nvPr/>
          </p:nvPicPr>
          <p:blipFill>
            <a:blip r:embed="rId3"/>
            <a:stretch/>
          </p:blipFill>
          <p:spPr>
            <a:xfrm>
              <a:off x="3714840" y="1571760"/>
              <a:ext cx="96984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AutoShape 19"/>
            <p:cNvSpPr/>
            <p:nvPr/>
          </p:nvSpPr>
          <p:spPr>
            <a:xfrm flipV="1" rot="20760000">
              <a:off x="4147200" y="2072520"/>
              <a:ext cx="75960" cy="709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-360 h 70920"/>
                <a:gd name="textAreaBottom" fmla="*/ 70920 h 70920"/>
              </a:gdLst>
              <a:ahLst/>
              <a:rect l="textAreaLeft" t="textAreaTop" r="textAreaRight" b="textAreaBottom"/>
              <a:pathLst>
                <a:path w="90" h="1">
                  <a:moveTo>
                    <a:pt x="0" y="0"/>
                  </a:moveTo>
                  <a:cubicBezTo>
                    <a:pt x="15" y="0"/>
                    <a:pt x="30" y="0"/>
                    <a:pt x="45" y="0"/>
                  </a:cubicBezTo>
                  <a:cubicBezTo>
                    <a:pt x="60" y="0"/>
                    <a:pt x="90" y="0"/>
                    <a:pt x="90" y="0"/>
                  </a:cubicBezTo>
                  <a:cubicBezTo>
                    <a:pt x="90" y="0"/>
                    <a:pt x="67" y="0"/>
                    <a:pt x="45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0" name="Group 20"/>
          <p:cNvGrpSpPr/>
          <p:nvPr/>
        </p:nvGrpSpPr>
        <p:grpSpPr>
          <a:xfrm>
            <a:off x="7429680" y="5286240"/>
            <a:ext cx="923760" cy="1238400"/>
            <a:chOff x="7429680" y="5286240"/>
            <a:chExt cx="923760" cy="1238400"/>
          </a:xfrm>
        </p:grpSpPr>
        <p:pic>
          <p:nvPicPr>
            <p:cNvPr id="411" name="Picture 21" descr=""/>
            <p:cNvPicPr/>
            <p:nvPr/>
          </p:nvPicPr>
          <p:blipFill>
            <a:blip r:embed="rId4"/>
            <a:stretch/>
          </p:blipFill>
          <p:spPr>
            <a:xfrm>
              <a:off x="7429680" y="5286240"/>
              <a:ext cx="92376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AutoShape 22"/>
            <p:cNvSpPr/>
            <p:nvPr/>
          </p:nvSpPr>
          <p:spPr>
            <a:xfrm flipV="1" rot="20760000">
              <a:off x="7719480" y="5787360"/>
              <a:ext cx="75960" cy="709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-360 h 70920"/>
                <a:gd name="textAreaBottom" fmla="*/ 70920 h 70920"/>
              </a:gdLst>
              <a:ahLst/>
              <a:rect l="textAreaLeft" t="textAreaTop" r="textAreaRight" b="textAreaBottom"/>
              <a:pathLst>
                <a:path w="90" h="1">
                  <a:moveTo>
                    <a:pt x="0" y="0"/>
                  </a:moveTo>
                  <a:cubicBezTo>
                    <a:pt x="15" y="0"/>
                    <a:pt x="30" y="0"/>
                    <a:pt x="45" y="0"/>
                  </a:cubicBezTo>
                  <a:cubicBezTo>
                    <a:pt x="60" y="0"/>
                    <a:pt x="90" y="0"/>
                    <a:pt x="90" y="0"/>
                  </a:cubicBezTo>
                  <a:cubicBezTo>
                    <a:pt x="90" y="0"/>
                    <a:pt x="67" y="0"/>
                    <a:pt x="45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Group 23"/>
          <p:cNvGrpSpPr/>
          <p:nvPr/>
        </p:nvGrpSpPr>
        <p:grpSpPr>
          <a:xfrm>
            <a:off x="6143760" y="5286240"/>
            <a:ext cx="1051920" cy="1258920"/>
            <a:chOff x="6143760" y="5286240"/>
            <a:chExt cx="1051920" cy="1258920"/>
          </a:xfrm>
        </p:grpSpPr>
        <p:grpSp>
          <p:nvGrpSpPr>
            <p:cNvPr id="414" name="Group 24"/>
            <p:cNvGrpSpPr/>
            <p:nvPr/>
          </p:nvGrpSpPr>
          <p:grpSpPr>
            <a:xfrm>
              <a:off x="6143760" y="5286240"/>
              <a:ext cx="1051920" cy="1258920"/>
              <a:chOff x="6143760" y="5286240"/>
              <a:chExt cx="1051920" cy="1258920"/>
            </a:xfrm>
          </p:grpSpPr>
          <p:pic>
            <p:nvPicPr>
              <p:cNvPr id="415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6143760" y="5286240"/>
                <a:ext cx="958680" cy="12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Picture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6828120" y="5645880"/>
                <a:ext cx="367560" cy="631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7" name="AutoShape 27"/>
            <p:cNvSpPr/>
            <p:nvPr/>
          </p:nvSpPr>
          <p:spPr>
            <a:xfrm flipH="1" flipV="1" rot="840000">
              <a:off x="6649200" y="5788440"/>
              <a:ext cx="75600" cy="69840"/>
            </a:xfrm>
            <a:custGeom>
              <a:avLst/>
              <a:gdLst>
                <a:gd name="textAreaLeft" fmla="*/ 360 w 75600"/>
                <a:gd name="textAreaRight" fmla="*/ 76320 w 75600"/>
                <a:gd name="textAreaTop" fmla="*/ 360 h 69840"/>
                <a:gd name="textAreaBottom" fmla="*/ 70560 h 69840"/>
              </a:gdLst>
              <a:ahLst/>
              <a:rect l="textAreaLeft" t="textAreaTop" r="textAreaRight" b="textAreaBottom"/>
              <a:pathLst>
                <a:path w="90" h="1">
                  <a:moveTo>
                    <a:pt x="0" y="0"/>
                  </a:moveTo>
                  <a:cubicBezTo>
                    <a:pt x="15" y="0"/>
                    <a:pt x="30" y="0"/>
                    <a:pt x="45" y="0"/>
                  </a:cubicBezTo>
                  <a:cubicBezTo>
                    <a:pt x="60" y="0"/>
                    <a:pt x="90" y="0"/>
                    <a:pt x="90" y="0"/>
                  </a:cubicBezTo>
                  <a:cubicBezTo>
                    <a:pt x="90" y="0"/>
                    <a:pt x="67" y="0"/>
                    <a:pt x="45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Group 28"/>
          <p:cNvGrpSpPr/>
          <p:nvPr/>
        </p:nvGrpSpPr>
        <p:grpSpPr>
          <a:xfrm>
            <a:off x="214200" y="3714840"/>
            <a:ext cx="1150560" cy="1436760"/>
            <a:chOff x="214200" y="3714840"/>
            <a:chExt cx="1150560" cy="1436760"/>
          </a:xfrm>
        </p:grpSpPr>
        <p:grpSp>
          <p:nvGrpSpPr>
            <p:cNvPr id="419" name="Group 29"/>
            <p:cNvGrpSpPr/>
            <p:nvPr/>
          </p:nvGrpSpPr>
          <p:grpSpPr>
            <a:xfrm>
              <a:off x="214200" y="3714840"/>
              <a:ext cx="1150560" cy="1436760"/>
              <a:chOff x="214200" y="3714840"/>
              <a:chExt cx="1150560" cy="1436760"/>
            </a:xfrm>
          </p:grpSpPr>
          <p:pic>
            <p:nvPicPr>
              <p:cNvPr id="420" name="Picture 30" descr=""/>
              <p:cNvPicPr/>
              <p:nvPr/>
            </p:nvPicPr>
            <p:blipFill>
              <a:blip r:embed="rId7"/>
              <a:stretch/>
            </p:blipFill>
            <p:spPr>
              <a:xfrm>
                <a:off x="214200" y="3714840"/>
                <a:ext cx="889200" cy="143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Picture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933480" y="4003560"/>
                <a:ext cx="431280" cy="427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2" name="AutoShape 32"/>
            <p:cNvSpPr/>
            <p:nvPr/>
          </p:nvSpPr>
          <p:spPr>
            <a:xfrm flipH="1" flipV="1" rot="840000">
              <a:off x="718200" y="4143960"/>
              <a:ext cx="69840" cy="69840"/>
            </a:xfrm>
            <a:custGeom>
              <a:avLst/>
              <a:gdLst>
                <a:gd name="textAreaLeft" fmla="*/ 360 w 69840"/>
                <a:gd name="textAreaRight" fmla="*/ 70560 w 69840"/>
                <a:gd name="textAreaTop" fmla="*/ 360 h 69840"/>
                <a:gd name="textAreaBottom" fmla="*/ 70560 h 69840"/>
              </a:gdLst>
              <a:ahLst/>
              <a:rect l="textAreaLeft" t="textAreaTop" r="textAreaRight" b="textAreaBottom"/>
              <a:pathLst>
                <a:path w="90" h="1">
                  <a:moveTo>
                    <a:pt x="0" y="0"/>
                  </a:moveTo>
                  <a:cubicBezTo>
                    <a:pt x="15" y="0"/>
                    <a:pt x="30" y="0"/>
                    <a:pt x="45" y="0"/>
                  </a:cubicBezTo>
                  <a:cubicBezTo>
                    <a:pt x="60" y="0"/>
                    <a:pt x="90" y="0"/>
                    <a:pt x="90" y="0"/>
                  </a:cubicBezTo>
                  <a:cubicBezTo>
                    <a:pt x="90" y="0"/>
                    <a:pt x="67" y="0"/>
                    <a:pt x="45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AutoShape 33"/>
          <p:cNvSpPr/>
          <p:nvPr/>
        </p:nvSpPr>
        <p:spPr>
          <a:xfrm>
            <a:off x="7093080" y="63086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10" descr="C:\Documents and Settings\Администратор\Рабочий стол\мамы 1 а\3.jpg"/>
          <p:cNvPicPr/>
          <p:nvPr/>
        </p:nvPicPr>
        <p:blipFill>
          <a:blip r:embed="rId9"/>
          <a:stretch/>
        </p:blipFill>
        <p:spPr>
          <a:xfrm>
            <a:off x="5643720" y="1071720"/>
            <a:ext cx="3297240" cy="25416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0" descr="C:\Documents and Settings\Администратор\Рабочий стол\мамы 1 а\13.jpg"/>
          <p:cNvPicPr/>
          <p:nvPr/>
        </p:nvPicPr>
        <p:blipFill>
          <a:blip r:embed="rId10"/>
          <a:stretch/>
        </p:blipFill>
        <p:spPr>
          <a:xfrm>
            <a:off x="1785960" y="2857680"/>
            <a:ext cx="26431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770" dur="indefinite" restart="never" nodeType="tmRoot">
          <p:childTnLst>
            <p:seq>
              <p:cTn id="771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5" dur="1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6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777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0" dur="1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1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782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5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1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497800" cy="6235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"/>
          <p:cNvPicPr/>
          <p:nvPr/>
        </p:nvPicPr>
        <p:blipFill>
          <a:blip r:embed="rId2"/>
          <a:stretch/>
        </p:blipFill>
        <p:spPr>
          <a:xfrm>
            <a:off x="2268360" y="836640"/>
            <a:ext cx="1368720" cy="9064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3"/>
          <a:stretch/>
        </p:blipFill>
        <p:spPr>
          <a:xfrm>
            <a:off x="2700360" y="2276640"/>
            <a:ext cx="882720" cy="936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"/>
          <p:cNvPicPr/>
          <p:nvPr/>
        </p:nvPicPr>
        <p:blipFill>
          <a:blip r:embed="rId4"/>
          <a:stretch/>
        </p:blipFill>
        <p:spPr>
          <a:xfrm>
            <a:off x="5076720" y="2205000"/>
            <a:ext cx="1152720" cy="1085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"/>
          <p:cNvPicPr/>
          <p:nvPr/>
        </p:nvPicPr>
        <p:blipFill>
          <a:blip r:embed="rId5"/>
          <a:stretch/>
        </p:blipFill>
        <p:spPr>
          <a:xfrm>
            <a:off x="3708360" y="765000"/>
            <a:ext cx="766800" cy="13366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"/>
          <p:cNvPicPr/>
          <p:nvPr/>
        </p:nvPicPr>
        <p:blipFill>
          <a:blip r:embed="rId6"/>
          <a:stretch/>
        </p:blipFill>
        <p:spPr>
          <a:xfrm>
            <a:off x="4643280" y="1411200"/>
            <a:ext cx="325440" cy="11001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"/>
          <p:cNvPicPr/>
          <p:nvPr/>
        </p:nvPicPr>
        <p:blipFill>
          <a:blip r:embed="rId7"/>
          <a:stretch/>
        </p:blipFill>
        <p:spPr>
          <a:xfrm>
            <a:off x="5580000" y="1052640"/>
            <a:ext cx="952560" cy="819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"/>
          <p:cNvPicPr/>
          <p:nvPr/>
        </p:nvPicPr>
        <p:blipFill>
          <a:blip r:embed="rId8"/>
          <a:stretch/>
        </p:blipFill>
        <p:spPr>
          <a:xfrm>
            <a:off x="3635280" y="2276640"/>
            <a:ext cx="1265400" cy="915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9"/>
          <p:cNvSpPr/>
          <p:nvPr/>
        </p:nvSpPr>
        <p:spPr>
          <a:xfrm>
            <a:off x="5508720" y="0"/>
            <a:ext cx="3635280" cy="1079640"/>
          </a:xfrm>
          <a:prstGeom prst="cloudCallout">
            <a:avLst>
              <a:gd name="adj1" fmla="val -154412"/>
              <a:gd name="adj2" fmla="val 7500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800000"/>
                </a:solidFill>
                <a:latin typeface="Arial"/>
              </a:rPr>
              <a:t>Посмотри и запомн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5848200" y="192240"/>
            <a:ext cx="2900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11" descr=""/>
          <p:cNvPicPr/>
          <p:nvPr/>
        </p:nvPicPr>
        <p:blipFill>
          <a:blip r:embed="rId9"/>
          <a:srcRect l="46341" t="15386" r="30492" b="53843"/>
          <a:stretch/>
        </p:blipFill>
        <p:spPr>
          <a:xfrm>
            <a:off x="2340000" y="692280"/>
            <a:ext cx="4248000" cy="2746080"/>
          </a:xfrm>
          <a:prstGeom prst="rect">
            <a:avLst/>
          </a:prstGeom>
          <a:ln w="0">
            <a:noFill/>
          </a:ln>
        </p:spPr>
      </p:pic>
      <p:sp>
        <p:nvSpPr>
          <p:cNvPr id="437" name="AutoShape 12"/>
          <p:cNvSpPr/>
          <p:nvPr/>
        </p:nvSpPr>
        <p:spPr>
          <a:xfrm>
            <a:off x="5508720" y="0"/>
            <a:ext cx="3635280" cy="1079640"/>
          </a:xfrm>
          <a:prstGeom prst="cloudCallout">
            <a:avLst>
              <a:gd name="adj1" fmla="val -148472"/>
              <a:gd name="adj2" fmla="val 9500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800000"/>
                </a:solidFill>
                <a:latin typeface="Arial"/>
              </a:rPr>
              <a:t>Что изменилось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13" descr=""/>
          <p:cNvPicPr/>
          <p:nvPr/>
        </p:nvPicPr>
        <p:blipFill>
          <a:blip r:embed="rId10"/>
          <a:srcRect l="46341" t="15386" r="30492" b="53843"/>
          <a:stretch/>
        </p:blipFill>
        <p:spPr>
          <a:xfrm>
            <a:off x="2268360" y="3789360"/>
            <a:ext cx="4319640" cy="2879640"/>
          </a:xfrm>
          <a:prstGeom prst="rect">
            <a:avLst/>
          </a:prstGeom>
          <a:ln w="38160">
            <a:solidFill>
              <a:srgbClr val="777777"/>
            </a:solidFill>
            <a:miter/>
          </a:ln>
        </p:spPr>
      </p:pic>
    </p:spTree>
  </p:cSld>
  <p:transition spd="med">
    <p:wedge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5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5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5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5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6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6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2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5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8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" descr=""/>
          <p:cNvPicPr/>
          <p:nvPr/>
        </p:nvPicPr>
        <p:blipFill>
          <a:blip r:embed="rId1"/>
          <a:stretch/>
        </p:blipFill>
        <p:spPr>
          <a:xfrm>
            <a:off x="3500280" y="1785960"/>
            <a:ext cx="2832120" cy="399888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4"/>
          <p:cNvSpPr/>
          <p:nvPr/>
        </p:nvSpPr>
        <p:spPr>
          <a:xfrm>
            <a:off x="4140360" y="500040"/>
            <a:ext cx="273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вам о маме расскаж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кто она? – Узнай-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у, так и быть, я подскажу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на – домохозяйка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1439640" cy="10843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"/>
          <p:cNvPicPr/>
          <p:nvPr/>
        </p:nvPicPr>
        <p:blipFill>
          <a:blip r:embed="rId3"/>
          <a:stretch/>
        </p:blipFill>
        <p:spPr>
          <a:xfrm>
            <a:off x="395280" y="2781360"/>
            <a:ext cx="1366920" cy="10396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7" descr=""/>
          <p:cNvPicPr/>
          <p:nvPr/>
        </p:nvPicPr>
        <p:blipFill>
          <a:blip r:embed="rId4"/>
          <a:stretch/>
        </p:blipFill>
        <p:spPr>
          <a:xfrm>
            <a:off x="250920" y="2781360"/>
            <a:ext cx="1582560" cy="1181160"/>
          </a:xfrm>
          <a:prstGeom prst="rect">
            <a:avLst/>
          </a:prstGeom>
          <a:ln w="0">
            <a:noFill/>
          </a:ln>
        </p:spPr>
      </p:pic>
      <p:sp>
        <p:nvSpPr>
          <p:cNvPr id="444" name="AutoShape 10"/>
          <p:cNvSpPr/>
          <p:nvPr/>
        </p:nvSpPr>
        <p:spPr>
          <a:xfrm>
            <a:off x="8459640" y="63086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10" descr="C:\Documents and Settings\Администратор\Рабочий стол\мамы 1 а\10.jpg"/>
          <p:cNvPicPr/>
          <p:nvPr/>
        </p:nvPicPr>
        <p:blipFill>
          <a:blip r:embed="rId5"/>
          <a:stretch/>
        </p:blipFill>
        <p:spPr>
          <a:xfrm>
            <a:off x="6626160" y="3000240"/>
            <a:ext cx="2517840" cy="3857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1" descr="C:\Documents and Settings\Администратор\Рабочий стол\мамы 1 а\4.jpg"/>
          <p:cNvPicPr/>
          <p:nvPr/>
        </p:nvPicPr>
        <p:blipFill>
          <a:blip r:embed="rId6"/>
          <a:stretch/>
        </p:blipFill>
        <p:spPr>
          <a:xfrm>
            <a:off x="7143840" y="0"/>
            <a:ext cx="2000160" cy="257184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3"/>
          <p:cNvSpPr/>
          <p:nvPr/>
        </p:nvSpPr>
        <p:spPr>
          <a:xfrm>
            <a:off x="214200" y="0"/>
            <a:ext cx="42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Домохозяйка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11" descr="C:\Documents and Settings\Администратор\Рабочий стол\мамы 1 а\11.jpg"/>
          <p:cNvPicPr/>
          <p:nvPr/>
        </p:nvPicPr>
        <p:blipFill>
          <a:blip r:embed="rId7"/>
          <a:stretch/>
        </p:blipFill>
        <p:spPr>
          <a:xfrm>
            <a:off x="0" y="1743120"/>
            <a:ext cx="3257640" cy="5114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18" dur="indefinite" restart="never" nodeType="tmRoot">
          <p:childTnLst>
            <p:seq>
              <p:cTn id="919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920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23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1" descr=""/>
          <p:cNvPicPr/>
          <p:nvPr/>
        </p:nvPicPr>
        <p:blipFill>
          <a:blip r:embed="rId1"/>
          <a:stretch/>
        </p:blipFill>
        <p:spPr>
          <a:xfrm>
            <a:off x="5940360" y="549360"/>
            <a:ext cx="2746440" cy="54007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5329080" cy="2451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"/>
          <p:cNvPicPr/>
          <p:nvPr/>
        </p:nvPicPr>
        <p:blipFill>
          <a:blip r:embed="rId3"/>
          <a:stretch/>
        </p:blipFill>
        <p:spPr>
          <a:xfrm>
            <a:off x="1763640" y="3429000"/>
            <a:ext cx="1282680" cy="1108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"/>
          <p:cNvPicPr/>
          <p:nvPr/>
        </p:nvPicPr>
        <p:blipFill>
          <a:blip r:embed="rId4"/>
          <a:stretch/>
        </p:blipFill>
        <p:spPr>
          <a:xfrm>
            <a:off x="2916360" y="3213000"/>
            <a:ext cx="1141200" cy="9716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"/>
          <p:cNvPicPr/>
          <p:nvPr/>
        </p:nvPicPr>
        <p:blipFill>
          <a:blip r:embed="rId5"/>
          <a:stretch/>
        </p:blipFill>
        <p:spPr>
          <a:xfrm>
            <a:off x="826920" y="3284640"/>
            <a:ext cx="1184400" cy="8794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6" descr=""/>
          <p:cNvPicPr/>
          <p:nvPr/>
        </p:nvPicPr>
        <p:blipFill>
          <a:blip r:embed="rId6"/>
          <a:stretch/>
        </p:blipFill>
        <p:spPr>
          <a:xfrm>
            <a:off x="4140360" y="3357720"/>
            <a:ext cx="1428480" cy="1123920"/>
          </a:xfrm>
          <a:prstGeom prst="rect">
            <a:avLst/>
          </a:prstGeom>
          <a:ln w="0">
            <a:noFill/>
          </a:ln>
        </p:spPr>
      </p:pic>
      <p:sp>
        <p:nvSpPr>
          <p:cNvPr id="455" name="AutoShape 7"/>
          <p:cNvSpPr/>
          <p:nvPr/>
        </p:nvSpPr>
        <p:spPr>
          <a:xfrm rot="10980000">
            <a:off x="1106280" y="259920"/>
            <a:ext cx="4535280" cy="2232000"/>
          </a:xfrm>
          <a:prstGeom prst="cloudCallout">
            <a:avLst>
              <a:gd name="adj1" fmla="val -80370"/>
              <a:gd name="adj2" fmla="val -3375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1692360" y="692280"/>
            <a:ext cx="40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 Black"/>
              </a:rPr>
              <a:t>На столе стояло 4 блюда с продуктами. Официантка принесла ещё 1 блюдо. Сколько блюд стало на стол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9"/>
          <p:cNvSpPr/>
          <p:nvPr/>
        </p:nvSpPr>
        <p:spPr>
          <a:xfrm>
            <a:off x="3096720" y="51814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WordArt 1"/>
          <p:cNvSpPr txBox="1"/>
          <p:nvPr/>
        </p:nvSpPr>
        <p:spPr>
          <a:xfrm>
            <a:off x="395280" y="1197000"/>
            <a:ext cx="8353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34920">
                  <a:solidFill>
                    <a:srgbClr val="99336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се профессии важны,</a:t>
            </a:r>
            <a:endParaRPr b="1" i="1" lang="en-US" sz="1800" spc="1" strike="noStrike">
              <a:ln w="34920">
                <a:solidFill>
                  <a:srgbClr val="99336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34920">
                  <a:solidFill>
                    <a:srgbClr val="99336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се профессии нужны!</a:t>
            </a:r>
            <a:endParaRPr b="1" i="1" lang="en-US" sz="1800" spc="1" strike="noStrike">
              <a:ln w="34920">
                <a:solidFill>
                  <a:srgbClr val="99336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4356000" y="4724280"/>
            <a:ext cx="2521080" cy="15717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" descr=""/>
          <p:cNvPicPr/>
          <p:nvPr/>
        </p:nvPicPr>
        <p:blipFill>
          <a:blip r:embed="rId6"/>
          <a:stretch/>
        </p:blipFill>
        <p:spPr>
          <a:xfrm>
            <a:off x="7093080" y="4005360"/>
            <a:ext cx="1906560" cy="2448000"/>
          </a:xfrm>
          <a:prstGeom prst="rect">
            <a:avLst/>
          </a:prstGeom>
          <a:ln w="0">
            <a:noFill/>
          </a:ln>
        </p:spPr>
      </p:pic>
      <p:sp>
        <p:nvSpPr>
          <p:cNvPr id="461" name="AutoShape 4"/>
          <p:cNvSpPr/>
          <p:nvPr/>
        </p:nvSpPr>
        <p:spPr>
          <a:xfrm>
            <a:off x="285840" y="4214880"/>
            <a:ext cx="3714840" cy="2214360"/>
          </a:xfrm>
          <a:prstGeom prst="flowChartPunchedTape">
            <a:avLst/>
          </a:prstGeom>
          <a:solidFill>
            <a:srgbClr val="ff0000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ок прошёл быстр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научился сам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гу помочь другим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5"/>
          <p:cNvSpPr/>
          <p:nvPr/>
        </p:nvSpPr>
        <p:spPr>
          <a:xfrm>
            <a:off x="5572080" y="0"/>
            <a:ext cx="3286080" cy="1500120"/>
          </a:xfrm>
          <a:prstGeom prst="flowChartPunchedTape">
            <a:avLst/>
          </a:prstGeom>
          <a:solidFill>
            <a:srgbClr val="3cff3c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понял, но м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щё нужна помощ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6"/>
          <p:cNvSpPr/>
          <p:nvPr/>
        </p:nvSpPr>
        <p:spPr>
          <a:xfrm>
            <a:off x="571680" y="0"/>
            <a:ext cx="3643200" cy="1285920"/>
          </a:xfrm>
          <a:prstGeom prst="flowChartPunchedTape">
            <a:avLst/>
          </a:prstGeom>
          <a:solidFill>
            <a:srgbClr val="0000cc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о труд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 ещё не понял  до кон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1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WordArt 2"/>
          <p:cNvSpPr txBox="1"/>
          <p:nvPr/>
        </p:nvSpPr>
        <p:spPr>
          <a:xfrm>
            <a:off x="900000" y="765000"/>
            <a:ext cx="7632720" cy="273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ff">
                    <a:alpha val="83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 за  работу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0000ff">
                  <a:alpha val="83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66" name="Group 3"/>
          <p:cNvGrpSpPr/>
          <p:nvPr/>
        </p:nvGrpSpPr>
        <p:grpSpPr>
          <a:xfrm>
            <a:off x="3851280" y="1341360"/>
            <a:ext cx="1873080" cy="3309840"/>
            <a:chOff x="3851280" y="1341360"/>
            <a:chExt cx="1873080" cy="3309840"/>
          </a:xfrm>
        </p:grpSpPr>
        <p:pic>
          <p:nvPicPr>
            <p:cNvPr id="467" name="Picture 4" descr=""/>
            <p:cNvPicPr/>
            <p:nvPr/>
          </p:nvPicPr>
          <p:blipFill>
            <a:blip r:embed="rId1"/>
            <a:stretch/>
          </p:blipFill>
          <p:spPr>
            <a:xfrm>
              <a:off x="3851280" y="1341360"/>
              <a:ext cx="1873080" cy="33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 Box 5"/>
            <p:cNvSpPr/>
            <p:nvPr/>
          </p:nvSpPr>
          <p:spPr>
            <a:xfrm>
              <a:off x="3851280" y="1341360"/>
              <a:ext cx="1873080" cy="33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Rectangle 7"/>
          <p:cNvSpPr/>
          <p:nvPr/>
        </p:nvSpPr>
        <p:spPr>
          <a:xfrm>
            <a:off x="2700360" y="6023160"/>
            <a:ext cx="44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йт  Елены Берюховой 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кола АБВ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kola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v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Рисунок 7" descr="G:\для сайта работы\эмблема\новое название .png"/>
          <p:cNvPicPr/>
          <p:nvPr/>
        </p:nvPicPr>
        <p:blipFill>
          <a:blip r:embed="rId2"/>
          <a:stretch/>
        </p:blipFill>
        <p:spPr>
          <a:xfrm>
            <a:off x="7020000" y="4653000"/>
            <a:ext cx="1876320" cy="1724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2143080" y="2643120"/>
            <a:ext cx="5516640" cy="3929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1214280" y="0"/>
            <a:ext cx="2928960" cy="3905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2143080" y="3886200"/>
            <a:ext cx="5286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ак звали доктора, который лечи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животны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7102440" y="-115920"/>
            <a:ext cx="2162160" cy="2174760"/>
            <a:chOff x="7102440" y="-115920"/>
            <a:chExt cx="2162160" cy="2174760"/>
          </a:xfrm>
        </p:grpSpPr>
        <p:pic>
          <p:nvPicPr>
            <p:cNvPr id="118" name="Picture 5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102440" y="-115920"/>
              <a:ext cx="2162160" cy="21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6"/>
            <p:cNvSpPr/>
            <p:nvPr/>
          </p:nvSpPr>
          <p:spPr>
            <a:xfrm>
              <a:off x="7848000" y="623160"/>
              <a:ext cx="675360" cy="6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Отве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AutoShape 7"/>
          <p:cNvSpPr/>
          <p:nvPr/>
        </p:nvSpPr>
        <p:spPr>
          <a:xfrm>
            <a:off x="8661240" y="6375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1000080" y="2643120"/>
            <a:ext cx="5516640" cy="392904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2"/>
          <p:cNvSpPr/>
          <p:nvPr/>
        </p:nvSpPr>
        <p:spPr>
          <a:xfrm>
            <a:off x="2428920" y="2714760"/>
            <a:ext cx="500076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72280" y="57862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C:\Documents and Settings\Администратор\Рабочий стол\мамы 1 а\17.jpg"/>
          <p:cNvPicPr/>
          <p:nvPr/>
        </p:nvPicPr>
        <p:blipFill>
          <a:blip r:embed="rId4"/>
          <a:stretch/>
        </p:blipFill>
        <p:spPr>
          <a:xfrm>
            <a:off x="5857920" y="285840"/>
            <a:ext cx="3000240" cy="6235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C:\Documents and Settings\Администратор\Рабочий стол\мамы 1 а\16.jpg"/>
          <p:cNvPicPr/>
          <p:nvPr/>
        </p:nvPicPr>
        <p:blipFill>
          <a:blip r:embed="rId5"/>
          <a:stretch/>
        </p:blipFill>
        <p:spPr>
          <a:xfrm>
            <a:off x="2857680" y="770040"/>
            <a:ext cx="2786040" cy="5330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5508720" y="4365720"/>
            <a:ext cx="3024000" cy="223524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2"/>
          <p:cNvGrpSpPr/>
          <p:nvPr/>
        </p:nvGrpSpPr>
        <p:grpSpPr>
          <a:xfrm>
            <a:off x="324000" y="3860640"/>
            <a:ext cx="2374920" cy="2732400"/>
            <a:chOff x="324000" y="3860640"/>
            <a:chExt cx="2374920" cy="2732400"/>
          </a:xfrm>
        </p:grpSpPr>
        <p:pic>
          <p:nvPicPr>
            <p:cNvPr id="129" name="Picture 3" descr=""/>
            <p:cNvPicPr/>
            <p:nvPr/>
          </p:nvPicPr>
          <p:blipFill>
            <a:blip r:embed="rId2"/>
            <a:stretch/>
          </p:blipFill>
          <p:spPr>
            <a:xfrm>
              <a:off x="324000" y="3860640"/>
              <a:ext cx="2374920" cy="27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AutoShape 4"/>
            <p:cNvSpPr/>
            <p:nvPr/>
          </p:nvSpPr>
          <p:spPr>
            <a:xfrm>
              <a:off x="1439280" y="3914280"/>
              <a:ext cx="221760" cy="164880"/>
            </a:xfrm>
            <a:prstGeom prst="plus">
              <a:avLst>
                <a:gd name="adj" fmla="val 34065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Group 5"/>
          <p:cNvGrpSpPr/>
          <p:nvPr/>
        </p:nvGrpSpPr>
        <p:grpSpPr>
          <a:xfrm>
            <a:off x="2411280" y="907920"/>
            <a:ext cx="3870720" cy="3698640"/>
            <a:chOff x="2411280" y="907920"/>
            <a:chExt cx="3870720" cy="3698640"/>
          </a:xfrm>
        </p:grpSpPr>
        <p:grpSp>
          <p:nvGrpSpPr>
            <p:cNvPr id="132" name="Group 6"/>
            <p:cNvGrpSpPr/>
            <p:nvPr/>
          </p:nvGrpSpPr>
          <p:grpSpPr>
            <a:xfrm>
              <a:off x="3381120" y="1206360"/>
              <a:ext cx="2900880" cy="3400200"/>
              <a:chOff x="3381120" y="1206360"/>
              <a:chExt cx="2900880" cy="3400200"/>
            </a:xfrm>
          </p:grpSpPr>
          <p:pic>
            <p:nvPicPr>
              <p:cNvPr id="133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3635280" y="3210480"/>
                <a:ext cx="2303640" cy="1396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4" name="Group 8"/>
              <p:cNvGrpSpPr/>
              <p:nvPr/>
            </p:nvGrpSpPr>
            <p:grpSpPr>
              <a:xfrm>
                <a:off x="3381120" y="1206360"/>
                <a:ext cx="2900880" cy="2835000"/>
                <a:chOff x="3381120" y="1206360"/>
                <a:chExt cx="2900880" cy="2835000"/>
              </a:xfrm>
            </p:grpSpPr>
            <p:sp>
              <p:nvSpPr>
                <p:cNvPr id="135" name="Rectangle 9"/>
                <p:cNvSpPr/>
                <p:nvPr/>
              </p:nvSpPr>
              <p:spPr>
                <a:xfrm rot="20460000">
                  <a:off x="3676680" y="1522440"/>
                  <a:ext cx="2309400" cy="22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AutoShape 10"/>
                <p:cNvSpPr/>
                <p:nvPr/>
              </p:nvSpPr>
              <p:spPr>
                <a:xfrm rot="20460000">
                  <a:off x="4373280" y="1593360"/>
                  <a:ext cx="149040" cy="131400"/>
                </a:xfrm>
                <a:custGeom>
                  <a:avLst/>
                  <a:gdLst>
                    <a:gd name="textAreaLeft" fmla="*/ 0 w 149040"/>
                    <a:gd name="textAreaRight" fmla="*/ 149040 w 14904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147" h="134">
                      <a:moveTo>
                        <a:pt x="113" y="21"/>
                      </a:moveTo>
                      <a:lnTo>
                        <a:pt x="111" y="19"/>
                      </a:lnTo>
                      <a:lnTo>
                        <a:pt x="104" y="13"/>
                      </a:lnTo>
                      <a:lnTo>
                        <a:pt x="94" y="7"/>
                      </a:lnTo>
                      <a:lnTo>
                        <a:pt x="88" y="3"/>
                      </a:lnTo>
                      <a:lnTo>
                        <a:pt x="80" y="1"/>
                      </a:lnTo>
                      <a:lnTo>
                        <a:pt x="71" y="0"/>
                      </a:lnTo>
                      <a:lnTo>
                        <a:pt x="63" y="0"/>
                      </a:lnTo>
                      <a:lnTo>
                        <a:pt x="55" y="1"/>
                      </a:lnTo>
                      <a:lnTo>
                        <a:pt x="47" y="2"/>
                      </a:lnTo>
                      <a:lnTo>
                        <a:pt x="40" y="4"/>
                      </a:lnTo>
                      <a:lnTo>
                        <a:pt x="33" y="7"/>
                      </a:lnTo>
                      <a:lnTo>
                        <a:pt x="27" y="9"/>
                      </a:lnTo>
                      <a:lnTo>
                        <a:pt x="20" y="12"/>
                      </a:lnTo>
                      <a:lnTo>
                        <a:pt x="13" y="18"/>
                      </a:lnTo>
                      <a:lnTo>
                        <a:pt x="6" y="23"/>
                      </a:lnTo>
                      <a:lnTo>
                        <a:pt x="2" y="27"/>
                      </a:lnTo>
                      <a:lnTo>
                        <a:pt x="1" y="35"/>
                      </a:lnTo>
                      <a:lnTo>
                        <a:pt x="0" y="50"/>
                      </a:lnTo>
                      <a:lnTo>
                        <a:pt x="1" y="68"/>
                      </a:lnTo>
                      <a:lnTo>
                        <a:pt x="3" y="83"/>
                      </a:lnTo>
                      <a:lnTo>
                        <a:pt x="7" y="92"/>
                      </a:lnTo>
                      <a:lnTo>
                        <a:pt x="13" y="102"/>
                      </a:lnTo>
                      <a:lnTo>
                        <a:pt x="21" y="114"/>
                      </a:lnTo>
                      <a:lnTo>
                        <a:pt x="30" y="122"/>
                      </a:lnTo>
                      <a:lnTo>
                        <a:pt x="40" y="126"/>
                      </a:lnTo>
                      <a:lnTo>
                        <a:pt x="50" y="131"/>
                      </a:lnTo>
                      <a:lnTo>
                        <a:pt x="56" y="133"/>
                      </a:lnTo>
                      <a:lnTo>
                        <a:pt x="61" y="134"/>
                      </a:lnTo>
                      <a:lnTo>
                        <a:pt x="70" y="132"/>
                      </a:lnTo>
                      <a:lnTo>
                        <a:pt x="82" y="129"/>
                      </a:lnTo>
                      <a:lnTo>
                        <a:pt x="94" y="123"/>
                      </a:lnTo>
                      <a:lnTo>
                        <a:pt x="107" y="117"/>
                      </a:lnTo>
                      <a:lnTo>
                        <a:pt x="118" y="110"/>
                      </a:lnTo>
                      <a:lnTo>
                        <a:pt x="127" y="106"/>
                      </a:lnTo>
                      <a:lnTo>
                        <a:pt x="132" y="101"/>
                      </a:lnTo>
                      <a:lnTo>
                        <a:pt x="135" y="100"/>
                      </a:lnTo>
                      <a:lnTo>
                        <a:pt x="147" y="69"/>
                      </a:lnTo>
                      <a:lnTo>
                        <a:pt x="113" y="2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AutoShape 11"/>
                <p:cNvSpPr/>
                <p:nvPr/>
              </p:nvSpPr>
              <p:spPr>
                <a:xfrm rot="20460000">
                  <a:off x="4237560" y="1704240"/>
                  <a:ext cx="131040" cy="127440"/>
                </a:xfrm>
                <a:custGeom>
                  <a:avLst/>
                  <a:gdLst>
                    <a:gd name="textAreaLeft" fmla="*/ 0 w 131040"/>
                    <a:gd name="textAreaRight" fmla="*/ 131400 w 131040"/>
                    <a:gd name="textAreaTop" fmla="*/ 0 h 127440"/>
                    <a:gd name="textAreaBottom" fmla="*/ 127800 h 127440"/>
                  </a:gdLst>
                  <a:ahLst/>
                  <a:rect l="textAreaLeft" t="textAreaTop" r="textAreaRight" b="textAreaBottom"/>
                  <a:pathLst>
                    <a:path w="129" h="132">
                      <a:moveTo>
                        <a:pt x="0" y="58"/>
                      </a:moveTo>
                      <a:lnTo>
                        <a:pt x="6" y="61"/>
                      </a:lnTo>
                      <a:lnTo>
                        <a:pt x="17" y="70"/>
                      </a:lnTo>
                      <a:lnTo>
                        <a:pt x="28" y="82"/>
                      </a:lnTo>
                      <a:lnTo>
                        <a:pt x="34" y="90"/>
                      </a:lnTo>
                      <a:lnTo>
                        <a:pt x="34" y="99"/>
                      </a:lnTo>
                      <a:lnTo>
                        <a:pt x="34" y="114"/>
                      </a:lnTo>
                      <a:lnTo>
                        <a:pt x="32" y="127"/>
                      </a:lnTo>
                      <a:lnTo>
                        <a:pt x="32" y="132"/>
                      </a:lnTo>
                      <a:lnTo>
                        <a:pt x="34" y="132"/>
                      </a:lnTo>
                      <a:lnTo>
                        <a:pt x="38" y="132"/>
                      </a:lnTo>
                      <a:lnTo>
                        <a:pt x="44" y="132"/>
                      </a:lnTo>
                      <a:lnTo>
                        <a:pt x="51" y="131"/>
                      </a:lnTo>
                      <a:lnTo>
                        <a:pt x="59" y="130"/>
                      </a:lnTo>
                      <a:lnTo>
                        <a:pt x="68" y="129"/>
                      </a:lnTo>
                      <a:lnTo>
                        <a:pt x="76" y="127"/>
                      </a:lnTo>
                      <a:lnTo>
                        <a:pt x="83" y="124"/>
                      </a:lnTo>
                      <a:lnTo>
                        <a:pt x="90" y="121"/>
                      </a:lnTo>
                      <a:lnTo>
                        <a:pt x="98" y="117"/>
                      </a:lnTo>
                      <a:lnTo>
                        <a:pt x="106" y="113"/>
                      </a:lnTo>
                      <a:lnTo>
                        <a:pt x="113" y="107"/>
                      </a:lnTo>
                      <a:lnTo>
                        <a:pt x="120" y="101"/>
                      </a:lnTo>
                      <a:lnTo>
                        <a:pt x="125" y="94"/>
                      </a:lnTo>
                      <a:lnTo>
                        <a:pt x="128" y="87"/>
                      </a:lnTo>
                      <a:lnTo>
                        <a:pt x="129" y="81"/>
                      </a:lnTo>
                      <a:lnTo>
                        <a:pt x="126" y="64"/>
                      </a:lnTo>
                      <a:lnTo>
                        <a:pt x="119" y="46"/>
                      </a:lnTo>
                      <a:lnTo>
                        <a:pt x="110" y="28"/>
                      </a:lnTo>
                      <a:lnTo>
                        <a:pt x="99" y="14"/>
                      </a:lnTo>
                      <a:lnTo>
                        <a:pt x="96" y="10"/>
                      </a:lnTo>
                      <a:lnTo>
                        <a:pt x="91" y="7"/>
                      </a:lnTo>
                      <a:lnTo>
                        <a:pt x="87" y="5"/>
                      </a:lnTo>
                      <a:lnTo>
                        <a:pt x="82" y="2"/>
                      </a:lnTo>
                      <a:lnTo>
                        <a:pt x="76" y="1"/>
                      </a:lnTo>
                      <a:lnTo>
                        <a:pt x="70" y="0"/>
                      </a:lnTo>
                      <a:lnTo>
                        <a:pt x="64" y="0"/>
                      </a:lnTo>
                      <a:lnTo>
                        <a:pt x="57" y="0"/>
                      </a:lnTo>
                      <a:lnTo>
                        <a:pt x="49" y="1"/>
                      </a:lnTo>
                      <a:lnTo>
                        <a:pt x="40" y="5"/>
                      </a:lnTo>
                      <a:lnTo>
                        <a:pt x="32" y="9"/>
                      </a:lnTo>
                      <a:lnTo>
                        <a:pt x="24" y="14"/>
                      </a:lnTo>
                      <a:lnTo>
                        <a:pt x="16" y="20"/>
                      </a:lnTo>
                      <a:lnTo>
                        <a:pt x="11" y="24"/>
                      </a:lnTo>
                      <a:lnTo>
                        <a:pt x="6" y="29"/>
                      </a:lnTo>
                      <a:lnTo>
                        <a:pt x="4" y="33"/>
                      </a:lnTo>
                      <a:lnTo>
                        <a:pt x="1" y="41"/>
                      </a:lnTo>
                      <a:lnTo>
                        <a:pt x="0" y="49"/>
                      </a:lnTo>
                      <a:lnTo>
                        <a:pt x="0" y="55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AutoShape 12"/>
                <p:cNvSpPr/>
                <p:nvPr/>
              </p:nvSpPr>
              <p:spPr>
                <a:xfrm rot="20460000">
                  <a:off x="5762160" y="2281320"/>
                  <a:ext cx="205200" cy="280440"/>
                </a:xfrm>
                <a:custGeom>
                  <a:avLst/>
                  <a:gdLst>
                    <a:gd name="textAreaLeft" fmla="*/ 0 w 205200"/>
                    <a:gd name="textAreaRight" fmla="*/ 205560 w 205200"/>
                    <a:gd name="textAreaTop" fmla="*/ 0 h 280440"/>
                    <a:gd name="textAreaBottom" fmla="*/ 280800 h 280440"/>
                  </a:gdLst>
                  <a:ahLst/>
                  <a:rect l="textAreaLeft" t="textAreaTop" r="textAreaRight" b="textAreaBottom"/>
                  <a:pathLst>
                    <a:path w="203" h="290">
                      <a:moveTo>
                        <a:pt x="8" y="84"/>
                      </a:moveTo>
                      <a:lnTo>
                        <a:pt x="0" y="208"/>
                      </a:lnTo>
                      <a:lnTo>
                        <a:pt x="81" y="248"/>
                      </a:lnTo>
                      <a:lnTo>
                        <a:pt x="82" y="251"/>
                      </a:lnTo>
                      <a:lnTo>
                        <a:pt x="86" y="256"/>
                      </a:lnTo>
                      <a:lnTo>
                        <a:pt x="90" y="263"/>
                      </a:lnTo>
                      <a:lnTo>
                        <a:pt x="96" y="269"/>
                      </a:lnTo>
                      <a:lnTo>
                        <a:pt x="111" y="277"/>
                      </a:lnTo>
                      <a:lnTo>
                        <a:pt x="124" y="283"/>
                      </a:lnTo>
                      <a:lnTo>
                        <a:pt x="134" y="286"/>
                      </a:lnTo>
                      <a:lnTo>
                        <a:pt x="142" y="289"/>
                      </a:lnTo>
                      <a:lnTo>
                        <a:pt x="149" y="290"/>
                      </a:lnTo>
                      <a:lnTo>
                        <a:pt x="152" y="290"/>
                      </a:lnTo>
                      <a:lnTo>
                        <a:pt x="155" y="290"/>
                      </a:lnTo>
                      <a:lnTo>
                        <a:pt x="156" y="290"/>
                      </a:lnTo>
                      <a:lnTo>
                        <a:pt x="157" y="289"/>
                      </a:lnTo>
                      <a:lnTo>
                        <a:pt x="162" y="284"/>
                      </a:lnTo>
                      <a:lnTo>
                        <a:pt x="169" y="276"/>
                      </a:lnTo>
                      <a:lnTo>
                        <a:pt x="175" y="266"/>
                      </a:lnTo>
                      <a:lnTo>
                        <a:pt x="184" y="251"/>
                      </a:lnTo>
                      <a:lnTo>
                        <a:pt x="190" y="233"/>
                      </a:lnTo>
                      <a:lnTo>
                        <a:pt x="197" y="213"/>
                      </a:lnTo>
                      <a:lnTo>
                        <a:pt x="201" y="187"/>
                      </a:lnTo>
                      <a:lnTo>
                        <a:pt x="203" y="128"/>
                      </a:lnTo>
                      <a:lnTo>
                        <a:pt x="200" y="79"/>
                      </a:lnTo>
                      <a:lnTo>
                        <a:pt x="194" y="46"/>
                      </a:lnTo>
                      <a:lnTo>
                        <a:pt x="190" y="30"/>
                      </a:lnTo>
                      <a:lnTo>
                        <a:pt x="185" y="18"/>
                      </a:lnTo>
                      <a:lnTo>
                        <a:pt x="177" y="9"/>
                      </a:lnTo>
                      <a:lnTo>
                        <a:pt x="170" y="4"/>
                      </a:lnTo>
                      <a:lnTo>
                        <a:pt x="163" y="1"/>
                      </a:lnTo>
                      <a:lnTo>
                        <a:pt x="156" y="0"/>
                      </a:lnTo>
                      <a:lnTo>
                        <a:pt x="150" y="0"/>
                      </a:lnTo>
                      <a:lnTo>
                        <a:pt x="147" y="0"/>
                      </a:lnTo>
                      <a:lnTo>
                        <a:pt x="145" y="0"/>
                      </a:lnTo>
                      <a:lnTo>
                        <a:pt x="143" y="0"/>
                      </a:lnTo>
                      <a:lnTo>
                        <a:pt x="137" y="1"/>
                      </a:lnTo>
                      <a:lnTo>
                        <a:pt x="131" y="2"/>
                      </a:lnTo>
                      <a:lnTo>
                        <a:pt x="120" y="4"/>
                      </a:lnTo>
                      <a:lnTo>
                        <a:pt x="111" y="8"/>
                      </a:lnTo>
                      <a:lnTo>
                        <a:pt x="101" y="12"/>
                      </a:lnTo>
                      <a:lnTo>
                        <a:pt x="92" y="18"/>
                      </a:lnTo>
                      <a:lnTo>
                        <a:pt x="87" y="24"/>
                      </a:lnTo>
                      <a:lnTo>
                        <a:pt x="79" y="40"/>
                      </a:lnTo>
                      <a:lnTo>
                        <a:pt x="72" y="55"/>
                      </a:lnTo>
                      <a:lnTo>
                        <a:pt x="67" y="66"/>
                      </a:lnTo>
                      <a:lnTo>
                        <a:pt x="66" y="71"/>
                      </a:lnTo>
                      <a:lnTo>
                        <a:pt x="8" y="8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AutoShape 13"/>
                <p:cNvSpPr/>
                <p:nvPr/>
              </p:nvSpPr>
              <p:spPr>
                <a:xfrm rot="20460000">
                  <a:off x="5130000" y="1953360"/>
                  <a:ext cx="585360" cy="66240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662400"/>
                    <a:gd name="textAreaBottom" fmla="*/ 662760 h 662400"/>
                  </a:gdLst>
                  <a:ahLst/>
                  <a:rect l="textAreaLeft" t="textAreaTop" r="textAreaRight" b="textAreaBottom"/>
                  <a:pathLst>
                    <a:path w="581" h="687">
                      <a:moveTo>
                        <a:pt x="502" y="614"/>
                      </a:moveTo>
                      <a:lnTo>
                        <a:pt x="487" y="614"/>
                      </a:lnTo>
                      <a:lnTo>
                        <a:pt x="469" y="615"/>
                      </a:lnTo>
                      <a:lnTo>
                        <a:pt x="448" y="615"/>
                      </a:lnTo>
                      <a:lnTo>
                        <a:pt x="425" y="614"/>
                      </a:lnTo>
                      <a:lnTo>
                        <a:pt x="401" y="613"/>
                      </a:lnTo>
                      <a:lnTo>
                        <a:pt x="377" y="611"/>
                      </a:lnTo>
                      <a:lnTo>
                        <a:pt x="354" y="605"/>
                      </a:lnTo>
                      <a:lnTo>
                        <a:pt x="332" y="598"/>
                      </a:lnTo>
                      <a:lnTo>
                        <a:pt x="305" y="583"/>
                      </a:lnTo>
                      <a:lnTo>
                        <a:pt x="284" y="566"/>
                      </a:lnTo>
                      <a:lnTo>
                        <a:pt x="269" y="547"/>
                      </a:lnTo>
                      <a:lnTo>
                        <a:pt x="259" y="529"/>
                      </a:lnTo>
                      <a:lnTo>
                        <a:pt x="251" y="512"/>
                      </a:lnTo>
                      <a:lnTo>
                        <a:pt x="246" y="498"/>
                      </a:lnTo>
                      <a:lnTo>
                        <a:pt x="244" y="489"/>
                      </a:lnTo>
                      <a:lnTo>
                        <a:pt x="244" y="485"/>
                      </a:lnTo>
                      <a:lnTo>
                        <a:pt x="249" y="458"/>
                      </a:lnTo>
                      <a:lnTo>
                        <a:pt x="259" y="394"/>
                      </a:lnTo>
                      <a:lnTo>
                        <a:pt x="271" y="323"/>
                      </a:lnTo>
                      <a:lnTo>
                        <a:pt x="278" y="272"/>
                      </a:lnTo>
                      <a:lnTo>
                        <a:pt x="276" y="249"/>
                      </a:lnTo>
                      <a:lnTo>
                        <a:pt x="271" y="226"/>
                      </a:lnTo>
                      <a:lnTo>
                        <a:pt x="261" y="205"/>
                      </a:lnTo>
                      <a:lnTo>
                        <a:pt x="250" y="186"/>
                      </a:lnTo>
                      <a:lnTo>
                        <a:pt x="238" y="171"/>
                      </a:lnTo>
                      <a:lnTo>
                        <a:pt x="228" y="158"/>
                      </a:lnTo>
                      <a:lnTo>
                        <a:pt x="220" y="150"/>
                      </a:lnTo>
                      <a:lnTo>
                        <a:pt x="218" y="148"/>
                      </a:lnTo>
                      <a:lnTo>
                        <a:pt x="220" y="143"/>
                      </a:lnTo>
                      <a:lnTo>
                        <a:pt x="226" y="133"/>
                      </a:lnTo>
                      <a:lnTo>
                        <a:pt x="230" y="120"/>
                      </a:lnTo>
                      <a:lnTo>
                        <a:pt x="233" y="110"/>
                      </a:lnTo>
                      <a:lnTo>
                        <a:pt x="230" y="88"/>
                      </a:lnTo>
                      <a:lnTo>
                        <a:pt x="223" y="67"/>
                      </a:lnTo>
                      <a:lnTo>
                        <a:pt x="213" y="49"/>
                      </a:lnTo>
                      <a:lnTo>
                        <a:pt x="199" y="33"/>
                      </a:lnTo>
                      <a:lnTo>
                        <a:pt x="182" y="19"/>
                      </a:lnTo>
                      <a:lnTo>
                        <a:pt x="161" y="10"/>
                      </a:lnTo>
                      <a:lnTo>
                        <a:pt x="139" y="3"/>
                      </a:lnTo>
                      <a:lnTo>
                        <a:pt x="116" y="0"/>
                      </a:lnTo>
                      <a:lnTo>
                        <a:pt x="93" y="3"/>
                      </a:lnTo>
                      <a:lnTo>
                        <a:pt x="71" y="10"/>
                      </a:lnTo>
                      <a:lnTo>
                        <a:pt x="51" y="19"/>
                      </a:lnTo>
                      <a:lnTo>
                        <a:pt x="34" y="33"/>
                      </a:lnTo>
                      <a:lnTo>
                        <a:pt x="19" y="49"/>
                      </a:lnTo>
                      <a:lnTo>
                        <a:pt x="9" y="67"/>
                      </a:lnTo>
                      <a:lnTo>
                        <a:pt x="2" y="88"/>
                      </a:lnTo>
                      <a:lnTo>
                        <a:pt x="0" y="110"/>
                      </a:lnTo>
                      <a:lnTo>
                        <a:pt x="2" y="132"/>
                      </a:lnTo>
                      <a:lnTo>
                        <a:pt x="9" y="152"/>
                      </a:lnTo>
                      <a:lnTo>
                        <a:pt x="19" y="171"/>
                      </a:lnTo>
                      <a:lnTo>
                        <a:pt x="34" y="187"/>
                      </a:lnTo>
                      <a:lnTo>
                        <a:pt x="51" y="201"/>
                      </a:lnTo>
                      <a:lnTo>
                        <a:pt x="71" y="211"/>
                      </a:lnTo>
                      <a:lnTo>
                        <a:pt x="93" y="217"/>
                      </a:lnTo>
                      <a:lnTo>
                        <a:pt x="116" y="219"/>
                      </a:lnTo>
                      <a:lnTo>
                        <a:pt x="123" y="219"/>
                      </a:lnTo>
                      <a:lnTo>
                        <a:pt x="131" y="219"/>
                      </a:lnTo>
                      <a:lnTo>
                        <a:pt x="137" y="218"/>
                      </a:lnTo>
                      <a:lnTo>
                        <a:pt x="144" y="217"/>
                      </a:lnTo>
                      <a:lnTo>
                        <a:pt x="150" y="216"/>
                      </a:lnTo>
                      <a:lnTo>
                        <a:pt x="155" y="213"/>
                      </a:lnTo>
                      <a:lnTo>
                        <a:pt x="161" y="211"/>
                      </a:lnTo>
                      <a:lnTo>
                        <a:pt x="168" y="208"/>
                      </a:lnTo>
                      <a:lnTo>
                        <a:pt x="173" y="217"/>
                      </a:lnTo>
                      <a:lnTo>
                        <a:pt x="177" y="226"/>
                      </a:lnTo>
                      <a:lnTo>
                        <a:pt x="183" y="235"/>
                      </a:lnTo>
                      <a:lnTo>
                        <a:pt x="190" y="246"/>
                      </a:lnTo>
                      <a:lnTo>
                        <a:pt x="195" y="257"/>
                      </a:lnTo>
                      <a:lnTo>
                        <a:pt x="198" y="269"/>
                      </a:lnTo>
                      <a:lnTo>
                        <a:pt x="200" y="281"/>
                      </a:lnTo>
                      <a:lnTo>
                        <a:pt x="200" y="294"/>
                      </a:lnTo>
                      <a:lnTo>
                        <a:pt x="197" y="324"/>
                      </a:lnTo>
                      <a:lnTo>
                        <a:pt x="191" y="367"/>
                      </a:lnTo>
                      <a:lnTo>
                        <a:pt x="185" y="408"/>
                      </a:lnTo>
                      <a:lnTo>
                        <a:pt x="181" y="438"/>
                      </a:lnTo>
                      <a:lnTo>
                        <a:pt x="177" y="466"/>
                      </a:lnTo>
                      <a:lnTo>
                        <a:pt x="176" y="490"/>
                      </a:lnTo>
                      <a:lnTo>
                        <a:pt x="178" y="513"/>
                      </a:lnTo>
                      <a:lnTo>
                        <a:pt x="182" y="534"/>
                      </a:lnTo>
                      <a:lnTo>
                        <a:pt x="188" y="552"/>
                      </a:lnTo>
                      <a:lnTo>
                        <a:pt x="196" y="568"/>
                      </a:lnTo>
                      <a:lnTo>
                        <a:pt x="203" y="582"/>
                      </a:lnTo>
                      <a:lnTo>
                        <a:pt x="211" y="593"/>
                      </a:lnTo>
                      <a:lnTo>
                        <a:pt x="220" y="606"/>
                      </a:lnTo>
                      <a:lnTo>
                        <a:pt x="231" y="618"/>
                      </a:lnTo>
                      <a:lnTo>
                        <a:pt x="243" y="629"/>
                      </a:lnTo>
                      <a:lnTo>
                        <a:pt x="256" y="638"/>
                      </a:lnTo>
                      <a:lnTo>
                        <a:pt x="271" y="649"/>
                      </a:lnTo>
                      <a:lnTo>
                        <a:pt x="287" y="657"/>
                      </a:lnTo>
                      <a:lnTo>
                        <a:pt x="306" y="665"/>
                      </a:lnTo>
                      <a:lnTo>
                        <a:pt x="328" y="673"/>
                      </a:lnTo>
                      <a:lnTo>
                        <a:pt x="345" y="678"/>
                      </a:lnTo>
                      <a:lnTo>
                        <a:pt x="363" y="681"/>
                      </a:lnTo>
                      <a:lnTo>
                        <a:pt x="381" y="683"/>
                      </a:lnTo>
                      <a:lnTo>
                        <a:pt x="400" y="686"/>
                      </a:lnTo>
                      <a:lnTo>
                        <a:pt x="417" y="687"/>
                      </a:lnTo>
                      <a:lnTo>
                        <a:pt x="434" y="687"/>
                      </a:lnTo>
                      <a:lnTo>
                        <a:pt x="451" y="687"/>
                      </a:lnTo>
                      <a:lnTo>
                        <a:pt x="468" y="686"/>
                      </a:lnTo>
                      <a:lnTo>
                        <a:pt x="483" y="684"/>
                      </a:lnTo>
                      <a:lnTo>
                        <a:pt x="496" y="683"/>
                      </a:lnTo>
                      <a:lnTo>
                        <a:pt x="509" y="682"/>
                      </a:lnTo>
                      <a:lnTo>
                        <a:pt x="519" y="681"/>
                      </a:lnTo>
                      <a:lnTo>
                        <a:pt x="529" y="680"/>
                      </a:lnTo>
                      <a:lnTo>
                        <a:pt x="534" y="679"/>
                      </a:lnTo>
                      <a:lnTo>
                        <a:pt x="539" y="678"/>
                      </a:lnTo>
                      <a:lnTo>
                        <a:pt x="540" y="678"/>
                      </a:lnTo>
                      <a:lnTo>
                        <a:pt x="574" y="673"/>
                      </a:lnTo>
                      <a:lnTo>
                        <a:pt x="581" y="569"/>
                      </a:lnTo>
                      <a:lnTo>
                        <a:pt x="578" y="572"/>
                      </a:lnTo>
                      <a:lnTo>
                        <a:pt x="572" y="576"/>
                      </a:lnTo>
                      <a:lnTo>
                        <a:pt x="564" y="583"/>
                      </a:lnTo>
                      <a:lnTo>
                        <a:pt x="554" y="591"/>
                      </a:lnTo>
                      <a:lnTo>
                        <a:pt x="541" y="600"/>
                      </a:lnTo>
                      <a:lnTo>
                        <a:pt x="529" y="607"/>
                      </a:lnTo>
                      <a:lnTo>
                        <a:pt x="515" y="612"/>
                      </a:lnTo>
                      <a:lnTo>
                        <a:pt x="502" y="614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AutoShape 14"/>
                <p:cNvSpPr/>
                <p:nvPr/>
              </p:nvSpPr>
              <p:spPr>
                <a:xfrm rot="20460000">
                  <a:off x="4518000" y="1763640"/>
                  <a:ext cx="742680" cy="517680"/>
                </a:xfrm>
                <a:custGeom>
                  <a:avLst/>
                  <a:gdLst>
                    <a:gd name="textAreaLeft" fmla="*/ 0 w 742680"/>
                    <a:gd name="textAreaRight" fmla="*/ 743040 w 742680"/>
                    <a:gd name="textAreaTop" fmla="*/ 0 h 517680"/>
                    <a:gd name="textAreaBottom" fmla="*/ 518040 h 517680"/>
                  </a:gdLst>
                  <a:ahLst/>
                  <a:rect l="textAreaLeft" t="textAreaTop" r="textAreaRight" b="textAreaBottom"/>
                  <a:pathLst>
                    <a:path w="736" h="537">
                      <a:moveTo>
                        <a:pt x="392" y="537"/>
                      </a:moveTo>
                      <a:lnTo>
                        <a:pt x="364" y="536"/>
                      </a:lnTo>
                      <a:lnTo>
                        <a:pt x="337" y="532"/>
                      </a:lnTo>
                      <a:lnTo>
                        <a:pt x="310" y="529"/>
                      </a:lnTo>
                      <a:lnTo>
                        <a:pt x="285" y="526"/>
                      </a:lnTo>
                      <a:lnTo>
                        <a:pt x="264" y="521"/>
                      </a:lnTo>
                      <a:lnTo>
                        <a:pt x="248" y="519"/>
                      </a:lnTo>
                      <a:lnTo>
                        <a:pt x="236" y="516"/>
                      </a:lnTo>
                      <a:lnTo>
                        <a:pt x="233" y="515"/>
                      </a:lnTo>
                      <a:lnTo>
                        <a:pt x="210" y="507"/>
                      </a:lnTo>
                      <a:lnTo>
                        <a:pt x="187" y="493"/>
                      </a:lnTo>
                      <a:lnTo>
                        <a:pt x="165" y="477"/>
                      </a:lnTo>
                      <a:lnTo>
                        <a:pt x="144" y="460"/>
                      </a:lnTo>
                      <a:lnTo>
                        <a:pt x="127" y="443"/>
                      </a:lnTo>
                      <a:lnTo>
                        <a:pt x="113" y="429"/>
                      </a:lnTo>
                      <a:lnTo>
                        <a:pt x="104" y="418"/>
                      </a:lnTo>
                      <a:lnTo>
                        <a:pt x="100" y="415"/>
                      </a:lnTo>
                      <a:lnTo>
                        <a:pt x="98" y="412"/>
                      </a:lnTo>
                      <a:lnTo>
                        <a:pt x="93" y="402"/>
                      </a:lnTo>
                      <a:lnTo>
                        <a:pt x="87" y="387"/>
                      </a:lnTo>
                      <a:lnTo>
                        <a:pt x="77" y="370"/>
                      </a:lnTo>
                      <a:lnTo>
                        <a:pt x="68" y="349"/>
                      </a:lnTo>
                      <a:lnTo>
                        <a:pt x="58" y="329"/>
                      </a:lnTo>
                      <a:lnTo>
                        <a:pt x="49" y="307"/>
                      </a:lnTo>
                      <a:lnTo>
                        <a:pt x="40" y="287"/>
                      </a:lnTo>
                      <a:lnTo>
                        <a:pt x="37" y="279"/>
                      </a:lnTo>
                      <a:lnTo>
                        <a:pt x="31" y="268"/>
                      </a:lnTo>
                      <a:lnTo>
                        <a:pt x="26" y="254"/>
                      </a:lnTo>
                      <a:lnTo>
                        <a:pt x="19" y="238"/>
                      </a:lnTo>
                      <a:lnTo>
                        <a:pt x="12" y="224"/>
                      </a:lnTo>
                      <a:lnTo>
                        <a:pt x="6" y="211"/>
                      </a:lnTo>
                      <a:lnTo>
                        <a:pt x="1" y="203"/>
                      </a:lnTo>
                      <a:lnTo>
                        <a:pt x="0" y="200"/>
                      </a:lnTo>
                      <a:lnTo>
                        <a:pt x="75" y="152"/>
                      </a:lnTo>
                      <a:lnTo>
                        <a:pt x="76" y="154"/>
                      </a:lnTo>
                      <a:lnTo>
                        <a:pt x="81" y="158"/>
                      </a:lnTo>
                      <a:lnTo>
                        <a:pt x="87" y="165"/>
                      </a:lnTo>
                      <a:lnTo>
                        <a:pt x="93" y="172"/>
                      </a:lnTo>
                      <a:lnTo>
                        <a:pt x="102" y="181"/>
                      </a:lnTo>
                      <a:lnTo>
                        <a:pt x="107" y="188"/>
                      </a:lnTo>
                      <a:lnTo>
                        <a:pt x="113" y="195"/>
                      </a:lnTo>
                      <a:lnTo>
                        <a:pt x="115" y="200"/>
                      </a:lnTo>
                      <a:lnTo>
                        <a:pt x="121" y="215"/>
                      </a:lnTo>
                      <a:lnTo>
                        <a:pt x="128" y="234"/>
                      </a:lnTo>
                      <a:lnTo>
                        <a:pt x="136" y="256"/>
                      </a:lnTo>
                      <a:lnTo>
                        <a:pt x="144" y="280"/>
                      </a:lnTo>
                      <a:lnTo>
                        <a:pt x="153" y="304"/>
                      </a:lnTo>
                      <a:lnTo>
                        <a:pt x="164" y="326"/>
                      </a:lnTo>
                      <a:lnTo>
                        <a:pt x="173" y="347"/>
                      </a:lnTo>
                      <a:lnTo>
                        <a:pt x="182" y="362"/>
                      </a:lnTo>
                      <a:lnTo>
                        <a:pt x="194" y="375"/>
                      </a:lnTo>
                      <a:lnTo>
                        <a:pt x="208" y="387"/>
                      </a:lnTo>
                      <a:lnTo>
                        <a:pt x="225" y="400"/>
                      </a:lnTo>
                      <a:lnTo>
                        <a:pt x="244" y="410"/>
                      </a:lnTo>
                      <a:lnTo>
                        <a:pt x="269" y="418"/>
                      </a:lnTo>
                      <a:lnTo>
                        <a:pt x="295" y="427"/>
                      </a:lnTo>
                      <a:lnTo>
                        <a:pt x="324" y="431"/>
                      </a:lnTo>
                      <a:lnTo>
                        <a:pt x="357" y="435"/>
                      </a:lnTo>
                      <a:lnTo>
                        <a:pt x="372" y="435"/>
                      </a:lnTo>
                      <a:lnTo>
                        <a:pt x="394" y="433"/>
                      </a:lnTo>
                      <a:lnTo>
                        <a:pt x="421" y="432"/>
                      </a:lnTo>
                      <a:lnTo>
                        <a:pt x="448" y="430"/>
                      </a:lnTo>
                      <a:lnTo>
                        <a:pt x="474" y="428"/>
                      </a:lnTo>
                      <a:lnTo>
                        <a:pt x="497" y="427"/>
                      </a:lnTo>
                      <a:lnTo>
                        <a:pt x="512" y="424"/>
                      </a:lnTo>
                      <a:lnTo>
                        <a:pt x="517" y="424"/>
                      </a:lnTo>
                      <a:lnTo>
                        <a:pt x="625" y="370"/>
                      </a:lnTo>
                      <a:lnTo>
                        <a:pt x="626" y="357"/>
                      </a:lnTo>
                      <a:lnTo>
                        <a:pt x="629" y="329"/>
                      </a:lnTo>
                      <a:lnTo>
                        <a:pt x="630" y="295"/>
                      </a:lnTo>
                      <a:lnTo>
                        <a:pt x="629" y="270"/>
                      </a:lnTo>
                      <a:lnTo>
                        <a:pt x="627" y="261"/>
                      </a:lnTo>
                      <a:lnTo>
                        <a:pt x="625" y="251"/>
                      </a:lnTo>
                      <a:lnTo>
                        <a:pt x="620" y="241"/>
                      </a:lnTo>
                      <a:lnTo>
                        <a:pt x="615" y="231"/>
                      </a:lnTo>
                      <a:lnTo>
                        <a:pt x="608" y="219"/>
                      </a:lnTo>
                      <a:lnTo>
                        <a:pt x="600" y="208"/>
                      </a:lnTo>
                      <a:lnTo>
                        <a:pt x="591" y="196"/>
                      </a:lnTo>
                      <a:lnTo>
                        <a:pt x="580" y="185"/>
                      </a:lnTo>
                      <a:lnTo>
                        <a:pt x="570" y="177"/>
                      </a:lnTo>
                      <a:lnTo>
                        <a:pt x="558" y="167"/>
                      </a:lnTo>
                      <a:lnTo>
                        <a:pt x="544" y="156"/>
                      </a:lnTo>
                      <a:lnTo>
                        <a:pt x="527" y="144"/>
                      </a:lnTo>
                      <a:lnTo>
                        <a:pt x="508" y="134"/>
                      </a:lnTo>
                      <a:lnTo>
                        <a:pt x="490" y="124"/>
                      </a:lnTo>
                      <a:lnTo>
                        <a:pt x="470" y="114"/>
                      </a:lnTo>
                      <a:lnTo>
                        <a:pt x="451" y="108"/>
                      </a:lnTo>
                      <a:lnTo>
                        <a:pt x="447" y="110"/>
                      </a:lnTo>
                      <a:lnTo>
                        <a:pt x="441" y="119"/>
                      </a:lnTo>
                      <a:lnTo>
                        <a:pt x="432" y="134"/>
                      </a:lnTo>
                      <a:lnTo>
                        <a:pt x="421" y="151"/>
                      </a:lnTo>
                      <a:lnTo>
                        <a:pt x="406" y="172"/>
                      </a:lnTo>
                      <a:lnTo>
                        <a:pt x="388" y="194"/>
                      </a:lnTo>
                      <a:lnTo>
                        <a:pt x="367" y="216"/>
                      </a:lnTo>
                      <a:lnTo>
                        <a:pt x="341" y="237"/>
                      </a:lnTo>
                      <a:lnTo>
                        <a:pt x="315" y="251"/>
                      </a:lnTo>
                      <a:lnTo>
                        <a:pt x="287" y="264"/>
                      </a:lnTo>
                      <a:lnTo>
                        <a:pt x="258" y="275"/>
                      </a:lnTo>
                      <a:lnTo>
                        <a:pt x="231" y="284"/>
                      </a:lnTo>
                      <a:lnTo>
                        <a:pt x="205" y="289"/>
                      </a:lnTo>
                      <a:lnTo>
                        <a:pt x="186" y="294"/>
                      </a:lnTo>
                      <a:lnTo>
                        <a:pt x="172" y="296"/>
                      </a:lnTo>
                      <a:lnTo>
                        <a:pt x="167" y="298"/>
                      </a:lnTo>
                      <a:lnTo>
                        <a:pt x="150" y="245"/>
                      </a:lnTo>
                      <a:lnTo>
                        <a:pt x="218" y="228"/>
                      </a:lnTo>
                      <a:lnTo>
                        <a:pt x="300" y="186"/>
                      </a:lnTo>
                      <a:lnTo>
                        <a:pt x="352" y="129"/>
                      </a:lnTo>
                      <a:lnTo>
                        <a:pt x="377" y="78"/>
                      </a:lnTo>
                      <a:lnTo>
                        <a:pt x="379" y="74"/>
                      </a:lnTo>
                      <a:lnTo>
                        <a:pt x="384" y="65"/>
                      </a:lnTo>
                      <a:lnTo>
                        <a:pt x="392" y="51"/>
                      </a:lnTo>
                      <a:lnTo>
                        <a:pt x="401" y="36"/>
                      </a:lnTo>
                      <a:lnTo>
                        <a:pt x="410" y="22"/>
                      </a:lnTo>
                      <a:lnTo>
                        <a:pt x="420" y="10"/>
                      </a:lnTo>
                      <a:lnTo>
                        <a:pt x="426" y="2"/>
                      </a:lnTo>
                      <a:lnTo>
                        <a:pt x="432" y="0"/>
                      </a:lnTo>
                      <a:lnTo>
                        <a:pt x="440" y="4"/>
                      </a:lnTo>
                      <a:lnTo>
                        <a:pt x="456" y="10"/>
                      </a:lnTo>
                      <a:lnTo>
                        <a:pt x="478" y="18"/>
                      </a:lnTo>
                      <a:lnTo>
                        <a:pt x="504" y="26"/>
                      </a:lnTo>
                      <a:lnTo>
                        <a:pt x="530" y="35"/>
                      </a:lnTo>
                      <a:lnTo>
                        <a:pt x="557" y="45"/>
                      </a:lnTo>
                      <a:lnTo>
                        <a:pt x="581" y="55"/>
                      </a:lnTo>
                      <a:lnTo>
                        <a:pt x="602" y="65"/>
                      </a:lnTo>
                      <a:lnTo>
                        <a:pt x="615" y="74"/>
                      </a:lnTo>
                      <a:lnTo>
                        <a:pt x="631" y="86"/>
                      </a:lnTo>
                      <a:lnTo>
                        <a:pt x="648" y="99"/>
                      </a:lnTo>
                      <a:lnTo>
                        <a:pt x="665" y="116"/>
                      </a:lnTo>
                      <a:lnTo>
                        <a:pt x="681" y="132"/>
                      </a:lnTo>
                      <a:lnTo>
                        <a:pt x="696" y="150"/>
                      </a:lnTo>
                      <a:lnTo>
                        <a:pt x="709" y="167"/>
                      </a:lnTo>
                      <a:lnTo>
                        <a:pt x="719" y="185"/>
                      </a:lnTo>
                      <a:lnTo>
                        <a:pt x="732" y="222"/>
                      </a:lnTo>
                      <a:lnTo>
                        <a:pt x="736" y="262"/>
                      </a:lnTo>
                      <a:lnTo>
                        <a:pt x="734" y="303"/>
                      </a:lnTo>
                      <a:lnTo>
                        <a:pt x="725" y="340"/>
                      </a:lnTo>
                      <a:lnTo>
                        <a:pt x="713" y="362"/>
                      </a:lnTo>
                      <a:lnTo>
                        <a:pt x="695" y="389"/>
                      </a:lnTo>
                      <a:lnTo>
                        <a:pt x="671" y="418"/>
                      </a:lnTo>
                      <a:lnTo>
                        <a:pt x="644" y="448"/>
                      </a:lnTo>
                      <a:lnTo>
                        <a:pt x="618" y="477"/>
                      </a:lnTo>
                      <a:lnTo>
                        <a:pt x="592" y="500"/>
                      </a:lnTo>
                      <a:lnTo>
                        <a:pt x="570" y="519"/>
                      </a:lnTo>
                      <a:lnTo>
                        <a:pt x="554" y="527"/>
                      </a:lnTo>
                      <a:lnTo>
                        <a:pt x="392" y="537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15"/>
                <p:cNvSpPr/>
                <p:nvPr/>
              </p:nvSpPr>
              <p:spPr>
                <a:xfrm rot="20460000">
                  <a:off x="5118120" y="2082960"/>
                  <a:ext cx="121320" cy="94320"/>
                </a:xfrm>
                <a:custGeom>
                  <a:avLst/>
                  <a:gdLst>
                    <a:gd name="textAreaLeft" fmla="*/ 0 w 121320"/>
                    <a:gd name="textAreaRight" fmla="*/ 121680 w 121320"/>
                    <a:gd name="textAreaTop" fmla="*/ 0 h 94320"/>
                    <a:gd name="textAreaBottom" fmla="*/ 94680 h 94320"/>
                  </a:gdLst>
                  <a:ahLst/>
                  <a:rect l="textAreaLeft" t="textAreaTop" r="textAreaRight" b="textAreaBottom"/>
                  <a:pathLst>
                    <a:path w="120" h="99">
                      <a:moveTo>
                        <a:pt x="60" y="99"/>
                      </a:moveTo>
                      <a:lnTo>
                        <a:pt x="73" y="98"/>
                      </a:lnTo>
                      <a:lnTo>
                        <a:pt x="83" y="95"/>
                      </a:lnTo>
                      <a:lnTo>
                        <a:pt x="93" y="91"/>
                      </a:lnTo>
                      <a:lnTo>
                        <a:pt x="103" y="84"/>
                      </a:lnTo>
                      <a:lnTo>
                        <a:pt x="109" y="77"/>
                      </a:lnTo>
                      <a:lnTo>
                        <a:pt x="115" y="69"/>
                      </a:lnTo>
                      <a:lnTo>
                        <a:pt x="119" y="60"/>
                      </a:lnTo>
                      <a:lnTo>
                        <a:pt x="120" y="49"/>
                      </a:lnTo>
                      <a:lnTo>
                        <a:pt x="119" y="39"/>
                      </a:lnTo>
                      <a:lnTo>
                        <a:pt x="115" y="30"/>
                      </a:lnTo>
                      <a:lnTo>
                        <a:pt x="109" y="22"/>
                      </a:lnTo>
                      <a:lnTo>
                        <a:pt x="103" y="14"/>
                      </a:lnTo>
                      <a:lnTo>
                        <a:pt x="93" y="8"/>
                      </a:lnTo>
                      <a:lnTo>
                        <a:pt x="83" y="3"/>
                      </a:lnTo>
                      <a:lnTo>
                        <a:pt x="73" y="1"/>
                      </a:lnTo>
                      <a:lnTo>
                        <a:pt x="60" y="0"/>
                      </a:lnTo>
                      <a:lnTo>
                        <a:pt x="47" y="1"/>
                      </a:lnTo>
                      <a:lnTo>
                        <a:pt x="37" y="3"/>
                      </a:lnTo>
                      <a:lnTo>
                        <a:pt x="27" y="8"/>
                      </a:lnTo>
                      <a:lnTo>
                        <a:pt x="17" y="14"/>
                      </a:lnTo>
                      <a:lnTo>
                        <a:pt x="10" y="22"/>
                      </a:lnTo>
                      <a:lnTo>
                        <a:pt x="5" y="30"/>
                      </a:lnTo>
                      <a:lnTo>
                        <a:pt x="1" y="39"/>
                      </a:lnTo>
                      <a:lnTo>
                        <a:pt x="0" y="49"/>
                      </a:lnTo>
                      <a:lnTo>
                        <a:pt x="1" y="60"/>
                      </a:lnTo>
                      <a:lnTo>
                        <a:pt x="5" y="69"/>
                      </a:lnTo>
                      <a:lnTo>
                        <a:pt x="10" y="77"/>
                      </a:lnTo>
                      <a:lnTo>
                        <a:pt x="17" y="84"/>
                      </a:lnTo>
                      <a:lnTo>
                        <a:pt x="27" y="91"/>
                      </a:lnTo>
                      <a:lnTo>
                        <a:pt x="37" y="95"/>
                      </a:lnTo>
                      <a:lnTo>
                        <a:pt x="47" y="98"/>
                      </a:lnTo>
                      <a:lnTo>
                        <a:pt x="60" y="9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16"/>
                <p:cNvSpPr/>
                <p:nvPr/>
              </p:nvSpPr>
              <p:spPr>
                <a:xfrm rot="20460000">
                  <a:off x="4485960" y="1524600"/>
                  <a:ext cx="362880" cy="376560"/>
                </a:xfrm>
                <a:custGeom>
                  <a:avLst/>
                  <a:gdLst>
                    <a:gd name="textAreaLeft" fmla="*/ 0 w 362880"/>
                    <a:gd name="textAreaRight" fmla="*/ 362880 w 362880"/>
                    <a:gd name="textAreaTop" fmla="*/ 0 h 376560"/>
                    <a:gd name="textAreaBottom" fmla="*/ 376920 h 376560"/>
                  </a:gdLst>
                  <a:ahLst/>
                  <a:rect l="textAreaLeft" t="textAreaTop" r="textAreaRight" b="textAreaBottom"/>
                  <a:pathLst>
                    <a:path w="360" h="392">
                      <a:moveTo>
                        <a:pt x="40" y="74"/>
                      </a:moveTo>
                      <a:lnTo>
                        <a:pt x="42" y="74"/>
                      </a:lnTo>
                      <a:lnTo>
                        <a:pt x="45" y="75"/>
                      </a:lnTo>
                      <a:lnTo>
                        <a:pt x="51" y="75"/>
                      </a:lnTo>
                      <a:lnTo>
                        <a:pt x="58" y="76"/>
                      </a:lnTo>
                      <a:lnTo>
                        <a:pt x="65" y="77"/>
                      </a:lnTo>
                      <a:lnTo>
                        <a:pt x="73" y="78"/>
                      </a:lnTo>
                      <a:lnTo>
                        <a:pt x="81" y="80"/>
                      </a:lnTo>
                      <a:lnTo>
                        <a:pt x="88" y="81"/>
                      </a:lnTo>
                      <a:lnTo>
                        <a:pt x="95" y="83"/>
                      </a:lnTo>
                      <a:lnTo>
                        <a:pt x="103" y="88"/>
                      </a:lnTo>
                      <a:lnTo>
                        <a:pt x="111" y="92"/>
                      </a:lnTo>
                      <a:lnTo>
                        <a:pt x="119" y="98"/>
                      </a:lnTo>
                      <a:lnTo>
                        <a:pt x="127" y="105"/>
                      </a:lnTo>
                      <a:lnTo>
                        <a:pt x="134" y="111"/>
                      </a:lnTo>
                      <a:lnTo>
                        <a:pt x="138" y="116"/>
                      </a:lnTo>
                      <a:lnTo>
                        <a:pt x="142" y="121"/>
                      </a:lnTo>
                      <a:lnTo>
                        <a:pt x="145" y="127"/>
                      </a:lnTo>
                      <a:lnTo>
                        <a:pt x="150" y="137"/>
                      </a:lnTo>
                      <a:lnTo>
                        <a:pt x="157" y="151"/>
                      </a:lnTo>
                      <a:lnTo>
                        <a:pt x="164" y="166"/>
                      </a:lnTo>
                      <a:lnTo>
                        <a:pt x="171" y="182"/>
                      </a:lnTo>
                      <a:lnTo>
                        <a:pt x="178" y="198"/>
                      </a:lnTo>
                      <a:lnTo>
                        <a:pt x="182" y="213"/>
                      </a:lnTo>
                      <a:lnTo>
                        <a:pt x="186" y="226"/>
                      </a:lnTo>
                      <a:lnTo>
                        <a:pt x="188" y="239"/>
                      </a:lnTo>
                      <a:lnTo>
                        <a:pt x="193" y="252"/>
                      </a:lnTo>
                      <a:lnTo>
                        <a:pt x="197" y="266"/>
                      </a:lnTo>
                      <a:lnTo>
                        <a:pt x="203" y="281"/>
                      </a:lnTo>
                      <a:lnTo>
                        <a:pt x="209" y="296"/>
                      </a:lnTo>
                      <a:lnTo>
                        <a:pt x="214" y="309"/>
                      </a:lnTo>
                      <a:lnTo>
                        <a:pt x="220" y="320"/>
                      </a:lnTo>
                      <a:lnTo>
                        <a:pt x="225" y="328"/>
                      </a:lnTo>
                      <a:lnTo>
                        <a:pt x="231" y="336"/>
                      </a:lnTo>
                      <a:lnTo>
                        <a:pt x="241" y="346"/>
                      </a:lnTo>
                      <a:lnTo>
                        <a:pt x="254" y="356"/>
                      </a:lnTo>
                      <a:lnTo>
                        <a:pt x="266" y="366"/>
                      </a:lnTo>
                      <a:lnTo>
                        <a:pt x="279" y="377"/>
                      </a:lnTo>
                      <a:lnTo>
                        <a:pt x="290" y="385"/>
                      </a:lnTo>
                      <a:lnTo>
                        <a:pt x="298" y="389"/>
                      </a:lnTo>
                      <a:lnTo>
                        <a:pt x="301" y="392"/>
                      </a:lnTo>
                      <a:lnTo>
                        <a:pt x="316" y="346"/>
                      </a:lnTo>
                      <a:lnTo>
                        <a:pt x="360" y="317"/>
                      </a:lnTo>
                      <a:lnTo>
                        <a:pt x="326" y="283"/>
                      </a:lnTo>
                      <a:lnTo>
                        <a:pt x="324" y="277"/>
                      </a:lnTo>
                      <a:lnTo>
                        <a:pt x="316" y="258"/>
                      </a:lnTo>
                      <a:lnTo>
                        <a:pt x="305" y="230"/>
                      </a:lnTo>
                      <a:lnTo>
                        <a:pt x="294" y="199"/>
                      </a:lnTo>
                      <a:lnTo>
                        <a:pt x="280" y="166"/>
                      </a:lnTo>
                      <a:lnTo>
                        <a:pt x="267" y="136"/>
                      </a:lnTo>
                      <a:lnTo>
                        <a:pt x="257" y="111"/>
                      </a:lnTo>
                      <a:lnTo>
                        <a:pt x="250" y="96"/>
                      </a:lnTo>
                      <a:lnTo>
                        <a:pt x="244" y="87"/>
                      </a:lnTo>
                      <a:lnTo>
                        <a:pt x="237" y="77"/>
                      </a:lnTo>
                      <a:lnTo>
                        <a:pt x="228" y="68"/>
                      </a:lnTo>
                      <a:lnTo>
                        <a:pt x="219" y="59"/>
                      </a:lnTo>
                      <a:lnTo>
                        <a:pt x="211" y="51"/>
                      </a:lnTo>
                      <a:lnTo>
                        <a:pt x="202" y="44"/>
                      </a:lnTo>
                      <a:lnTo>
                        <a:pt x="195" y="38"/>
                      </a:lnTo>
                      <a:lnTo>
                        <a:pt x="190" y="35"/>
                      </a:lnTo>
                      <a:lnTo>
                        <a:pt x="181" y="28"/>
                      </a:lnTo>
                      <a:lnTo>
                        <a:pt x="173" y="22"/>
                      </a:lnTo>
                      <a:lnTo>
                        <a:pt x="164" y="17"/>
                      </a:lnTo>
                      <a:lnTo>
                        <a:pt x="154" y="13"/>
                      </a:lnTo>
                      <a:lnTo>
                        <a:pt x="146" y="9"/>
                      </a:lnTo>
                      <a:lnTo>
                        <a:pt x="138" y="6"/>
                      </a:lnTo>
                      <a:lnTo>
                        <a:pt x="131" y="4"/>
                      </a:lnTo>
                      <a:lnTo>
                        <a:pt x="126" y="2"/>
                      </a:lnTo>
                      <a:lnTo>
                        <a:pt x="120" y="1"/>
                      </a:lnTo>
                      <a:lnTo>
                        <a:pt x="115" y="1"/>
                      </a:lnTo>
                      <a:lnTo>
                        <a:pt x="110" y="0"/>
                      </a:lnTo>
                      <a:lnTo>
                        <a:pt x="105" y="0"/>
                      </a:lnTo>
                      <a:lnTo>
                        <a:pt x="100" y="0"/>
                      </a:lnTo>
                      <a:lnTo>
                        <a:pt x="97" y="0"/>
                      </a:lnTo>
                      <a:lnTo>
                        <a:pt x="92" y="0"/>
                      </a:lnTo>
                      <a:lnTo>
                        <a:pt x="89" y="0"/>
                      </a:lnTo>
                      <a:lnTo>
                        <a:pt x="81" y="0"/>
                      </a:lnTo>
                      <a:lnTo>
                        <a:pt x="74" y="1"/>
                      </a:lnTo>
                      <a:lnTo>
                        <a:pt x="68" y="2"/>
                      </a:lnTo>
                      <a:lnTo>
                        <a:pt x="62" y="2"/>
                      </a:lnTo>
                      <a:lnTo>
                        <a:pt x="57" y="4"/>
                      </a:lnTo>
                      <a:lnTo>
                        <a:pt x="52" y="5"/>
                      </a:lnTo>
                      <a:lnTo>
                        <a:pt x="47" y="6"/>
                      </a:lnTo>
                      <a:lnTo>
                        <a:pt x="43" y="6"/>
                      </a:lnTo>
                      <a:lnTo>
                        <a:pt x="36" y="7"/>
                      </a:lnTo>
                      <a:lnTo>
                        <a:pt x="29" y="9"/>
                      </a:lnTo>
                      <a:lnTo>
                        <a:pt x="22" y="12"/>
                      </a:lnTo>
                      <a:lnTo>
                        <a:pt x="15" y="14"/>
                      </a:lnTo>
                      <a:lnTo>
                        <a:pt x="9" y="16"/>
                      </a:lnTo>
                      <a:lnTo>
                        <a:pt x="5" y="17"/>
                      </a:lnTo>
                      <a:lnTo>
                        <a:pt x="1" y="20"/>
                      </a:lnTo>
                      <a:lnTo>
                        <a:pt x="0" y="20"/>
                      </a:lnTo>
                      <a:lnTo>
                        <a:pt x="40" y="74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17"/>
                <p:cNvSpPr/>
                <p:nvPr/>
              </p:nvSpPr>
              <p:spPr>
                <a:xfrm rot="20460000">
                  <a:off x="4192920" y="1740960"/>
                  <a:ext cx="347400" cy="380160"/>
                </a:xfrm>
                <a:custGeom>
                  <a:avLst/>
                  <a:gdLst>
                    <a:gd name="textAreaLeft" fmla="*/ 0 w 347400"/>
                    <a:gd name="textAreaRight" fmla="*/ 347760 w 347400"/>
                    <a:gd name="textAreaTop" fmla="*/ 0 h 380160"/>
                    <a:gd name="textAreaBottom" fmla="*/ 380520 h 380160"/>
                  </a:gdLst>
                  <a:ahLst/>
                  <a:rect l="textAreaLeft" t="textAreaTop" r="textAreaRight" b="textAreaBottom"/>
                  <a:pathLst>
                    <a:path w="346" h="393">
                      <a:moveTo>
                        <a:pt x="126" y="0"/>
                      </a:moveTo>
                      <a:lnTo>
                        <a:pt x="122" y="2"/>
                      </a:lnTo>
                      <a:lnTo>
                        <a:pt x="111" y="9"/>
                      </a:lnTo>
                      <a:lnTo>
                        <a:pt x="96" y="19"/>
                      </a:lnTo>
                      <a:lnTo>
                        <a:pt x="77" y="32"/>
                      </a:lnTo>
                      <a:lnTo>
                        <a:pt x="59" y="47"/>
                      </a:lnTo>
                      <a:lnTo>
                        <a:pt x="40" y="63"/>
                      </a:lnTo>
                      <a:lnTo>
                        <a:pt x="25" y="78"/>
                      </a:lnTo>
                      <a:lnTo>
                        <a:pt x="15" y="93"/>
                      </a:lnTo>
                      <a:lnTo>
                        <a:pt x="5" y="121"/>
                      </a:lnTo>
                      <a:lnTo>
                        <a:pt x="0" y="156"/>
                      </a:lnTo>
                      <a:lnTo>
                        <a:pt x="2" y="194"/>
                      </a:lnTo>
                      <a:lnTo>
                        <a:pt x="14" y="232"/>
                      </a:lnTo>
                      <a:lnTo>
                        <a:pt x="23" y="247"/>
                      </a:lnTo>
                      <a:lnTo>
                        <a:pt x="36" y="261"/>
                      </a:lnTo>
                      <a:lnTo>
                        <a:pt x="52" y="276"/>
                      </a:lnTo>
                      <a:lnTo>
                        <a:pt x="71" y="290"/>
                      </a:lnTo>
                      <a:lnTo>
                        <a:pt x="92" y="304"/>
                      </a:lnTo>
                      <a:lnTo>
                        <a:pt x="114" y="317"/>
                      </a:lnTo>
                      <a:lnTo>
                        <a:pt x="137" y="330"/>
                      </a:lnTo>
                      <a:lnTo>
                        <a:pt x="160" y="342"/>
                      </a:lnTo>
                      <a:lnTo>
                        <a:pt x="183" y="353"/>
                      </a:lnTo>
                      <a:lnTo>
                        <a:pt x="204" y="362"/>
                      </a:lnTo>
                      <a:lnTo>
                        <a:pt x="225" y="372"/>
                      </a:lnTo>
                      <a:lnTo>
                        <a:pt x="242" y="380"/>
                      </a:lnTo>
                      <a:lnTo>
                        <a:pt x="257" y="385"/>
                      </a:lnTo>
                      <a:lnTo>
                        <a:pt x="268" y="390"/>
                      </a:lnTo>
                      <a:lnTo>
                        <a:pt x="275" y="392"/>
                      </a:lnTo>
                      <a:lnTo>
                        <a:pt x="278" y="393"/>
                      </a:lnTo>
                      <a:lnTo>
                        <a:pt x="346" y="342"/>
                      </a:lnTo>
                      <a:lnTo>
                        <a:pt x="343" y="340"/>
                      </a:lnTo>
                      <a:lnTo>
                        <a:pt x="338" y="337"/>
                      </a:lnTo>
                      <a:lnTo>
                        <a:pt x="327" y="331"/>
                      </a:lnTo>
                      <a:lnTo>
                        <a:pt x="315" y="323"/>
                      </a:lnTo>
                      <a:lnTo>
                        <a:pt x="300" y="315"/>
                      </a:lnTo>
                      <a:lnTo>
                        <a:pt x="282" y="305"/>
                      </a:lnTo>
                      <a:lnTo>
                        <a:pt x="264" y="293"/>
                      </a:lnTo>
                      <a:lnTo>
                        <a:pt x="244" y="282"/>
                      </a:lnTo>
                      <a:lnTo>
                        <a:pt x="224" y="269"/>
                      </a:lnTo>
                      <a:lnTo>
                        <a:pt x="204" y="256"/>
                      </a:lnTo>
                      <a:lnTo>
                        <a:pt x="184" y="245"/>
                      </a:lnTo>
                      <a:lnTo>
                        <a:pt x="167" y="232"/>
                      </a:lnTo>
                      <a:lnTo>
                        <a:pt x="151" y="222"/>
                      </a:lnTo>
                      <a:lnTo>
                        <a:pt x="136" y="211"/>
                      </a:lnTo>
                      <a:lnTo>
                        <a:pt x="124" y="202"/>
                      </a:lnTo>
                      <a:lnTo>
                        <a:pt x="116" y="195"/>
                      </a:lnTo>
                      <a:lnTo>
                        <a:pt x="106" y="183"/>
                      </a:lnTo>
                      <a:lnTo>
                        <a:pt x="99" y="170"/>
                      </a:lnTo>
                      <a:lnTo>
                        <a:pt x="96" y="159"/>
                      </a:lnTo>
                      <a:lnTo>
                        <a:pt x="96" y="148"/>
                      </a:lnTo>
                      <a:lnTo>
                        <a:pt x="97" y="140"/>
                      </a:lnTo>
                      <a:lnTo>
                        <a:pt x="99" y="133"/>
                      </a:lnTo>
                      <a:lnTo>
                        <a:pt x="100" y="129"/>
                      </a:lnTo>
                      <a:lnTo>
                        <a:pt x="101" y="127"/>
                      </a:lnTo>
                      <a:lnTo>
                        <a:pt x="157" y="54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AutoShape 18"/>
                <p:cNvSpPr/>
                <p:nvPr/>
              </p:nvSpPr>
              <p:spPr>
                <a:xfrm rot="20460000">
                  <a:off x="3979440" y="2459520"/>
                  <a:ext cx="1602720" cy="1307880"/>
                </a:xfrm>
                <a:custGeom>
                  <a:avLst/>
                  <a:gdLst>
                    <a:gd name="textAreaLeft" fmla="*/ 0 w 1602720"/>
                    <a:gd name="textAreaRight" fmla="*/ 1603080 w 1602720"/>
                    <a:gd name="textAreaTop" fmla="*/ 0 h 1307880"/>
                    <a:gd name="textAreaBottom" fmla="*/ 1308240 h 1307880"/>
                  </a:gdLst>
                  <a:ahLst/>
                  <a:rect l="textAreaLeft" t="textAreaTop" r="textAreaRight" b="textAreaBottom"/>
                  <a:pathLst>
                    <a:path w="1589" h="1353">
                      <a:moveTo>
                        <a:pt x="438" y="0"/>
                      </a:moveTo>
                      <a:lnTo>
                        <a:pt x="160" y="145"/>
                      </a:lnTo>
                      <a:lnTo>
                        <a:pt x="158" y="147"/>
                      </a:lnTo>
                      <a:lnTo>
                        <a:pt x="153" y="153"/>
                      </a:lnTo>
                      <a:lnTo>
                        <a:pt x="146" y="161"/>
                      </a:lnTo>
                      <a:lnTo>
                        <a:pt x="137" y="172"/>
                      </a:lnTo>
                      <a:lnTo>
                        <a:pt x="128" y="183"/>
                      </a:lnTo>
                      <a:lnTo>
                        <a:pt x="120" y="195"/>
                      </a:lnTo>
                      <a:lnTo>
                        <a:pt x="113" y="205"/>
                      </a:lnTo>
                      <a:lnTo>
                        <a:pt x="108" y="213"/>
                      </a:lnTo>
                      <a:lnTo>
                        <a:pt x="96" y="252"/>
                      </a:lnTo>
                      <a:lnTo>
                        <a:pt x="81" y="318"/>
                      </a:lnTo>
                      <a:lnTo>
                        <a:pt x="62" y="400"/>
                      </a:lnTo>
                      <a:lnTo>
                        <a:pt x="44" y="488"/>
                      </a:lnTo>
                      <a:lnTo>
                        <a:pt x="28" y="575"/>
                      </a:lnTo>
                      <a:lnTo>
                        <a:pt x="13" y="648"/>
                      </a:lnTo>
                      <a:lnTo>
                        <a:pt x="4" y="699"/>
                      </a:lnTo>
                      <a:lnTo>
                        <a:pt x="0" y="719"/>
                      </a:lnTo>
                      <a:lnTo>
                        <a:pt x="2" y="721"/>
                      </a:lnTo>
                      <a:lnTo>
                        <a:pt x="10" y="729"/>
                      </a:lnTo>
                      <a:lnTo>
                        <a:pt x="22" y="740"/>
                      </a:lnTo>
                      <a:lnTo>
                        <a:pt x="38" y="758"/>
                      </a:lnTo>
                      <a:lnTo>
                        <a:pt x="59" y="777"/>
                      </a:lnTo>
                      <a:lnTo>
                        <a:pt x="84" y="801"/>
                      </a:lnTo>
                      <a:lnTo>
                        <a:pt x="112" y="828"/>
                      </a:lnTo>
                      <a:lnTo>
                        <a:pt x="144" y="858"/>
                      </a:lnTo>
                      <a:lnTo>
                        <a:pt x="179" y="889"/>
                      </a:lnTo>
                      <a:lnTo>
                        <a:pt x="218" y="922"/>
                      </a:lnTo>
                      <a:lnTo>
                        <a:pt x="258" y="958"/>
                      </a:lnTo>
                      <a:lnTo>
                        <a:pt x="302" y="994"/>
                      </a:lnTo>
                      <a:lnTo>
                        <a:pt x="348" y="1031"/>
                      </a:lnTo>
                      <a:lnTo>
                        <a:pt x="396" y="1069"/>
                      </a:lnTo>
                      <a:lnTo>
                        <a:pt x="446" y="1105"/>
                      </a:lnTo>
                      <a:lnTo>
                        <a:pt x="498" y="1142"/>
                      </a:lnTo>
                      <a:lnTo>
                        <a:pt x="520" y="1157"/>
                      </a:lnTo>
                      <a:lnTo>
                        <a:pt x="542" y="1172"/>
                      </a:lnTo>
                      <a:lnTo>
                        <a:pt x="563" y="1187"/>
                      </a:lnTo>
                      <a:lnTo>
                        <a:pt x="586" y="1201"/>
                      </a:lnTo>
                      <a:lnTo>
                        <a:pt x="608" y="1216"/>
                      </a:lnTo>
                      <a:lnTo>
                        <a:pt x="631" y="1230"/>
                      </a:lnTo>
                      <a:lnTo>
                        <a:pt x="654" y="1244"/>
                      </a:lnTo>
                      <a:lnTo>
                        <a:pt x="678" y="1256"/>
                      </a:lnTo>
                      <a:lnTo>
                        <a:pt x="701" y="1269"/>
                      </a:lnTo>
                      <a:lnTo>
                        <a:pt x="725" y="1282"/>
                      </a:lnTo>
                      <a:lnTo>
                        <a:pt x="748" y="1294"/>
                      </a:lnTo>
                      <a:lnTo>
                        <a:pt x="771" y="1306"/>
                      </a:lnTo>
                      <a:lnTo>
                        <a:pt x="795" y="1317"/>
                      </a:lnTo>
                      <a:lnTo>
                        <a:pt x="818" y="1328"/>
                      </a:lnTo>
                      <a:lnTo>
                        <a:pt x="842" y="1338"/>
                      </a:lnTo>
                      <a:lnTo>
                        <a:pt x="865" y="1347"/>
                      </a:lnTo>
                      <a:lnTo>
                        <a:pt x="870" y="1348"/>
                      </a:lnTo>
                      <a:lnTo>
                        <a:pt x="875" y="1350"/>
                      </a:lnTo>
                      <a:lnTo>
                        <a:pt x="879" y="1351"/>
                      </a:lnTo>
                      <a:lnTo>
                        <a:pt x="886" y="1352"/>
                      </a:lnTo>
                      <a:lnTo>
                        <a:pt x="892" y="1352"/>
                      </a:lnTo>
                      <a:lnTo>
                        <a:pt x="899" y="1353"/>
                      </a:lnTo>
                      <a:lnTo>
                        <a:pt x="906" y="1353"/>
                      </a:lnTo>
                      <a:lnTo>
                        <a:pt x="914" y="1353"/>
                      </a:lnTo>
                      <a:lnTo>
                        <a:pt x="925" y="1353"/>
                      </a:lnTo>
                      <a:lnTo>
                        <a:pt x="937" y="1352"/>
                      </a:lnTo>
                      <a:lnTo>
                        <a:pt x="949" y="1352"/>
                      </a:lnTo>
                      <a:lnTo>
                        <a:pt x="962" y="1351"/>
                      </a:lnTo>
                      <a:lnTo>
                        <a:pt x="976" y="1350"/>
                      </a:lnTo>
                      <a:lnTo>
                        <a:pt x="990" y="1347"/>
                      </a:lnTo>
                      <a:lnTo>
                        <a:pt x="1005" y="1345"/>
                      </a:lnTo>
                      <a:lnTo>
                        <a:pt x="1020" y="1344"/>
                      </a:lnTo>
                      <a:lnTo>
                        <a:pt x="1035" y="1341"/>
                      </a:lnTo>
                      <a:lnTo>
                        <a:pt x="1051" y="1338"/>
                      </a:lnTo>
                      <a:lnTo>
                        <a:pt x="1066" y="1336"/>
                      </a:lnTo>
                      <a:lnTo>
                        <a:pt x="1082" y="1333"/>
                      </a:lnTo>
                      <a:lnTo>
                        <a:pt x="1098" y="1330"/>
                      </a:lnTo>
                      <a:lnTo>
                        <a:pt x="1114" y="1328"/>
                      </a:lnTo>
                      <a:lnTo>
                        <a:pt x="1130" y="1324"/>
                      </a:lnTo>
                      <a:lnTo>
                        <a:pt x="1146" y="1321"/>
                      </a:lnTo>
                      <a:lnTo>
                        <a:pt x="1165" y="1317"/>
                      </a:lnTo>
                      <a:lnTo>
                        <a:pt x="1183" y="1313"/>
                      </a:lnTo>
                      <a:lnTo>
                        <a:pt x="1201" y="1309"/>
                      </a:lnTo>
                      <a:lnTo>
                        <a:pt x="1218" y="1305"/>
                      </a:lnTo>
                      <a:lnTo>
                        <a:pt x="1235" y="1300"/>
                      </a:lnTo>
                      <a:lnTo>
                        <a:pt x="1251" y="1297"/>
                      </a:lnTo>
                      <a:lnTo>
                        <a:pt x="1267" y="1292"/>
                      </a:lnTo>
                      <a:lnTo>
                        <a:pt x="1282" y="1289"/>
                      </a:lnTo>
                      <a:lnTo>
                        <a:pt x="1297" y="1284"/>
                      </a:lnTo>
                      <a:lnTo>
                        <a:pt x="1311" y="1280"/>
                      </a:lnTo>
                      <a:lnTo>
                        <a:pt x="1324" y="1277"/>
                      </a:lnTo>
                      <a:lnTo>
                        <a:pt x="1335" y="1274"/>
                      </a:lnTo>
                      <a:lnTo>
                        <a:pt x="1346" y="1270"/>
                      </a:lnTo>
                      <a:lnTo>
                        <a:pt x="1355" y="1267"/>
                      </a:lnTo>
                      <a:lnTo>
                        <a:pt x="1364" y="1263"/>
                      </a:lnTo>
                      <a:lnTo>
                        <a:pt x="1371" y="1261"/>
                      </a:lnTo>
                      <a:lnTo>
                        <a:pt x="1386" y="1252"/>
                      </a:lnTo>
                      <a:lnTo>
                        <a:pt x="1401" y="1238"/>
                      </a:lnTo>
                      <a:lnTo>
                        <a:pt x="1418" y="1217"/>
                      </a:lnTo>
                      <a:lnTo>
                        <a:pt x="1434" y="1194"/>
                      </a:lnTo>
                      <a:lnTo>
                        <a:pt x="1452" y="1166"/>
                      </a:lnTo>
                      <a:lnTo>
                        <a:pt x="1469" y="1137"/>
                      </a:lnTo>
                      <a:lnTo>
                        <a:pt x="1486" y="1104"/>
                      </a:lnTo>
                      <a:lnTo>
                        <a:pt x="1504" y="1071"/>
                      </a:lnTo>
                      <a:lnTo>
                        <a:pt x="1519" y="1039"/>
                      </a:lnTo>
                      <a:lnTo>
                        <a:pt x="1533" y="1005"/>
                      </a:lnTo>
                      <a:lnTo>
                        <a:pt x="1547" y="974"/>
                      </a:lnTo>
                      <a:lnTo>
                        <a:pt x="1560" y="945"/>
                      </a:lnTo>
                      <a:lnTo>
                        <a:pt x="1570" y="920"/>
                      </a:lnTo>
                      <a:lnTo>
                        <a:pt x="1578" y="898"/>
                      </a:lnTo>
                      <a:lnTo>
                        <a:pt x="1584" y="880"/>
                      </a:lnTo>
                      <a:lnTo>
                        <a:pt x="1588" y="868"/>
                      </a:lnTo>
                      <a:lnTo>
                        <a:pt x="1589" y="844"/>
                      </a:lnTo>
                      <a:lnTo>
                        <a:pt x="1585" y="812"/>
                      </a:lnTo>
                      <a:lnTo>
                        <a:pt x="1578" y="774"/>
                      </a:lnTo>
                      <a:lnTo>
                        <a:pt x="1569" y="733"/>
                      </a:lnTo>
                      <a:lnTo>
                        <a:pt x="1560" y="697"/>
                      </a:lnTo>
                      <a:lnTo>
                        <a:pt x="1552" y="666"/>
                      </a:lnTo>
                      <a:lnTo>
                        <a:pt x="1545" y="644"/>
                      </a:lnTo>
                      <a:lnTo>
                        <a:pt x="1543" y="636"/>
                      </a:lnTo>
                      <a:lnTo>
                        <a:pt x="438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AutoShape 19"/>
                <p:cNvSpPr/>
                <p:nvPr/>
              </p:nvSpPr>
              <p:spPr>
                <a:xfrm rot="20460000">
                  <a:off x="4326480" y="2318040"/>
                  <a:ext cx="1158840" cy="1024200"/>
                </a:xfrm>
                <a:custGeom>
                  <a:avLst/>
                  <a:gdLst>
                    <a:gd name="textAreaLeft" fmla="*/ 0 w 1158840"/>
                    <a:gd name="textAreaRight" fmla="*/ 1159200 w 1158840"/>
                    <a:gd name="textAreaTop" fmla="*/ 0 h 1024200"/>
                    <a:gd name="textAreaBottom" fmla="*/ 1024560 h 1024200"/>
                  </a:gdLst>
                  <a:ahLst/>
                  <a:rect l="textAreaLeft" t="textAreaTop" r="textAreaRight" b="textAreaBottom"/>
                  <a:pathLst>
                    <a:path w="1149" h="1059">
                      <a:moveTo>
                        <a:pt x="62" y="0"/>
                      </a:moveTo>
                      <a:lnTo>
                        <a:pt x="51" y="7"/>
                      </a:lnTo>
                      <a:lnTo>
                        <a:pt x="41" y="20"/>
                      </a:lnTo>
                      <a:lnTo>
                        <a:pt x="29" y="38"/>
                      </a:lnTo>
                      <a:lnTo>
                        <a:pt x="20" y="56"/>
                      </a:lnTo>
                      <a:lnTo>
                        <a:pt x="12" y="75"/>
                      </a:lnTo>
                      <a:lnTo>
                        <a:pt x="6" y="90"/>
                      </a:lnTo>
                      <a:lnTo>
                        <a:pt x="1" y="100"/>
                      </a:lnTo>
                      <a:lnTo>
                        <a:pt x="0" y="105"/>
                      </a:lnTo>
                      <a:lnTo>
                        <a:pt x="155" y="197"/>
                      </a:lnTo>
                      <a:lnTo>
                        <a:pt x="736" y="596"/>
                      </a:lnTo>
                      <a:lnTo>
                        <a:pt x="740" y="615"/>
                      </a:lnTo>
                      <a:lnTo>
                        <a:pt x="748" y="663"/>
                      </a:lnTo>
                      <a:lnTo>
                        <a:pt x="761" y="733"/>
                      </a:lnTo>
                      <a:lnTo>
                        <a:pt x="777" y="813"/>
                      </a:lnTo>
                      <a:lnTo>
                        <a:pt x="793" y="894"/>
                      </a:lnTo>
                      <a:lnTo>
                        <a:pt x="809" y="968"/>
                      </a:lnTo>
                      <a:lnTo>
                        <a:pt x="824" y="1022"/>
                      </a:lnTo>
                      <a:lnTo>
                        <a:pt x="837" y="1050"/>
                      </a:lnTo>
                      <a:lnTo>
                        <a:pt x="846" y="1057"/>
                      </a:lnTo>
                      <a:lnTo>
                        <a:pt x="857" y="1059"/>
                      </a:lnTo>
                      <a:lnTo>
                        <a:pt x="869" y="1059"/>
                      </a:lnTo>
                      <a:lnTo>
                        <a:pt x="882" y="1057"/>
                      </a:lnTo>
                      <a:lnTo>
                        <a:pt x="892" y="1055"/>
                      </a:lnTo>
                      <a:lnTo>
                        <a:pt x="901" y="1051"/>
                      </a:lnTo>
                      <a:lnTo>
                        <a:pt x="907" y="1049"/>
                      </a:lnTo>
                      <a:lnTo>
                        <a:pt x="909" y="1048"/>
                      </a:lnTo>
                      <a:lnTo>
                        <a:pt x="939" y="973"/>
                      </a:lnTo>
                      <a:lnTo>
                        <a:pt x="942" y="970"/>
                      </a:lnTo>
                      <a:lnTo>
                        <a:pt x="948" y="962"/>
                      </a:lnTo>
                      <a:lnTo>
                        <a:pt x="960" y="950"/>
                      </a:lnTo>
                      <a:lnTo>
                        <a:pt x="974" y="932"/>
                      </a:lnTo>
                      <a:lnTo>
                        <a:pt x="990" y="913"/>
                      </a:lnTo>
                      <a:lnTo>
                        <a:pt x="1008" y="890"/>
                      </a:lnTo>
                      <a:lnTo>
                        <a:pt x="1028" y="865"/>
                      </a:lnTo>
                      <a:lnTo>
                        <a:pt x="1049" y="838"/>
                      </a:lnTo>
                      <a:lnTo>
                        <a:pt x="1068" y="810"/>
                      </a:lnTo>
                      <a:lnTo>
                        <a:pt x="1088" y="783"/>
                      </a:lnTo>
                      <a:lnTo>
                        <a:pt x="1105" y="754"/>
                      </a:lnTo>
                      <a:lnTo>
                        <a:pt x="1121" y="728"/>
                      </a:lnTo>
                      <a:lnTo>
                        <a:pt x="1134" y="701"/>
                      </a:lnTo>
                      <a:lnTo>
                        <a:pt x="1143" y="677"/>
                      </a:lnTo>
                      <a:lnTo>
                        <a:pt x="1149" y="655"/>
                      </a:lnTo>
                      <a:lnTo>
                        <a:pt x="1149" y="637"/>
                      </a:lnTo>
                      <a:lnTo>
                        <a:pt x="1142" y="614"/>
                      </a:lnTo>
                      <a:lnTo>
                        <a:pt x="1129" y="589"/>
                      </a:lnTo>
                      <a:lnTo>
                        <a:pt x="1111" y="563"/>
                      </a:lnTo>
                      <a:lnTo>
                        <a:pt x="1088" y="535"/>
                      </a:lnTo>
                      <a:lnTo>
                        <a:pt x="1061" y="508"/>
                      </a:lnTo>
                      <a:lnTo>
                        <a:pt x="1033" y="480"/>
                      </a:lnTo>
                      <a:lnTo>
                        <a:pt x="1001" y="452"/>
                      </a:lnTo>
                      <a:lnTo>
                        <a:pt x="970" y="425"/>
                      </a:lnTo>
                      <a:lnTo>
                        <a:pt x="938" y="399"/>
                      </a:lnTo>
                      <a:lnTo>
                        <a:pt x="908" y="376"/>
                      </a:lnTo>
                      <a:lnTo>
                        <a:pt x="879" y="356"/>
                      </a:lnTo>
                      <a:lnTo>
                        <a:pt x="854" y="337"/>
                      </a:lnTo>
                      <a:lnTo>
                        <a:pt x="833" y="321"/>
                      </a:lnTo>
                      <a:lnTo>
                        <a:pt x="816" y="310"/>
                      </a:lnTo>
                      <a:lnTo>
                        <a:pt x="806" y="303"/>
                      </a:lnTo>
                      <a:lnTo>
                        <a:pt x="802" y="300"/>
                      </a:lnTo>
                      <a:lnTo>
                        <a:pt x="371" y="76"/>
                      </a:lnTo>
                      <a:lnTo>
                        <a:pt x="230" y="107"/>
                      </a:lnTo>
                      <a:lnTo>
                        <a:pt x="224" y="102"/>
                      </a:lnTo>
                      <a:lnTo>
                        <a:pt x="208" y="88"/>
                      </a:lnTo>
                      <a:lnTo>
                        <a:pt x="185" y="70"/>
                      </a:lnTo>
                      <a:lnTo>
                        <a:pt x="157" y="49"/>
                      </a:lnTo>
                      <a:lnTo>
                        <a:pt x="128" y="29"/>
                      </a:lnTo>
                      <a:lnTo>
                        <a:pt x="102" y="12"/>
                      </a:lnTo>
                      <a:lnTo>
                        <a:pt x="79" y="1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20"/>
                <p:cNvSpPr/>
                <p:nvPr/>
              </p:nvSpPr>
              <p:spPr>
                <a:xfrm rot="20460000">
                  <a:off x="4619520" y="2416680"/>
                  <a:ext cx="748800" cy="734400"/>
                </a:xfrm>
                <a:custGeom>
                  <a:avLst/>
                  <a:gdLst>
                    <a:gd name="textAreaLeft" fmla="*/ 0 w 748800"/>
                    <a:gd name="textAreaRight" fmla="*/ 749160 w 748800"/>
                    <a:gd name="textAreaTop" fmla="*/ 0 h 734400"/>
                    <a:gd name="textAreaBottom" fmla="*/ 734760 h 734400"/>
                  </a:gdLst>
                  <a:ahLst/>
                  <a:rect l="textAreaLeft" t="textAreaTop" r="textAreaRight" b="textAreaBottom"/>
                  <a:pathLst>
                    <a:path w="742" h="760">
                      <a:moveTo>
                        <a:pt x="37" y="0"/>
                      </a:moveTo>
                      <a:lnTo>
                        <a:pt x="536" y="304"/>
                      </a:lnTo>
                      <a:lnTo>
                        <a:pt x="742" y="479"/>
                      </a:lnTo>
                      <a:lnTo>
                        <a:pt x="737" y="517"/>
                      </a:lnTo>
                      <a:lnTo>
                        <a:pt x="566" y="760"/>
                      </a:lnTo>
                      <a:lnTo>
                        <a:pt x="554" y="454"/>
                      </a:lnTo>
                      <a:lnTo>
                        <a:pt x="479" y="360"/>
                      </a:lnTo>
                      <a:lnTo>
                        <a:pt x="0" y="57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21"/>
                <p:cNvSpPr/>
                <p:nvPr/>
              </p:nvSpPr>
              <p:spPr>
                <a:xfrm rot="20460000">
                  <a:off x="4762440" y="2687400"/>
                  <a:ext cx="213480" cy="183600"/>
                </a:xfrm>
                <a:custGeom>
                  <a:avLst/>
                  <a:gdLst>
                    <a:gd name="textAreaLeft" fmla="*/ 0 w 213480"/>
                    <a:gd name="textAreaRight" fmla="*/ 213840 w 21348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12" h="189">
                      <a:moveTo>
                        <a:pt x="124" y="189"/>
                      </a:moveTo>
                      <a:lnTo>
                        <a:pt x="146" y="184"/>
                      </a:lnTo>
                      <a:lnTo>
                        <a:pt x="165" y="179"/>
                      </a:lnTo>
                      <a:lnTo>
                        <a:pt x="180" y="173"/>
                      </a:lnTo>
                      <a:lnTo>
                        <a:pt x="191" y="163"/>
                      </a:lnTo>
                      <a:lnTo>
                        <a:pt x="200" y="153"/>
                      </a:lnTo>
                      <a:lnTo>
                        <a:pt x="207" y="139"/>
                      </a:lnTo>
                      <a:lnTo>
                        <a:pt x="211" y="122"/>
                      </a:lnTo>
                      <a:lnTo>
                        <a:pt x="212" y="102"/>
                      </a:lnTo>
                      <a:lnTo>
                        <a:pt x="211" y="82"/>
                      </a:lnTo>
                      <a:lnTo>
                        <a:pt x="205" y="62"/>
                      </a:lnTo>
                      <a:lnTo>
                        <a:pt x="198" y="44"/>
                      </a:lnTo>
                      <a:lnTo>
                        <a:pt x="187" y="29"/>
                      </a:lnTo>
                      <a:lnTo>
                        <a:pt x="173" y="17"/>
                      </a:lnTo>
                      <a:lnTo>
                        <a:pt x="157" y="8"/>
                      </a:lnTo>
                      <a:lnTo>
                        <a:pt x="138" y="2"/>
                      </a:lnTo>
                      <a:lnTo>
                        <a:pt x="117" y="0"/>
                      </a:lnTo>
                      <a:lnTo>
                        <a:pt x="96" y="1"/>
                      </a:lnTo>
                      <a:lnTo>
                        <a:pt x="75" y="6"/>
                      </a:lnTo>
                      <a:lnTo>
                        <a:pt x="55" y="14"/>
                      </a:lnTo>
                      <a:lnTo>
                        <a:pt x="38" y="25"/>
                      </a:lnTo>
                      <a:lnTo>
                        <a:pt x="23" y="39"/>
                      </a:lnTo>
                      <a:lnTo>
                        <a:pt x="11" y="56"/>
                      </a:lnTo>
                      <a:lnTo>
                        <a:pt x="3" y="78"/>
                      </a:lnTo>
                      <a:lnTo>
                        <a:pt x="0" y="102"/>
                      </a:lnTo>
                      <a:lnTo>
                        <a:pt x="124" y="189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22"/>
                <p:cNvSpPr/>
                <p:nvPr/>
              </p:nvSpPr>
              <p:spPr>
                <a:xfrm rot="20460000">
                  <a:off x="4389120" y="2586960"/>
                  <a:ext cx="216000" cy="192960"/>
                </a:xfrm>
                <a:custGeom>
                  <a:avLst/>
                  <a:gdLst>
                    <a:gd name="textAreaLeft" fmla="*/ 0 w 216000"/>
                    <a:gd name="textAreaRight" fmla="*/ 216360 w 216000"/>
                    <a:gd name="textAreaTop" fmla="*/ 0 h 192960"/>
                    <a:gd name="textAreaBottom" fmla="*/ 193320 h 192960"/>
                  </a:gdLst>
                  <a:ahLst/>
                  <a:rect l="textAreaLeft" t="textAreaTop" r="textAreaRight" b="textAreaBottom"/>
                  <a:pathLst>
                    <a:path w="215" h="200">
                      <a:moveTo>
                        <a:pt x="139" y="200"/>
                      </a:moveTo>
                      <a:lnTo>
                        <a:pt x="159" y="199"/>
                      </a:lnTo>
                      <a:lnTo>
                        <a:pt x="176" y="194"/>
                      </a:lnTo>
                      <a:lnTo>
                        <a:pt x="189" y="187"/>
                      </a:lnTo>
                      <a:lnTo>
                        <a:pt x="199" y="177"/>
                      </a:lnTo>
                      <a:lnTo>
                        <a:pt x="207" y="164"/>
                      </a:lnTo>
                      <a:lnTo>
                        <a:pt x="212" y="149"/>
                      </a:lnTo>
                      <a:lnTo>
                        <a:pt x="214" y="131"/>
                      </a:lnTo>
                      <a:lnTo>
                        <a:pt x="215" y="109"/>
                      </a:lnTo>
                      <a:lnTo>
                        <a:pt x="213" y="87"/>
                      </a:lnTo>
                      <a:lnTo>
                        <a:pt x="207" y="67"/>
                      </a:lnTo>
                      <a:lnTo>
                        <a:pt x="197" y="48"/>
                      </a:lnTo>
                      <a:lnTo>
                        <a:pt x="184" y="32"/>
                      </a:lnTo>
                      <a:lnTo>
                        <a:pt x="169" y="18"/>
                      </a:lnTo>
                      <a:lnTo>
                        <a:pt x="151" y="9"/>
                      </a:lnTo>
                      <a:lnTo>
                        <a:pt x="131" y="2"/>
                      </a:lnTo>
                      <a:lnTo>
                        <a:pt x="110" y="0"/>
                      </a:lnTo>
                      <a:lnTo>
                        <a:pt x="88" y="1"/>
                      </a:lnTo>
                      <a:lnTo>
                        <a:pt x="68" y="6"/>
                      </a:lnTo>
                      <a:lnTo>
                        <a:pt x="50" y="14"/>
                      </a:lnTo>
                      <a:lnTo>
                        <a:pt x="32" y="24"/>
                      </a:lnTo>
                      <a:lnTo>
                        <a:pt x="20" y="38"/>
                      </a:lnTo>
                      <a:lnTo>
                        <a:pt x="9" y="54"/>
                      </a:lnTo>
                      <a:lnTo>
                        <a:pt x="2" y="73"/>
                      </a:lnTo>
                      <a:lnTo>
                        <a:pt x="0" y="94"/>
                      </a:lnTo>
                      <a:lnTo>
                        <a:pt x="4" y="116"/>
                      </a:lnTo>
                      <a:lnTo>
                        <a:pt x="14" y="137"/>
                      </a:lnTo>
                      <a:lnTo>
                        <a:pt x="29" y="154"/>
                      </a:lnTo>
                      <a:lnTo>
                        <a:pt x="47" y="170"/>
                      </a:lnTo>
                      <a:lnTo>
                        <a:pt x="69" y="183"/>
                      </a:lnTo>
                      <a:lnTo>
                        <a:pt x="93" y="192"/>
                      </a:lnTo>
                      <a:lnTo>
                        <a:pt x="116" y="198"/>
                      </a:lnTo>
                      <a:lnTo>
                        <a:pt x="139" y="20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AutoShape 23"/>
                <p:cNvSpPr/>
                <p:nvPr/>
              </p:nvSpPr>
              <p:spPr>
                <a:xfrm rot="20460000">
                  <a:off x="4609440" y="2613960"/>
                  <a:ext cx="227880" cy="125280"/>
                </a:xfrm>
                <a:custGeom>
                  <a:avLst/>
                  <a:gdLst>
                    <a:gd name="textAreaLeft" fmla="*/ 0 w 227880"/>
                    <a:gd name="textAreaRight" fmla="*/ 228240 w 227880"/>
                    <a:gd name="textAreaTop" fmla="*/ 0 h 125280"/>
                    <a:gd name="textAreaBottom" fmla="*/ 125640 h 125280"/>
                  </a:gdLst>
                  <a:ahLst/>
                  <a:rect l="textAreaLeft" t="textAreaTop" r="textAreaRight" b="textAreaBottom"/>
                  <a:pathLst>
                    <a:path w="225" h="131">
                      <a:moveTo>
                        <a:pt x="0" y="78"/>
                      </a:moveTo>
                      <a:lnTo>
                        <a:pt x="60" y="15"/>
                      </a:lnTo>
                      <a:lnTo>
                        <a:pt x="225" y="0"/>
                      </a:lnTo>
                      <a:lnTo>
                        <a:pt x="217" y="75"/>
                      </a:lnTo>
                      <a:lnTo>
                        <a:pt x="97" y="131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AutoShape 24"/>
                <p:cNvSpPr/>
                <p:nvPr/>
              </p:nvSpPr>
              <p:spPr>
                <a:xfrm rot="20460000">
                  <a:off x="4411800" y="2318040"/>
                  <a:ext cx="762480" cy="440280"/>
                </a:xfrm>
                <a:custGeom>
                  <a:avLst/>
                  <a:gdLst>
                    <a:gd name="textAreaLeft" fmla="*/ 0 w 762480"/>
                    <a:gd name="textAreaRight" fmla="*/ 762840 w 762480"/>
                    <a:gd name="textAreaTop" fmla="*/ 0 h 440280"/>
                    <a:gd name="textAreaBottom" fmla="*/ 440640 h 440280"/>
                  </a:gdLst>
                  <a:ahLst/>
                  <a:rect l="textAreaLeft" t="textAreaTop" r="textAreaRight" b="textAreaBottom"/>
                  <a:pathLst>
                    <a:path w="756" h="456">
                      <a:moveTo>
                        <a:pt x="0" y="210"/>
                      </a:moveTo>
                      <a:lnTo>
                        <a:pt x="57" y="75"/>
                      </a:lnTo>
                      <a:lnTo>
                        <a:pt x="58" y="72"/>
                      </a:lnTo>
                      <a:lnTo>
                        <a:pt x="61" y="62"/>
                      </a:lnTo>
                      <a:lnTo>
                        <a:pt x="69" y="49"/>
                      </a:lnTo>
                      <a:lnTo>
                        <a:pt x="81" y="34"/>
                      </a:lnTo>
                      <a:lnTo>
                        <a:pt x="96" y="20"/>
                      </a:lnTo>
                      <a:lnTo>
                        <a:pt x="116" y="8"/>
                      </a:lnTo>
                      <a:lnTo>
                        <a:pt x="143" y="0"/>
                      </a:lnTo>
                      <a:lnTo>
                        <a:pt x="176" y="0"/>
                      </a:lnTo>
                      <a:lnTo>
                        <a:pt x="203" y="6"/>
                      </a:lnTo>
                      <a:lnTo>
                        <a:pt x="232" y="17"/>
                      </a:lnTo>
                      <a:lnTo>
                        <a:pt x="260" y="32"/>
                      </a:lnTo>
                      <a:lnTo>
                        <a:pt x="288" y="49"/>
                      </a:lnTo>
                      <a:lnTo>
                        <a:pt x="312" y="66"/>
                      </a:lnTo>
                      <a:lnTo>
                        <a:pt x="332" y="80"/>
                      </a:lnTo>
                      <a:lnTo>
                        <a:pt x="345" y="90"/>
                      </a:lnTo>
                      <a:lnTo>
                        <a:pt x="349" y="93"/>
                      </a:lnTo>
                      <a:lnTo>
                        <a:pt x="350" y="92"/>
                      </a:lnTo>
                      <a:lnTo>
                        <a:pt x="355" y="90"/>
                      </a:lnTo>
                      <a:lnTo>
                        <a:pt x="361" y="88"/>
                      </a:lnTo>
                      <a:lnTo>
                        <a:pt x="368" y="84"/>
                      </a:lnTo>
                      <a:lnTo>
                        <a:pt x="374" y="81"/>
                      </a:lnTo>
                      <a:lnTo>
                        <a:pt x="383" y="77"/>
                      </a:lnTo>
                      <a:lnTo>
                        <a:pt x="388" y="76"/>
                      </a:lnTo>
                      <a:lnTo>
                        <a:pt x="394" y="75"/>
                      </a:lnTo>
                      <a:lnTo>
                        <a:pt x="399" y="74"/>
                      </a:lnTo>
                      <a:lnTo>
                        <a:pt x="404" y="73"/>
                      </a:lnTo>
                      <a:lnTo>
                        <a:pt x="412" y="72"/>
                      </a:lnTo>
                      <a:lnTo>
                        <a:pt x="422" y="72"/>
                      </a:lnTo>
                      <a:lnTo>
                        <a:pt x="433" y="72"/>
                      </a:lnTo>
                      <a:lnTo>
                        <a:pt x="447" y="75"/>
                      </a:lnTo>
                      <a:lnTo>
                        <a:pt x="464" y="81"/>
                      </a:lnTo>
                      <a:lnTo>
                        <a:pt x="484" y="90"/>
                      </a:lnTo>
                      <a:lnTo>
                        <a:pt x="495" y="96"/>
                      </a:lnTo>
                      <a:lnTo>
                        <a:pt x="509" y="104"/>
                      </a:lnTo>
                      <a:lnTo>
                        <a:pt x="524" y="112"/>
                      </a:lnTo>
                      <a:lnTo>
                        <a:pt x="540" y="121"/>
                      </a:lnTo>
                      <a:lnTo>
                        <a:pt x="558" y="131"/>
                      </a:lnTo>
                      <a:lnTo>
                        <a:pt x="576" y="143"/>
                      </a:lnTo>
                      <a:lnTo>
                        <a:pt x="595" y="154"/>
                      </a:lnTo>
                      <a:lnTo>
                        <a:pt x="613" y="166"/>
                      </a:lnTo>
                      <a:lnTo>
                        <a:pt x="633" y="179"/>
                      </a:lnTo>
                      <a:lnTo>
                        <a:pt x="651" y="191"/>
                      </a:lnTo>
                      <a:lnTo>
                        <a:pt x="668" y="204"/>
                      </a:lnTo>
                      <a:lnTo>
                        <a:pt x="684" y="217"/>
                      </a:lnTo>
                      <a:lnTo>
                        <a:pt x="701" y="229"/>
                      </a:lnTo>
                      <a:lnTo>
                        <a:pt x="713" y="242"/>
                      </a:lnTo>
                      <a:lnTo>
                        <a:pt x="726" y="254"/>
                      </a:lnTo>
                      <a:lnTo>
                        <a:pt x="735" y="265"/>
                      </a:lnTo>
                      <a:lnTo>
                        <a:pt x="748" y="290"/>
                      </a:lnTo>
                      <a:lnTo>
                        <a:pt x="755" y="318"/>
                      </a:lnTo>
                      <a:lnTo>
                        <a:pt x="756" y="347"/>
                      </a:lnTo>
                      <a:lnTo>
                        <a:pt x="754" y="376"/>
                      </a:lnTo>
                      <a:lnTo>
                        <a:pt x="749" y="401"/>
                      </a:lnTo>
                      <a:lnTo>
                        <a:pt x="744" y="422"/>
                      </a:lnTo>
                      <a:lnTo>
                        <a:pt x="740" y="437"/>
                      </a:lnTo>
                      <a:lnTo>
                        <a:pt x="739" y="441"/>
                      </a:lnTo>
                      <a:lnTo>
                        <a:pt x="667" y="385"/>
                      </a:lnTo>
                      <a:lnTo>
                        <a:pt x="648" y="309"/>
                      </a:lnTo>
                      <a:lnTo>
                        <a:pt x="559" y="240"/>
                      </a:lnTo>
                      <a:lnTo>
                        <a:pt x="451" y="197"/>
                      </a:lnTo>
                      <a:lnTo>
                        <a:pt x="483" y="270"/>
                      </a:lnTo>
                      <a:lnTo>
                        <a:pt x="476" y="344"/>
                      </a:lnTo>
                      <a:lnTo>
                        <a:pt x="401" y="456"/>
                      </a:lnTo>
                      <a:lnTo>
                        <a:pt x="353" y="426"/>
                      </a:lnTo>
                      <a:lnTo>
                        <a:pt x="355" y="420"/>
                      </a:lnTo>
                      <a:lnTo>
                        <a:pt x="361" y="404"/>
                      </a:lnTo>
                      <a:lnTo>
                        <a:pt x="369" y="380"/>
                      </a:lnTo>
                      <a:lnTo>
                        <a:pt x="378" y="351"/>
                      </a:lnTo>
                      <a:lnTo>
                        <a:pt x="385" y="320"/>
                      </a:lnTo>
                      <a:lnTo>
                        <a:pt x="389" y="290"/>
                      </a:lnTo>
                      <a:lnTo>
                        <a:pt x="388" y="264"/>
                      </a:lnTo>
                      <a:lnTo>
                        <a:pt x="383" y="243"/>
                      </a:lnTo>
                      <a:lnTo>
                        <a:pt x="370" y="229"/>
                      </a:lnTo>
                      <a:lnTo>
                        <a:pt x="349" y="213"/>
                      </a:lnTo>
                      <a:lnTo>
                        <a:pt x="321" y="196"/>
                      </a:lnTo>
                      <a:lnTo>
                        <a:pt x="293" y="179"/>
                      </a:lnTo>
                      <a:lnTo>
                        <a:pt x="264" y="163"/>
                      </a:lnTo>
                      <a:lnTo>
                        <a:pt x="239" y="150"/>
                      </a:lnTo>
                      <a:lnTo>
                        <a:pt x="222" y="141"/>
                      </a:lnTo>
                      <a:lnTo>
                        <a:pt x="215" y="137"/>
                      </a:lnTo>
                      <a:lnTo>
                        <a:pt x="213" y="136"/>
                      </a:lnTo>
                      <a:lnTo>
                        <a:pt x="207" y="134"/>
                      </a:lnTo>
                      <a:lnTo>
                        <a:pt x="199" y="131"/>
                      </a:lnTo>
                      <a:lnTo>
                        <a:pt x="190" y="129"/>
                      </a:lnTo>
                      <a:lnTo>
                        <a:pt x="179" y="128"/>
                      </a:lnTo>
                      <a:lnTo>
                        <a:pt x="167" y="128"/>
                      </a:lnTo>
                      <a:lnTo>
                        <a:pt x="156" y="131"/>
                      </a:lnTo>
                      <a:lnTo>
                        <a:pt x="146" y="138"/>
                      </a:lnTo>
                      <a:lnTo>
                        <a:pt x="137" y="150"/>
                      </a:lnTo>
                      <a:lnTo>
                        <a:pt x="128" y="167"/>
                      </a:lnTo>
                      <a:lnTo>
                        <a:pt x="118" y="187"/>
                      </a:lnTo>
                      <a:lnTo>
                        <a:pt x="108" y="209"/>
                      </a:lnTo>
                      <a:lnTo>
                        <a:pt x="99" y="228"/>
                      </a:lnTo>
                      <a:lnTo>
                        <a:pt x="92" y="245"/>
                      </a:lnTo>
                      <a:lnTo>
                        <a:pt x="88" y="257"/>
                      </a:lnTo>
                      <a:lnTo>
                        <a:pt x="86" y="262"/>
                      </a:lnTo>
                      <a:lnTo>
                        <a:pt x="0" y="21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AutoShape 25"/>
                <p:cNvSpPr/>
                <p:nvPr/>
              </p:nvSpPr>
              <p:spPr>
                <a:xfrm rot="20460000">
                  <a:off x="4606920" y="2694960"/>
                  <a:ext cx="147240" cy="127440"/>
                </a:xfrm>
                <a:custGeom>
                  <a:avLst/>
                  <a:gdLst>
                    <a:gd name="textAreaLeft" fmla="*/ 0 w 147240"/>
                    <a:gd name="textAreaRight" fmla="*/ 147600 w 147240"/>
                    <a:gd name="textAreaTop" fmla="*/ 0 h 127440"/>
                    <a:gd name="textAreaBottom" fmla="*/ 127800 h 127440"/>
                  </a:gdLst>
                  <a:ahLst/>
                  <a:rect l="textAreaLeft" t="textAreaTop" r="textAreaRight" b="textAreaBottom"/>
                  <a:pathLst>
                    <a:path w="146" h="131">
                      <a:moveTo>
                        <a:pt x="37" y="0"/>
                      </a:moveTo>
                      <a:lnTo>
                        <a:pt x="0" y="64"/>
                      </a:lnTo>
                      <a:lnTo>
                        <a:pt x="93" y="131"/>
                      </a:lnTo>
                      <a:lnTo>
                        <a:pt x="146" y="71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AutoShape 26"/>
                <p:cNvSpPr/>
                <p:nvPr/>
              </p:nvSpPr>
              <p:spPr>
                <a:xfrm rot="20460000">
                  <a:off x="4536720" y="2805120"/>
                  <a:ext cx="205920" cy="19908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199080"/>
                    <a:gd name="textAreaBottom" fmla="*/ 199440 h 199080"/>
                  </a:gdLst>
                  <a:ahLst/>
                  <a:rect l="textAreaLeft" t="textAreaTop" r="textAreaRight" b="textAreaBottom"/>
                  <a:pathLst>
                    <a:path w="204" h="206">
                      <a:moveTo>
                        <a:pt x="61" y="0"/>
                      </a:moveTo>
                      <a:lnTo>
                        <a:pt x="59" y="3"/>
                      </a:lnTo>
                      <a:lnTo>
                        <a:pt x="53" y="11"/>
                      </a:lnTo>
                      <a:lnTo>
                        <a:pt x="45" y="22"/>
                      </a:lnTo>
                      <a:lnTo>
                        <a:pt x="35" y="35"/>
                      </a:lnTo>
                      <a:lnTo>
                        <a:pt x="26" y="50"/>
                      </a:lnTo>
                      <a:lnTo>
                        <a:pt x="17" y="64"/>
                      </a:lnTo>
                      <a:lnTo>
                        <a:pt x="10" y="76"/>
                      </a:lnTo>
                      <a:lnTo>
                        <a:pt x="5" y="87"/>
                      </a:lnTo>
                      <a:lnTo>
                        <a:pt x="0" y="110"/>
                      </a:lnTo>
                      <a:lnTo>
                        <a:pt x="0" y="133"/>
                      </a:lnTo>
                      <a:lnTo>
                        <a:pt x="7" y="153"/>
                      </a:lnTo>
                      <a:lnTo>
                        <a:pt x="25" y="173"/>
                      </a:lnTo>
                      <a:lnTo>
                        <a:pt x="40" y="183"/>
                      </a:lnTo>
                      <a:lnTo>
                        <a:pt x="56" y="190"/>
                      </a:lnTo>
                      <a:lnTo>
                        <a:pt x="71" y="197"/>
                      </a:lnTo>
                      <a:lnTo>
                        <a:pt x="86" y="201"/>
                      </a:lnTo>
                      <a:lnTo>
                        <a:pt x="98" y="204"/>
                      </a:lnTo>
                      <a:lnTo>
                        <a:pt x="110" y="205"/>
                      </a:lnTo>
                      <a:lnTo>
                        <a:pt x="119" y="206"/>
                      </a:lnTo>
                      <a:lnTo>
                        <a:pt x="125" y="206"/>
                      </a:lnTo>
                      <a:lnTo>
                        <a:pt x="143" y="202"/>
                      </a:lnTo>
                      <a:lnTo>
                        <a:pt x="159" y="189"/>
                      </a:lnTo>
                      <a:lnTo>
                        <a:pt x="173" y="171"/>
                      </a:lnTo>
                      <a:lnTo>
                        <a:pt x="185" y="150"/>
                      </a:lnTo>
                      <a:lnTo>
                        <a:pt x="193" y="129"/>
                      </a:lnTo>
                      <a:lnTo>
                        <a:pt x="200" y="111"/>
                      </a:lnTo>
                      <a:lnTo>
                        <a:pt x="203" y="98"/>
                      </a:lnTo>
                      <a:lnTo>
                        <a:pt x="204" y="94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AutoShape 27"/>
                <p:cNvSpPr/>
                <p:nvPr/>
              </p:nvSpPr>
              <p:spPr>
                <a:xfrm rot="20460000">
                  <a:off x="4459320" y="2666160"/>
                  <a:ext cx="96840" cy="10224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102240"/>
                    <a:gd name="textAreaBottom" fmla="*/ 102600 h 102240"/>
                  </a:gdLst>
                  <a:ahLst/>
                  <a:rect l="textAreaLeft" t="textAreaTop" r="textAreaRight" b="textAreaBottom"/>
                  <a:pathLst>
                    <a:path w="95" h="106">
                      <a:moveTo>
                        <a:pt x="48" y="106"/>
                      </a:moveTo>
                      <a:lnTo>
                        <a:pt x="57" y="105"/>
                      </a:lnTo>
                      <a:lnTo>
                        <a:pt x="66" y="101"/>
                      </a:lnTo>
                      <a:lnTo>
                        <a:pt x="75" y="97"/>
                      </a:lnTo>
                      <a:lnTo>
                        <a:pt x="81" y="90"/>
                      </a:lnTo>
                      <a:lnTo>
                        <a:pt x="87" y="83"/>
                      </a:lnTo>
                      <a:lnTo>
                        <a:pt x="92" y="74"/>
                      </a:lnTo>
                      <a:lnTo>
                        <a:pt x="94" y="63"/>
                      </a:lnTo>
                      <a:lnTo>
                        <a:pt x="95" y="53"/>
                      </a:lnTo>
                      <a:lnTo>
                        <a:pt x="94" y="43"/>
                      </a:lnTo>
                      <a:lnTo>
                        <a:pt x="92" y="32"/>
                      </a:lnTo>
                      <a:lnTo>
                        <a:pt x="87" y="23"/>
                      </a:lnTo>
                      <a:lnTo>
                        <a:pt x="81" y="15"/>
                      </a:lnTo>
                      <a:lnTo>
                        <a:pt x="75" y="9"/>
                      </a:lnTo>
                      <a:lnTo>
                        <a:pt x="66" y="5"/>
                      </a:lnTo>
                      <a:lnTo>
                        <a:pt x="57" y="1"/>
                      </a:lnTo>
                      <a:lnTo>
                        <a:pt x="48" y="0"/>
                      </a:lnTo>
                      <a:lnTo>
                        <a:pt x="39" y="1"/>
                      </a:lnTo>
                      <a:lnTo>
                        <a:pt x="30" y="5"/>
                      </a:lnTo>
                      <a:lnTo>
                        <a:pt x="22" y="9"/>
                      </a:lnTo>
                      <a:lnTo>
                        <a:pt x="13" y="15"/>
                      </a:lnTo>
                      <a:lnTo>
                        <a:pt x="8" y="23"/>
                      </a:lnTo>
                      <a:lnTo>
                        <a:pt x="3" y="32"/>
                      </a:lnTo>
                      <a:lnTo>
                        <a:pt x="1" y="43"/>
                      </a:lnTo>
                      <a:lnTo>
                        <a:pt x="0" y="53"/>
                      </a:lnTo>
                      <a:lnTo>
                        <a:pt x="1" y="63"/>
                      </a:lnTo>
                      <a:lnTo>
                        <a:pt x="3" y="74"/>
                      </a:lnTo>
                      <a:lnTo>
                        <a:pt x="8" y="83"/>
                      </a:lnTo>
                      <a:lnTo>
                        <a:pt x="13" y="90"/>
                      </a:lnTo>
                      <a:lnTo>
                        <a:pt x="22" y="97"/>
                      </a:lnTo>
                      <a:lnTo>
                        <a:pt x="30" y="101"/>
                      </a:lnTo>
                      <a:lnTo>
                        <a:pt x="39" y="105"/>
                      </a:lnTo>
                      <a:lnTo>
                        <a:pt x="48" y="106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AutoShape 28"/>
                <p:cNvSpPr/>
                <p:nvPr/>
              </p:nvSpPr>
              <p:spPr>
                <a:xfrm rot="20460000">
                  <a:off x="4818960" y="2745360"/>
                  <a:ext cx="96840" cy="10188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96" h="106">
                      <a:moveTo>
                        <a:pt x="48" y="106"/>
                      </a:moveTo>
                      <a:lnTo>
                        <a:pt x="57" y="104"/>
                      </a:lnTo>
                      <a:lnTo>
                        <a:pt x="66" y="101"/>
                      </a:lnTo>
                      <a:lnTo>
                        <a:pt x="74" y="96"/>
                      </a:lnTo>
                      <a:lnTo>
                        <a:pt x="82" y="89"/>
                      </a:lnTo>
                      <a:lnTo>
                        <a:pt x="88" y="83"/>
                      </a:lnTo>
                      <a:lnTo>
                        <a:pt x="92" y="73"/>
                      </a:lnTo>
                      <a:lnTo>
                        <a:pt x="95" y="63"/>
                      </a:lnTo>
                      <a:lnTo>
                        <a:pt x="96" y="53"/>
                      </a:lnTo>
                      <a:lnTo>
                        <a:pt x="95" y="42"/>
                      </a:lnTo>
                      <a:lnTo>
                        <a:pt x="92" y="32"/>
                      </a:lnTo>
                      <a:lnTo>
                        <a:pt x="88" y="23"/>
                      </a:lnTo>
                      <a:lnTo>
                        <a:pt x="82" y="16"/>
                      </a:lnTo>
                      <a:lnTo>
                        <a:pt x="74" y="9"/>
                      </a:lnTo>
                      <a:lnTo>
                        <a:pt x="66" y="4"/>
                      </a:lnTo>
                      <a:lnTo>
                        <a:pt x="57" y="1"/>
                      </a:lnTo>
                      <a:lnTo>
                        <a:pt x="48" y="0"/>
                      </a:lnTo>
                      <a:lnTo>
                        <a:pt x="38" y="1"/>
                      </a:lnTo>
                      <a:lnTo>
                        <a:pt x="29" y="4"/>
                      </a:lnTo>
                      <a:lnTo>
                        <a:pt x="21" y="9"/>
                      </a:lnTo>
                      <a:lnTo>
                        <a:pt x="14" y="16"/>
                      </a:lnTo>
                      <a:lnTo>
                        <a:pt x="8" y="23"/>
                      </a:lnTo>
                      <a:lnTo>
                        <a:pt x="4" y="32"/>
                      </a:lnTo>
                      <a:lnTo>
                        <a:pt x="1" y="42"/>
                      </a:lnTo>
                      <a:lnTo>
                        <a:pt x="0" y="53"/>
                      </a:lnTo>
                      <a:lnTo>
                        <a:pt x="1" y="63"/>
                      </a:lnTo>
                      <a:lnTo>
                        <a:pt x="4" y="73"/>
                      </a:lnTo>
                      <a:lnTo>
                        <a:pt x="8" y="83"/>
                      </a:lnTo>
                      <a:lnTo>
                        <a:pt x="14" y="89"/>
                      </a:lnTo>
                      <a:lnTo>
                        <a:pt x="21" y="96"/>
                      </a:lnTo>
                      <a:lnTo>
                        <a:pt x="29" y="101"/>
                      </a:lnTo>
                      <a:lnTo>
                        <a:pt x="38" y="104"/>
                      </a:lnTo>
                      <a:lnTo>
                        <a:pt x="48" y="106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29"/>
                <p:cNvSpPr/>
                <p:nvPr/>
              </p:nvSpPr>
              <p:spPr>
                <a:xfrm rot="20460000">
                  <a:off x="4903920" y="2525040"/>
                  <a:ext cx="193320" cy="96120"/>
                </a:xfrm>
                <a:custGeom>
                  <a:avLst/>
                  <a:gdLst>
                    <a:gd name="textAreaLeft" fmla="*/ 0 w 193320"/>
                    <a:gd name="textAreaRight" fmla="*/ 193680 w 19332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192" h="101">
                      <a:moveTo>
                        <a:pt x="30" y="0"/>
                      </a:moveTo>
                      <a:lnTo>
                        <a:pt x="135" y="0"/>
                      </a:lnTo>
                      <a:lnTo>
                        <a:pt x="192" y="52"/>
                      </a:lnTo>
                      <a:lnTo>
                        <a:pt x="192" y="101"/>
                      </a:lnTo>
                      <a:lnTo>
                        <a:pt x="143" y="78"/>
                      </a:lnTo>
                      <a:lnTo>
                        <a:pt x="125" y="52"/>
                      </a:lnTo>
                      <a:lnTo>
                        <a:pt x="0" y="6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30"/>
                <p:cNvSpPr/>
                <p:nvPr/>
              </p:nvSpPr>
              <p:spPr>
                <a:xfrm rot="20460000">
                  <a:off x="5028840" y="2543040"/>
                  <a:ext cx="383400" cy="534960"/>
                </a:xfrm>
                <a:custGeom>
                  <a:avLst/>
                  <a:gdLst>
                    <a:gd name="textAreaLeft" fmla="*/ 0 w 383400"/>
                    <a:gd name="textAreaRight" fmla="*/ 383760 w 383400"/>
                    <a:gd name="textAreaTop" fmla="*/ 0 h 534960"/>
                    <a:gd name="textAreaBottom" fmla="*/ 535320 h 534960"/>
                  </a:gdLst>
                  <a:ahLst/>
                  <a:rect l="textAreaLeft" t="textAreaTop" r="textAreaRight" b="textAreaBottom"/>
                  <a:pathLst>
                    <a:path w="379" h="553">
                      <a:moveTo>
                        <a:pt x="26" y="0"/>
                      </a:moveTo>
                      <a:lnTo>
                        <a:pt x="51" y="15"/>
                      </a:lnTo>
                      <a:lnTo>
                        <a:pt x="78" y="31"/>
                      </a:lnTo>
                      <a:lnTo>
                        <a:pt x="106" y="49"/>
                      </a:lnTo>
                      <a:lnTo>
                        <a:pt x="134" y="69"/>
                      </a:lnTo>
                      <a:lnTo>
                        <a:pt x="163" y="89"/>
                      </a:lnTo>
                      <a:lnTo>
                        <a:pt x="192" y="111"/>
                      </a:lnTo>
                      <a:lnTo>
                        <a:pt x="221" y="133"/>
                      </a:lnTo>
                      <a:lnTo>
                        <a:pt x="248" y="156"/>
                      </a:lnTo>
                      <a:lnTo>
                        <a:pt x="274" y="178"/>
                      </a:lnTo>
                      <a:lnTo>
                        <a:pt x="298" y="200"/>
                      </a:lnTo>
                      <a:lnTo>
                        <a:pt x="320" y="222"/>
                      </a:lnTo>
                      <a:lnTo>
                        <a:pt x="339" y="241"/>
                      </a:lnTo>
                      <a:lnTo>
                        <a:pt x="356" y="261"/>
                      </a:lnTo>
                      <a:lnTo>
                        <a:pt x="367" y="278"/>
                      </a:lnTo>
                      <a:lnTo>
                        <a:pt x="375" y="293"/>
                      </a:lnTo>
                      <a:lnTo>
                        <a:pt x="379" y="306"/>
                      </a:lnTo>
                      <a:lnTo>
                        <a:pt x="365" y="331"/>
                      </a:lnTo>
                      <a:lnTo>
                        <a:pt x="345" y="365"/>
                      </a:lnTo>
                      <a:lnTo>
                        <a:pt x="320" y="401"/>
                      </a:lnTo>
                      <a:lnTo>
                        <a:pt x="292" y="441"/>
                      </a:lnTo>
                      <a:lnTo>
                        <a:pt x="265" y="479"/>
                      </a:lnTo>
                      <a:lnTo>
                        <a:pt x="239" y="512"/>
                      </a:lnTo>
                      <a:lnTo>
                        <a:pt x="217" y="537"/>
                      </a:lnTo>
                      <a:lnTo>
                        <a:pt x="202" y="553"/>
                      </a:lnTo>
                      <a:lnTo>
                        <a:pt x="204" y="521"/>
                      </a:lnTo>
                      <a:lnTo>
                        <a:pt x="225" y="497"/>
                      </a:lnTo>
                      <a:lnTo>
                        <a:pt x="245" y="472"/>
                      </a:lnTo>
                      <a:lnTo>
                        <a:pt x="263" y="446"/>
                      </a:lnTo>
                      <a:lnTo>
                        <a:pt x="281" y="421"/>
                      </a:lnTo>
                      <a:lnTo>
                        <a:pt x="297" y="395"/>
                      </a:lnTo>
                      <a:lnTo>
                        <a:pt x="313" y="369"/>
                      </a:lnTo>
                      <a:lnTo>
                        <a:pt x="328" y="343"/>
                      </a:lnTo>
                      <a:lnTo>
                        <a:pt x="343" y="316"/>
                      </a:lnTo>
                      <a:lnTo>
                        <a:pt x="344" y="306"/>
                      </a:lnTo>
                      <a:lnTo>
                        <a:pt x="343" y="292"/>
                      </a:lnTo>
                      <a:lnTo>
                        <a:pt x="337" y="275"/>
                      </a:lnTo>
                      <a:lnTo>
                        <a:pt x="323" y="257"/>
                      </a:lnTo>
                      <a:lnTo>
                        <a:pt x="313" y="247"/>
                      </a:lnTo>
                      <a:lnTo>
                        <a:pt x="301" y="236"/>
                      </a:lnTo>
                      <a:lnTo>
                        <a:pt x="288" y="223"/>
                      </a:lnTo>
                      <a:lnTo>
                        <a:pt x="271" y="209"/>
                      </a:lnTo>
                      <a:lnTo>
                        <a:pt x="254" y="194"/>
                      </a:lnTo>
                      <a:lnTo>
                        <a:pt x="236" y="179"/>
                      </a:lnTo>
                      <a:lnTo>
                        <a:pt x="216" y="163"/>
                      </a:lnTo>
                      <a:lnTo>
                        <a:pt x="194" y="146"/>
                      </a:lnTo>
                      <a:lnTo>
                        <a:pt x="172" y="129"/>
                      </a:lnTo>
                      <a:lnTo>
                        <a:pt x="149" y="111"/>
                      </a:lnTo>
                      <a:lnTo>
                        <a:pt x="125" y="93"/>
                      </a:lnTo>
                      <a:lnTo>
                        <a:pt x="101" y="76"/>
                      </a:lnTo>
                      <a:lnTo>
                        <a:pt x="76" y="57"/>
                      </a:lnTo>
                      <a:lnTo>
                        <a:pt x="50" y="40"/>
                      </a:lnTo>
                      <a:lnTo>
                        <a:pt x="25" y="23"/>
                      </a:lnTo>
                      <a:lnTo>
                        <a:pt x="0" y="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31"/>
                <p:cNvSpPr/>
                <p:nvPr/>
              </p:nvSpPr>
              <p:spPr>
                <a:xfrm rot="20460000">
                  <a:off x="5015160" y="2631240"/>
                  <a:ext cx="230040" cy="508320"/>
                </a:xfrm>
                <a:custGeom>
                  <a:avLst/>
                  <a:gdLst>
                    <a:gd name="textAreaLeft" fmla="*/ 0 w 230040"/>
                    <a:gd name="textAreaRight" fmla="*/ 230400 w 230040"/>
                    <a:gd name="textAreaTop" fmla="*/ 0 h 508320"/>
                    <a:gd name="textAreaBottom" fmla="*/ 508680 h 508320"/>
                  </a:gdLst>
                  <a:ahLst/>
                  <a:rect l="textAreaLeft" t="textAreaTop" r="textAreaRight" b="textAreaBottom"/>
                  <a:pathLst>
                    <a:path w="227" h="526">
                      <a:moveTo>
                        <a:pt x="4" y="0"/>
                      </a:moveTo>
                      <a:lnTo>
                        <a:pt x="19" y="9"/>
                      </a:lnTo>
                      <a:lnTo>
                        <a:pt x="33" y="17"/>
                      </a:lnTo>
                      <a:lnTo>
                        <a:pt x="46" y="26"/>
                      </a:lnTo>
                      <a:lnTo>
                        <a:pt x="60" y="34"/>
                      </a:lnTo>
                      <a:lnTo>
                        <a:pt x="73" y="43"/>
                      </a:lnTo>
                      <a:lnTo>
                        <a:pt x="87" y="53"/>
                      </a:lnTo>
                      <a:lnTo>
                        <a:pt x="99" y="61"/>
                      </a:lnTo>
                      <a:lnTo>
                        <a:pt x="113" y="70"/>
                      </a:lnTo>
                      <a:lnTo>
                        <a:pt x="134" y="86"/>
                      </a:lnTo>
                      <a:lnTo>
                        <a:pt x="154" y="102"/>
                      </a:lnTo>
                      <a:lnTo>
                        <a:pt x="172" y="118"/>
                      </a:lnTo>
                      <a:lnTo>
                        <a:pt x="188" y="136"/>
                      </a:lnTo>
                      <a:lnTo>
                        <a:pt x="202" y="155"/>
                      </a:lnTo>
                      <a:lnTo>
                        <a:pt x="212" y="175"/>
                      </a:lnTo>
                      <a:lnTo>
                        <a:pt x="220" y="198"/>
                      </a:lnTo>
                      <a:lnTo>
                        <a:pt x="225" y="222"/>
                      </a:lnTo>
                      <a:lnTo>
                        <a:pt x="227" y="297"/>
                      </a:lnTo>
                      <a:lnTo>
                        <a:pt x="226" y="373"/>
                      </a:lnTo>
                      <a:lnTo>
                        <a:pt x="223" y="448"/>
                      </a:lnTo>
                      <a:lnTo>
                        <a:pt x="216" y="524"/>
                      </a:lnTo>
                      <a:lnTo>
                        <a:pt x="211" y="526"/>
                      </a:lnTo>
                      <a:lnTo>
                        <a:pt x="207" y="525"/>
                      </a:lnTo>
                      <a:lnTo>
                        <a:pt x="203" y="521"/>
                      </a:lnTo>
                      <a:lnTo>
                        <a:pt x="200" y="518"/>
                      </a:lnTo>
                      <a:lnTo>
                        <a:pt x="200" y="478"/>
                      </a:lnTo>
                      <a:lnTo>
                        <a:pt x="200" y="385"/>
                      </a:lnTo>
                      <a:lnTo>
                        <a:pt x="198" y="288"/>
                      </a:lnTo>
                      <a:lnTo>
                        <a:pt x="196" y="227"/>
                      </a:lnTo>
                      <a:lnTo>
                        <a:pt x="195" y="215"/>
                      </a:lnTo>
                      <a:lnTo>
                        <a:pt x="192" y="205"/>
                      </a:lnTo>
                      <a:lnTo>
                        <a:pt x="188" y="194"/>
                      </a:lnTo>
                      <a:lnTo>
                        <a:pt x="185" y="184"/>
                      </a:lnTo>
                      <a:lnTo>
                        <a:pt x="179" y="174"/>
                      </a:lnTo>
                      <a:lnTo>
                        <a:pt x="172" y="162"/>
                      </a:lnTo>
                      <a:lnTo>
                        <a:pt x="165" y="152"/>
                      </a:lnTo>
                      <a:lnTo>
                        <a:pt x="156" y="141"/>
                      </a:lnTo>
                      <a:lnTo>
                        <a:pt x="139" y="125"/>
                      </a:lnTo>
                      <a:lnTo>
                        <a:pt x="120" y="109"/>
                      </a:lnTo>
                      <a:lnTo>
                        <a:pt x="102" y="94"/>
                      </a:lnTo>
                      <a:lnTo>
                        <a:pt x="82" y="80"/>
                      </a:lnTo>
                      <a:lnTo>
                        <a:pt x="63" y="67"/>
                      </a:lnTo>
                      <a:lnTo>
                        <a:pt x="43" y="53"/>
                      </a:lnTo>
                      <a:lnTo>
                        <a:pt x="22" y="39"/>
                      </a:lnTo>
                      <a:lnTo>
                        <a:pt x="0" y="2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AutoShape 32"/>
                <p:cNvSpPr/>
                <p:nvPr/>
              </p:nvSpPr>
              <p:spPr>
                <a:xfrm rot="20460000">
                  <a:off x="4552920" y="2809080"/>
                  <a:ext cx="173160" cy="175680"/>
                </a:xfrm>
                <a:custGeom>
                  <a:avLst/>
                  <a:gdLst>
                    <a:gd name="textAreaLeft" fmla="*/ 0 w 173160"/>
                    <a:gd name="textAreaRight" fmla="*/ 173520 w 173160"/>
                    <a:gd name="textAreaTop" fmla="*/ 0 h 175680"/>
                    <a:gd name="textAreaBottom" fmla="*/ 176040 h 175680"/>
                  </a:gdLst>
                  <a:ahLst/>
                  <a:rect l="textAreaLeft" t="textAreaTop" r="textAreaRight" b="textAreaBottom"/>
                  <a:pathLst>
                    <a:path w="172" h="183">
                      <a:moveTo>
                        <a:pt x="172" y="91"/>
                      </a:moveTo>
                      <a:lnTo>
                        <a:pt x="170" y="96"/>
                      </a:lnTo>
                      <a:lnTo>
                        <a:pt x="168" y="107"/>
                      </a:lnTo>
                      <a:lnTo>
                        <a:pt x="163" y="122"/>
                      </a:lnTo>
                      <a:lnTo>
                        <a:pt x="157" y="137"/>
                      </a:lnTo>
                      <a:lnTo>
                        <a:pt x="148" y="152"/>
                      </a:lnTo>
                      <a:lnTo>
                        <a:pt x="136" y="167"/>
                      </a:lnTo>
                      <a:lnTo>
                        <a:pt x="121" y="177"/>
                      </a:lnTo>
                      <a:lnTo>
                        <a:pt x="102" y="183"/>
                      </a:lnTo>
                      <a:lnTo>
                        <a:pt x="86" y="180"/>
                      </a:lnTo>
                      <a:lnTo>
                        <a:pt x="69" y="177"/>
                      </a:lnTo>
                      <a:lnTo>
                        <a:pt x="53" y="171"/>
                      </a:lnTo>
                      <a:lnTo>
                        <a:pt x="38" y="166"/>
                      </a:lnTo>
                      <a:lnTo>
                        <a:pt x="24" y="157"/>
                      </a:lnTo>
                      <a:lnTo>
                        <a:pt x="13" y="148"/>
                      </a:lnTo>
                      <a:lnTo>
                        <a:pt x="4" y="137"/>
                      </a:lnTo>
                      <a:lnTo>
                        <a:pt x="0" y="123"/>
                      </a:lnTo>
                      <a:lnTo>
                        <a:pt x="0" y="103"/>
                      </a:lnTo>
                      <a:lnTo>
                        <a:pt x="6" y="83"/>
                      </a:lnTo>
                      <a:lnTo>
                        <a:pt x="16" y="62"/>
                      </a:lnTo>
                      <a:lnTo>
                        <a:pt x="26" y="42"/>
                      </a:lnTo>
                      <a:lnTo>
                        <a:pt x="38" y="25"/>
                      </a:lnTo>
                      <a:lnTo>
                        <a:pt x="48" y="12"/>
                      </a:lnTo>
                      <a:lnTo>
                        <a:pt x="56" y="3"/>
                      </a:lnTo>
                      <a:lnTo>
                        <a:pt x="59" y="0"/>
                      </a:lnTo>
                      <a:lnTo>
                        <a:pt x="74" y="14"/>
                      </a:lnTo>
                      <a:lnTo>
                        <a:pt x="63" y="22"/>
                      </a:lnTo>
                      <a:lnTo>
                        <a:pt x="53" y="33"/>
                      </a:lnTo>
                      <a:lnTo>
                        <a:pt x="44" y="47"/>
                      </a:lnTo>
                      <a:lnTo>
                        <a:pt x="37" y="62"/>
                      </a:lnTo>
                      <a:lnTo>
                        <a:pt x="30" y="77"/>
                      </a:lnTo>
                      <a:lnTo>
                        <a:pt x="25" y="90"/>
                      </a:lnTo>
                      <a:lnTo>
                        <a:pt x="23" y="100"/>
                      </a:lnTo>
                      <a:lnTo>
                        <a:pt x="23" y="107"/>
                      </a:lnTo>
                      <a:lnTo>
                        <a:pt x="28" y="117"/>
                      </a:lnTo>
                      <a:lnTo>
                        <a:pt x="33" y="125"/>
                      </a:lnTo>
                      <a:lnTo>
                        <a:pt x="41" y="133"/>
                      </a:lnTo>
                      <a:lnTo>
                        <a:pt x="49" y="140"/>
                      </a:lnTo>
                      <a:lnTo>
                        <a:pt x="59" y="146"/>
                      </a:lnTo>
                      <a:lnTo>
                        <a:pt x="69" y="149"/>
                      </a:lnTo>
                      <a:lnTo>
                        <a:pt x="79" y="152"/>
                      </a:lnTo>
                      <a:lnTo>
                        <a:pt x="91" y="152"/>
                      </a:lnTo>
                      <a:lnTo>
                        <a:pt x="104" y="148"/>
                      </a:lnTo>
                      <a:lnTo>
                        <a:pt x="115" y="142"/>
                      </a:lnTo>
                      <a:lnTo>
                        <a:pt x="123" y="133"/>
                      </a:lnTo>
                      <a:lnTo>
                        <a:pt x="130" y="123"/>
                      </a:lnTo>
                      <a:lnTo>
                        <a:pt x="137" y="113"/>
                      </a:lnTo>
                      <a:lnTo>
                        <a:pt x="142" y="101"/>
                      </a:lnTo>
                      <a:lnTo>
                        <a:pt x="147" y="90"/>
                      </a:lnTo>
                      <a:lnTo>
                        <a:pt x="154" y="79"/>
                      </a:lnTo>
                      <a:lnTo>
                        <a:pt x="172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AutoShape 33"/>
                <p:cNvSpPr/>
                <p:nvPr/>
              </p:nvSpPr>
              <p:spPr>
                <a:xfrm rot="20460000">
                  <a:off x="4946400" y="2913480"/>
                  <a:ext cx="272160" cy="59508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595080"/>
                    <a:gd name="textAreaBottom" fmla="*/ 595440 h 595080"/>
                  </a:gdLst>
                  <a:ahLst/>
                  <a:rect l="textAreaLeft" t="textAreaTop" r="textAreaRight" b="textAreaBottom"/>
                  <a:pathLst>
                    <a:path w="271" h="616">
                      <a:moveTo>
                        <a:pt x="271" y="14"/>
                      </a:moveTo>
                      <a:lnTo>
                        <a:pt x="260" y="30"/>
                      </a:lnTo>
                      <a:lnTo>
                        <a:pt x="248" y="45"/>
                      </a:lnTo>
                      <a:lnTo>
                        <a:pt x="234" y="59"/>
                      </a:lnTo>
                      <a:lnTo>
                        <a:pt x="220" y="73"/>
                      </a:lnTo>
                      <a:lnTo>
                        <a:pt x="205" y="85"/>
                      </a:lnTo>
                      <a:lnTo>
                        <a:pt x="190" y="98"/>
                      </a:lnTo>
                      <a:lnTo>
                        <a:pt x="175" y="112"/>
                      </a:lnTo>
                      <a:lnTo>
                        <a:pt x="161" y="126"/>
                      </a:lnTo>
                      <a:lnTo>
                        <a:pt x="151" y="155"/>
                      </a:lnTo>
                      <a:lnTo>
                        <a:pt x="141" y="183"/>
                      </a:lnTo>
                      <a:lnTo>
                        <a:pt x="130" y="212"/>
                      </a:lnTo>
                      <a:lnTo>
                        <a:pt x="121" y="241"/>
                      </a:lnTo>
                      <a:lnTo>
                        <a:pt x="111" y="271"/>
                      </a:lnTo>
                      <a:lnTo>
                        <a:pt x="101" y="301"/>
                      </a:lnTo>
                      <a:lnTo>
                        <a:pt x="92" y="331"/>
                      </a:lnTo>
                      <a:lnTo>
                        <a:pt x="83" y="361"/>
                      </a:lnTo>
                      <a:lnTo>
                        <a:pt x="76" y="384"/>
                      </a:lnTo>
                      <a:lnTo>
                        <a:pt x="69" y="408"/>
                      </a:lnTo>
                      <a:lnTo>
                        <a:pt x="62" y="433"/>
                      </a:lnTo>
                      <a:lnTo>
                        <a:pt x="57" y="460"/>
                      </a:lnTo>
                      <a:lnTo>
                        <a:pt x="52" y="486"/>
                      </a:lnTo>
                      <a:lnTo>
                        <a:pt x="48" y="513"/>
                      </a:lnTo>
                      <a:lnTo>
                        <a:pt x="48" y="539"/>
                      </a:lnTo>
                      <a:lnTo>
                        <a:pt x="50" y="564"/>
                      </a:lnTo>
                      <a:lnTo>
                        <a:pt x="57" y="578"/>
                      </a:lnTo>
                      <a:lnTo>
                        <a:pt x="66" y="592"/>
                      </a:lnTo>
                      <a:lnTo>
                        <a:pt x="73" y="604"/>
                      </a:lnTo>
                      <a:lnTo>
                        <a:pt x="73" y="616"/>
                      </a:lnTo>
                      <a:lnTo>
                        <a:pt x="61" y="612"/>
                      </a:lnTo>
                      <a:lnTo>
                        <a:pt x="50" y="606"/>
                      </a:lnTo>
                      <a:lnTo>
                        <a:pt x="38" y="598"/>
                      </a:lnTo>
                      <a:lnTo>
                        <a:pt x="29" y="589"/>
                      </a:lnTo>
                      <a:lnTo>
                        <a:pt x="20" y="578"/>
                      </a:lnTo>
                      <a:lnTo>
                        <a:pt x="13" y="567"/>
                      </a:lnTo>
                      <a:lnTo>
                        <a:pt x="7" y="554"/>
                      </a:lnTo>
                      <a:lnTo>
                        <a:pt x="4" y="540"/>
                      </a:lnTo>
                      <a:lnTo>
                        <a:pt x="0" y="494"/>
                      </a:lnTo>
                      <a:lnTo>
                        <a:pt x="72" y="249"/>
                      </a:lnTo>
                      <a:lnTo>
                        <a:pt x="78" y="227"/>
                      </a:lnTo>
                      <a:lnTo>
                        <a:pt x="85" y="204"/>
                      </a:lnTo>
                      <a:lnTo>
                        <a:pt x="92" y="182"/>
                      </a:lnTo>
                      <a:lnTo>
                        <a:pt x="100" y="160"/>
                      </a:lnTo>
                      <a:lnTo>
                        <a:pt x="110" y="140"/>
                      </a:lnTo>
                      <a:lnTo>
                        <a:pt x="120" y="120"/>
                      </a:lnTo>
                      <a:lnTo>
                        <a:pt x="133" y="102"/>
                      </a:lnTo>
                      <a:lnTo>
                        <a:pt x="146" y="85"/>
                      </a:lnTo>
                      <a:lnTo>
                        <a:pt x="161" y="75"/>
                      </a:lnTo>
                      <a:lnTo>
                        <a:pt x="176" y="64"/>
                      </a:lnTo>
                      <a:lnTo>
                        <a:pt x="191" y="52"/>
                      </a:lnTo>
                      <a:lnTo>
                        <a:pt x="206" y="39"/>
                      </a:lnTo>
                      <a:lnTo>
                        <a:pt x="221" y="29"/>
                      </a:lnTo>
                      <a:lnTo>
                        <a:pt x="237" y="17"/>
                      </a:lnTo>
                      <a:lnTo>
                        <a:pt x="254" y="8"/>
                      </a:lnTo>
                      <a:lnTo>
                        <a:pt x="271" y="0"/>
                      </a:lnTo>
                      <a:lnTo>
                        <a:pt x="27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34"/>
                <p:cNvSpPr/>
                <p:nvPr/>
              </p:nvSpPr>
              <p:spPr>
                <a:xfrm rot="20460000">
                  <a:off x="4168800" y="3228480"/>
                  <a:ext cx="834120" cy="597240"/>
                </a:xfrm>
                <a:custGeom>
                  <a:avLst/>
                  <a:gdLst>
                    <a:gd name="textAreaLeft" fmla="*/ 0 w 834120"/>
                    <a:gd name="textAreaRight" fmla="*/ 834480 w 834120"/>
                    <a:gd name="textAreaTop" fmla="*/ 0 h 597240"/>
                    <a:gd name="textAreaBottom" fmla="*/ 597600 h 597240"/>
                  </a:gdLst>
                  <a:ahLst/>
                  <a:rect l="textAreaLeft" t="textAreaTop" r="textAreaRight" b="textAreaBottom"/>
                  <a:pathLst>
                    <a:path w="826" h="618">
                      <a:moveTo>
                        <a:pt x="817" y="618"/>
                      </a:moveTo>
                      <a:lnTo>
                        <a:pt x="808" y="616"/>
                      </a:lnTo>
                      <a:lnTo>
                        <a:pt x="794" y="610"/>
                      </a:lnTo>
                      <a:lnTo>
                        <a:pt x="778" y="603"/>
                      </a:lnTo>
                      <a:lnTo>
                        <a:pt x="759" y="593"/>
                      </a:lnTo>
                      <a:lnTo>
                        <a:pt x="738" y="581"/>
                      </a:lnTo>
                      <a:lnTo>
                        <a:pt x="713" y="567"/>
                      </a:lnTo>
                      <a:lnTo>
                        <a:pt x="688" y="551"/>
                      </a:lnTo>
                      <a:lnTo>
                        <a:pt x="659" y="534"/>
                      </a:lnTo>
                      <a:lnTo>
                        <a:pt x="630" y="516"/>
                      </a:lnTo>
                      <a:lnTo>
                        <a:pt x="599" y="496"/>
                      </a:lnTo>
                      <a:lnTo>
                        <a:pt x="566" y="474"/>
                      </a:lnTo>
                      <a:lnTo>
                        <a:pt x="532" y="452"/>
                      </a:lnTo>
                      <a:lnTo>
                        <a:pt x="499" y="429"/>
                      </a:lnTo>
                      <a:lnTo>
                        <a:pt x="463" y="405"/>
                      </a:lnTo>
                      <a:lnTo>
                        <a:pt x="429" y="380"/>
                      </a:lnTo>
                      <a:lnTo>
                        <a:pt x="393" y="356"/>
                      </a:lnTo>
                      <a:lnTo>
                        <a:pt x="359" y="330"/>
                      </a:lnTo>
                      <a:lnTo>
                        <a:pt x="324" y="304"/>
                      </a:lnTo>
                      <a:lnTo>
                        <a:pt x="289" y="278"/>
                      </a:lnTo>
                      <a:lnTo>
                        <a:pt x="256" y="253"/>
                      </a:lnTo>
                      <a:lnTo>
                        <a:pt x="224" y="228"/>
                      </a:lnTo>
                      <a:lnTo>
                        <a:pt x="193" y="204"/>
                      </a:lnTo>
                      <a:lnTo>
                        <a:pt x="163" y="179"/>
                      </a:lnTo>
                      <a:lnTo>
                        <a:pt x="135" y="155"/>
                      </a:lnTo>
                      <a:lnTo>
                        <a:pt x="109" y="133"/>
                      </a:lnTo>
                      <a:lnTo>
                        <a:pt x="85" y="111"/>
                      </a:lnTo>
                      <a:lnTo>
                        <a:pt x="64" y="91"/>
                      </a:lnTo>
                      <a:lnTo>
                        <a:pt x="45" y="71"/>
                      </a:lnTo>
                      <a:lnTo>
                        <a:pt x="29" y="54"/>
                      </a:lnTo>
                      <a:lnTo>
                        <a:pt x="16" y="38"/>
                      </a:lnTo>
                      <a:lnTo>
                        <a:pt x="6" y="23"/>
                      </a:lnTo>
                      <a:lnTo>
                        <a:pt x="0" y="10"/>
                      </a:lnTo>
                      <a:lnTo>
                        <a:pt x="6" y="5"/>
                      </a:lnTo>
                      <a:lnTo>
                        <a:pt x="12" y="3"/>
                      </a:lnTo>
                      <a:lnTo>
                        <a:pt x="18" y="2"/>
                      </a:lnTo>
                      <a:lnTo>
                        <a:pt x="23" y="0"/>
                      </a:lnTo>
                      <a:lnTo>
                        <a:pt x="30" y="8"/>
                      </a:lnTo>
                      <a:lnTo>
                        <a:pt x="39" y="18"/>
                      </a:lnTo>
                      <a:lnTo>
                        <a:pt x="52" y="31"/>
                      </a:lnTo>
                      <a:lnTo>
                        <a:pt x="67" y="43"/>
                      </a:lnTo>
                      <a:lnTo>
                        <a:pt x="84" y="58"/>
                      </a:lnTo>
                      <a:lnTo>
                        <a:pt x="103" y="75"/>
                      </a:lnTo>
                      <a:lnTo>
                        <a:pt x="125" y="92"/>
                      </a:lnTo>
                      <a:lnTo>
                        <a:pt x="148" y="110"/>
                      </a:lnTo>
                      <a:lnTo>
                        <a:pt x="172" y="129"/>
                      </a:lnTo>
                      <a:lnTo>
                        <a:pt x="198" y="148"/>
                      </a:lnTo>
                      <a:lnTo>
                        <a:pt x="226" y="169"/>
                      </a:lnTo>
                      <a:lnTo>
                        <a:pt x="255" y="191"/>
                      </a:lnTo>
                      <a:lnTo>
                        <a:pt x="285" y="213"/>
                      </a:lnTo>
                      <a:lnTo>
                        <a:pt x="316" y="235"/>
                      </a:lnTo>
                      <a:lnTo>
                        <a:pt x="347" y="256"/>
                      </a:lnTo>
                      <a:lnTo>
                        <a:pt x="379" y="280"/>
                      </a:lnTo>
                      <a:lnTo>
                        <a:pt x="412" y="303"/>
                      </a:lnTo>
                      <a:lnTo>
                        <a:pt x="444" y="324"/>
                      </a:lnTo>
                      <a:lnTo>
                        <a:pt x="476" y="347"/>
                      </a:lnTo>
                      <a:lnTo>
                        <a:pt x="508" y="369"/>
                      </a:lnTo>
                      <a:lnTo>
                        <a:pt x="541" y="391"/>
                      </a:lnTo>
                      <a:lnTo>
                        <a:pt x="573" y="412"/>
                      </a:lnTo>
                      <a:lnTo>
                        <a:pt x="603" y="433"/>
                      </a:lnTo>
                      <a:lnTo>
                        <a:pt x="634" y="452"/>
                      </a:lnTo>
                      <a:lnTo>
                        <a:pt x="663" y="472"/>
                      </a:lnTo>
                      <a:lnTo>
                        <a:pt x="690" y="490"/>
                      </a:lnTo>
                      <a:lnTo>
                        <a:pt x="718" y="508"/>
                      </a:lnTo>
                      <a:lnTo>
                        <a:pt x="743" y="524"/>
                      </a:lnTo>
                      <a:lnTo>
                        <a:pt x="766" y="537"/>
                      </a:lnTo>
                      <a:lnTo>
                        <a:pt x="788" y="551"/>
                      </a:lnTo>
                      <a:lnTo>
                        <a:pt x="809" y="563"/>
                      </a:lnTo>
                      <a:lnTo>
                        <a:pt x="826" y="573"/>
                      </a:lnTo>
                      <a:lnTo>
                        <a:pt x="817" y="6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35"/>
                <p:cNvSpPr/>
                <p:nvPr/>
              </p:nvSpPr>
              <p:spPr>
                <a:xfrm rot="20460000">
                  <a:off x="4609440" y="2882520"/>
                  <a:ext cx="56160" cy="47880"/>
                </a:xfrm>
                <a:custGeom>
                  <a:avLst/>
                  <a:gdLst>
                    <a:gd name="textAreaLeft" fmla="*/ 0 w 56160"/>
                    <a:gd name="textAreaRight" fmla="*/ 56520 w 56160"/>
                    <a:gd name="textAreaTop" fmla="*/ 0 h 47880"/>
                    <a:gd name="textAreaBottom" fmla="*/ 48240 h 47880"/>
                  </a:gdLst>
                  <a:ahLst/>
                  <a:rect l="textAreaLeft" t="textAreaTop" r="textAreaRight" b="textAreaBottom"/>
                  <a:pathLst>
                    <a:path w="58" h="49">
                      <a:moveTo>
                        <a:pt x="46" y="49"/>
                      </a:moveTo>
                      <a:lnTo>
                        <a:pt x="58" y="32"/>
                      </a:lnTo>
                      <a:lnTo>
                        <a:pt x="13" y="0"/>
                      </a:lnTo>
                      <a:lnTo>
                        <a:pt x="0" y="16"/>
                      </a:lnTo>
                      <a:lnTo>
                        <a:pt x="46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36"/>
                <p:cNvSpPr/>
                <p:nvPr/>
              </p:nvSpPr>
              <p:spPr>
                <a:xfrm rot="20460000">
                  <a:off x="4613760" y="2846160"/>
                  <a:ext cx="57960" cy="47880"/>
                </a:xfrm>
                <a:custGeom>
                  <a:avLst/>
                  <a:gdLst>
                    <a:gd name="textAreaLeft" fmla="*/ 0 w 57960"/>
                    <a:gd name="textAreaRight" fmla="*/ 58320 w 57960"/>
                    <a:gd name="textAreaTop" fmla="*/ 0 h 47880"/>
                    <a:gd name="textAreaBottom" fmla="*/ 48240 h 47880"/>
                  </a:gdLst>
                  <a:ahLst/>
                  <a:rect l="textAreaLeft" t="textAreaTop" r="textAreaRight" b="textAreaBottom"/>
                  <a:pathLst>
                    <a:path w="57" h="51">
                      <a:moveTo>
                        <a:pt x="46" y="51"/>
                      </a:moveTo>
                      <a:lnTo>
                        <a:pt x="57" y="33"/>
                      </a:lnTo>
                      <a:lnTo>
                        <a:pt x="12" y="0"/>
                      </a:lnTo>
                      <a:lnTo>
                        <a:pt x="0" y="17"/>
                      </a:lnTo>
                      <a:lnTo>
                        <a:pt x="46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AutoShape 37"/>
                <p:cNvSpPr/>
                <p:nvPr/>
              </p:nvSpPr>
              <p:spPr>
                <a:xfrm rot="20460000">
                  <a:off x="3989160" y="2374560"/>
                  <a:ext cx="1562400" cy="1362240"/>
                </a:xfrm>
                <a:custGeom>
                  <a:avLst/>
                  <a:gdLst>
                    <a:gd name="textAreaLeft" fmla="*/ 0 w 1562400"/>
                    <a:gd name="textAreaRight" fmla="*/ 1562760 w 1562400"/>
                    <a:gd name="textAreaTop" fmla="*/ 0 h 1362240"/>
                    <a:gd name="textAreaBottom" fmla="*/ 1362600 h 1362240"/>
                  </a:gdLst>
                  <a:ahLst/>
                  <a:rect l="textAreaLeft" t="textAreaTop" r="textAreaRight" b="textAreaBottom"/>
                  <a:pathLst>
                    <a:path w="1548" h="1412">
                      <a:moveTo>
                        <a:pt x="1084" y="305"/>
                      </a:moveTo>
                      <a:lnTo>
                        <a:pt x="1094" y="304"/>
                      </a:lnTo>
                      <a:lnTo>
                        <a:pt x="1107" y="302"/>
                      </a:lnTo>
                      <a:lnTo>
                        <a:pt x="1121" y="300"/>
                      </a:lnTo>
                      <a:lnTo>
                        <a:pt x="1137" y="298"/>
                      </a:lnTo>
                      <a:lnTo>
                        <a:pt x="1155" y="298"/>
                      </a:lnTo>
                      <a:lnTo>
                        <a:pt x="1175" y="301"/>
                      </a:lnTo>
                      <a:lnTo>
                        <a:pt x="1196" y="304"/>
                      </a:lnTo>
                      <a:lnTo>
                        <a:pt x="1218" y="310"/>
                      </a:lnTo>
                      <a:lnTo>
                        <a:pt x="1218" y="325"/>
                      </a:lnTo>
                      <a:lnTo>
                        <a:pt x="1221" y="327"/>
                      </a:lnTo>
                      <a:lnTo>
                        <a:pt x="1230" y="334"/>
                      </a:lnTo>
                      <a:lnTo>
                        <a:pt x="1246" y="346"/>
                      </a:lnTo>
                      <a:lnTo>
                        <a:pt x="1266" y="361"/>
                      </a:lnTo>
                      <a:lnTo>
                        <a:pt x="1289" y="379"/>
                      </a:lnTo>
                      <a:lnTo>
                        <a:pt x="1314" y="400"/>
                      </a:lnTo>
                      <a:lnTo>
                        <a:pt x="1343" y="422"/>
                      </a:lnTo>
                      <a:lnTo>
                        <a:pt x="1372" y="446"/>
                      </a:lnTo>
                      <a:lnTo>
                        <a:pt x="1401" y="472"/>
                      </a:lnTo>
                      <a:lnTo>
                        <a:pt x="1428" y="498"/>
                      </a:lnTo>
                      <a:lnTo>
                        <a:pt x="1455" y="524"/>
                      </a:lnTo>
                      <a:lnTo>
                        <a:pt x="1479" y="551"/>
                      </a:lnTo>
                      <a:lnTo>
                        <a:pt x="1500" y="576"/>
                      </a:lnTo>
                      <a:lnTo>
                        <a:pt x="1517" y="599"/>
                      </a:lnTo>
                      <a:lnTo>
                        <a:pt x="1528" y="621"/>
                      </a:lnTo>
                      <a:lnTo>
                        <a:pt x="1533" y="640"/>
                      </a:lnTo>
                      <a:lnTo>
                        <a:pt x="1533" y="652"/>
                      </a:lnTo>
                      <a:lnTo>
                        <a:pt x="1532" y="663"/>
                      </a:lnTo>
                      <a:lnTo>
                        <a:pt x="1529" y="676"/>
                      </a:lnTo>
                      <a:lnTo>
                        <a:pt x="1525" y="688"/>
                      </a:lnTo>
                      <a:lnTo>
                        <a:pt x="1519" y="699"/>
                      </a:lnTo>
                      <a:lnTo>
                        <a:pt x="1515" y="709"/>
                      </a:lnTo>
                      <a:lnTo>
                        <a:pt x="1508" y="721"/>
                      </a:lnTo>
                      <a:lnTo>
                        <a:pt x="1502" y="731"/>
                      </a:lnTo>
                      <a:lnTo>
                        <a:pt x="1510" y="756"/>
                      </a:lnTo>
                      <a:lnTo>
                        <a:pt x="1516" y="779"/>
                      </a:lnTo>
                      <a:lnTo>
                        <a:pt x="1522" y="803"/>
                      </a:lnTo>
                      <a:lnTo>
                        <a:pt x="1528" y="826"/>
                      </a:lnTo>
                      <a:lnTo>
                        <a:pt x="1532" y="849"/>
                      </a:lnTo>
                      <a:lnTo>
                        <a:pt x="1538" y="873"/>
                      </a:lnTo>
                      <a:lnTo>
                        <a:pt x="1543" y="896"/>
                      </a:lnTo>
                      <a:lnTo>
                        <a:pt x="1548" y="920"/>
                      </a:lnTo>
                      <a:lnTo>
                        <a:pt x="1546" y="932"/>
                      </a:lnTo>
                      <a:lnTo>
                        <a:pt x="1540" y="949"/>
                      </a:lnTo>
                      <a:lnTo>
                        <a:pt x="1532" y="972"/>
                      </a:lnTo>
                      <a:lnTo>
                        <a:pt x="1521" y="1000"/>
                      </a:lnTo>
                      <a:lnTo>
                        <a:pt x="1507" y="1031"/>
                      </a:lnTo>
                      <a:lnTo>
                        <a:pt x="1491" y="1064"/>
                      </a:lnTo>
                      <a:lnTo>
                        <a:pt x="1475" y="1100"/>
                      </a:lnTo>
                      <a:lnTo>
                        <a:pt x="1456" y="1136"/>
                      </a:lnTo>
                      <a:lnTo>
                        <a:pt x="1437" y="1171"/>
                      </a:lnTo>
                      <a:lnTo>
                        <a:pt x="1418" y="1206"/>
                      </a:lnTo>
                      <a:lnTo>
                        <a:pt x="1399" y="1238"/>
                      </a:lnTo>
                      <a:lnTo>
                        <a:pt x="1380" y="1267"/>
                      </a:lnTo>
                      <a:lnTo>
                        <a:pt x="1363" y="1292"/>
                      </a:lnTo>
                      <a:lnTo>
                        <a:pt x="1347" y="1313"/>
                      </a:lnTo>
                      <a:lnTo>
                        <a:pt x="1333" y="1327"/>
                      </a:lnTo>
                      <a:lnTo>
                        <a:pt x="1320" y="1334"/>
                      </a:lnTo>
                      <a:lnTo>
                        <a:pt x="1316" y="1335"/>
                      </a:lnTo>
                      <a:lnTo>
                        <a:pt x="1304" y="1337"/>
                      </a:lnTo>
                      <a:lnTo>
                        <a:pt x="1284" y="1341"/>
                      </a:lnTo>
                      <a:lnTo>
                        <a:pt x="1260" y="1345"/>
                      </a:lnTo>
                      <a:lnTo>
                        <a:pt x="1230" y="1352"/>
                      </a:lnTo>
                      <a:lnTo>
                        <a:pt x="1197" y="1358"/>
                      </a:lnTo>
                      <a:lnTo>
                        <a:pt x="1161" y="1365"/>
                      </a:lnTo>
                      <a:lnTo>
                        <a:pt x="1124" y="1373"/>
                      </a:lnTo>
                      <a:lnTo>
                        <a:pt x="1086" y="1380"/>
                      </a:lnTo>
                      <a:lnTo>
                        <a:pt x="1048" y="1387"/>
                      </a:lnTo>
                      <a:lnTo>
                        <a:pt x="1013" y="1393"/>
                      </a:lnTo>
                      <a:lnTo>
                        <a:pt x="978" y="1399"/>
                      </a:lnTo>
                      <a:lnTo>
                        <a:pt x="948" y="1404"/>
                      </a:lnTo>
                      <a:lnTo>
                        <a:pt x="923" y="1408"/>
                      </a:lnTo>
                      <a:lnTo>
                        <a:pt x="903" y="1411"/>
                      </a:lnTo>
                      <a:lnTo>
                        <a:pt x="890" y="1412"/>
                      </a:lnTo>
                      <a:lnTo>
                        <a:pt x="888" y="1364"/>
                      </a:lnTo>
                      <a:lnTo>
                        <a:pt x="1301" y="1292"/>
                      </a:lnTo>
                      <a:lnTo>
                        <a:pt x="1325" y="1281"/>
                      </a:lnTo>
                      <a:lnTo>
                        <a:pt x="1351" y="1251"/>
                      </a:lnTo>
                      <a:lnTo>
                        <a:pt x="1380" y="1212"/>
                      </a:lnTo>
                      <a:lnTo>
                        <a:pt x="1408" y="1165"/>
                      </a:lnTo>
                      <a:lnTo>
                        <a:pt x="1433" y="1121"/>
                      </a:lnTo>
                      <a:lnTo>
                        <a:pt x="1454" y="1080"/>
                      </a:lnTo>
                      <a:lnTo>
                        <a:pt x="1468" y="1053"/>
                      </a:lnTo>
                      <a:lnTo>
                        <a:pt x="1472" y="1042"/>
                      </a:lnTo>
                      <a:lnTo>
                        <a:pt x="1484" y="1011"/>
                      </a:lnTo>
                      <a:lnTo>
                        <a:pt x="1492" y="978"/>
                      </a:lnTo>
                      <a:lnTo>
                        <a:pt x="1495" y="946"/>
                      </a:lnTo>
                      <a:lnTo>
                        <a:pt x="1496" y="912"/>
                      </a:lnTo>
                      <a:lnTo>
                        <a:pt x="1494" y="879"/>
                      </a:lnTo>
                      <a:lnTo>
                        <a:pt x="1488" y="845"/>
                      </a:lnTo>
                      <a:lnTo>
                        <a:pt x="1479" y="813"/>
                      </a:lnTo>
                      <a:lnTo>
                        <a:pt x="1468" y="782"/>
                      </a:lnTo>
                      <a:lnTo>
                        <a:pt x="1461" y="789"/>
                      </a:lnTo>
                      <a:lnTo>
                        <a:pt x="1455" y="797"/>
                      </a:lnTo>
                      <a:lnTo>
                        <a:pt x="1448" y="806"/>
                      </a:lnTo>
                      <a:lnTo>
                        <a:pt x="1442" y="817"/>
                      </a:lnTo>
                      <a:lnTo>
                        <a:pt x="1454" y="861"/>
                      </a:lnTo>
                      <a:lnTo>
                        <a:pt x="1455" y="909"/>
                      </a:lnTo>
                      <a:lnTo>
                        <a:pt x="1449" y="958"/>
                      </a:lnTo>
                      <a:lnTo>
                        <a:pt x="1441" y="1007"/>
                      </a:lnTo>
                      <a:lnTo>
                        <a:pt x="1433" y="1025"/>
                      </a:lnTo>
                      <a:lnTo>
                        <a:pt x="1424" y="1043"/>
                      </a:lnTo>
                      <a:lnTo>
                        <a:pt x="1413" y="1061"/>
                      </a:lnTo>
                      <a:lnTo>
                        <a:pt x="1402" y="1078"/>
                      </a:lnTo>
                      <a:lnTo>
                        <a:pt x="1388" y="1092"/>
                      </a:lnTo>
                      <a:lnTo>
                        <a:pt x="1371" y="1103"/>
                      </a:lnTo>
                      <a:lnTo>
                        <a:pt x="1350" y="1111"/>
                      </a:lnTo>
                      <a:lnTo>
                        <a:pt x="1326" y="1116"/>
                      </a:lnTo>
                      <a:lnTo>
                        <a:pt x="1311" y="1117"/>
                      </a:lnTo>
                      <a:lnTo>
                        <a:pt x="1296" y="1118"/>
                      </a:lnTo>
                      <a:lnTo>
                        <a:pt x="1282" y="1119"/>
                      </a:lnTo>
                      <a:lnTo>
                        <a:pt x="1268" y="1122"/>
                      </a:lnTo>
                      <a:lnTo>
                        <a:pt x="1254" y="1123"/>
                      </a:lnTo>
                      <a:lnTo>
                        <a:pt x="1242" y="1125"/>
                      </a:lnTo>
                      <a:lnTo>
                        <a:pt x="1229" y="1126"/>
                      </a:lnTo>
                      <a:lnTo>
                        <a:pt x="1216" y="1127"/>
                      </a:lnTo>
                      <a:lnTo>
                        <a:pt x="1203" y="1129"/>
                      </a:lnTo>
                      <a:lnTo>
                        <a:pt x="1190" y="1130"/>
                      </a:lnTo>
                      <a:lnTo>
                        <a:pt x="1176" y="1131"/>
                      </a:lnTo>
                      <a:lnTo>
                        <a:pt x="1162" y="1131"/>
                      </a:lnTo>
                      <a:lnTo>
                        <a:pt x="1147" y="1131"/>
                      </a:lnTo>
                      <a:lnTo>
                        <a:pt x="1131" y="1131"/>
                      </a:lnTo>
                      <a:lnTo>
                        <a:pt x="1115" y="1130"/>
                      </a:lnTo>
                      <a:lnTo>
                        <a:pt x="1098" y="1129"/>
                      </a:lnTo>
                      <a:lnTo>
                        <a:pt x="1093" y="1127"/>
                      </a:lnTo>
                      <a:lnTo>
                        <a:pt x="1085" y="1126"/>
                      </a:lnTo>
                      <a:lnTo>
                        <a:pt x="1075" y="1125"/>
                      </a:lnTo>
                      <a:lnTo>
                        <a:pt x="1064" y="1122"/>
                      </a:lnTo>
                      <a:lnTo>
                        <a:pt x="1053" y="1118"/>
                      </a:lnTo>
                      <a:lnTo>
                        <a:pt x="1041" y="1113"/>
                      </a:lnTo>
                      <a:lnTo>
                        <a:pt x="1032" y="1106"/>
                      </a:lnTo>
                      <a:lnTo>
                        <a:pt x="1025" y="1098"/>
                      </a:lnTo>
                      <a:lnTo>
                        <a:pt x="1018" y="1078"/>
                      </a:lnTo>
                      <a:lnTo>
                        <a:pt x="1018" y="1055"/>
                      </a:lnTo>
                      <a:lnTo>
                        <a:pt x="1021" y="1031"/>
                      </a:lnTo>
                      <a:lnTo>
                        <a:pt x="1024" y="1005"/>
                      </a:lnTo>
                      <a:lnTo>
                        <a:pt x="1025" y="1012"/>
                      </a:lnTo>
                      <a:lnTo>
                        <a:pt x="1029" y="1032"/>
                      </a:lnTo>
                      <a:lnTo>
                        <a:pt x="1036" y="1054"/>
                      </a:lnTo>
                      <a:lnTo>
                        <a:pt x="1051" y="1071"/>
                      </a:lnTo>
                      <a:lnTo>
                        <a:pt x="1064" y="1078"/>
                      </a:lnTo>
                      <a:lnTo>
                        <a:pt x="1079" y="1083"/>
                      </a:lnTo>
                      <a:lnTo>
                        <a:pt x="1093" y="1087"/>
                      </a:lnTo>
                      <a:lnTo>
                        <a:pt x="1108" y="1091"/>
                      </a:lnTo>
                      <a:lnTo>
                        <a:pt x="1122" y="1093"/>
                      </a:lnTo>
                      <a:lnTo>
                        <a:pt x="1137" y="1094"/>
                      </a:lnTo>
                      <a:lnTo>
                        <a:pt x="1152" y="1094"/>
                      </a:lnTo>
                      <a:lnTo>
                        <a:pt x="1167" y="1094"/>
                      </a:lnTo>
                      <a:lnTo>
                        <a:pt x="1181" y="1094"/>
                      </a:lnTo>
                      <a:lnTo>
                        <a:pt x="1196" y="1093"/>
                      </a:lnTo>
                      <a:lnTo>
                        <a:pt x="1211" y="1092"/>
                      </a:lnTo>
                      <a:lnTo>
                        <a:pt x="1225" y="1091"/>
                      </a:lnTo>
                      <a:lnTo>
                        <a:pt x="1240" y="1088"/>
                      </a:lnTo>
                      <a:lnTo>
                        <a:pt x="1253" y="1087"/>
                      </a:lnTo>
                      <a:lnTo>
                        <a:pt x="1268" y="1085"/>
                      </a:lnTo>
                      <a:lnTo>
                        <a:pt x="1282" y="1084"/>
                      </a:lnTo>
                      <a:lnTo>
                        <a:pt x="1309" y="1078"/>
                      </a:lnTo>
                      <a:lnTo>
                        <a:pt x="1332" y="1072"/>
                      </a:lnTo>
                      <a:lnTo>
                        <a:pt x="1350" y="1065"/>
                      </a:lnTo>
                      <a:lnTo>
                        <a:pt x="1366" y="1058"/>
                      </a:lnTo>
                      <a:lnTo>
                        <a:pt x="1379" y="1049"/>
                      </a:lnTo>
                      <a:lnTo>
                        <a:pt x="1390" y="1038"/>
                      </a:lnTo>
                      <a:lnTo>
                        <a:pt x="1400" y="1025"/>
                      </a:lnTo>
                      <a:lnTo>
                        <a:pt x="1408" y="1009"/>
                      </a:lnTo>
                      <a:lnTo>
                        <a:pt x="1424" y="963"/>
                      </a:lnTo>
                      <a:lnTo>
                        <a:pt x="1433" y="919"/>
                      </a:lnTo>
                      <a:lnTo>
                        <a:pt x="1433" y="876"/>
                      </a:lnTo>
                      <a:lnTo>
                        <a:pt x="1427" y="835"/>
                      </a:lnTo>
                      <a:lnTo>
                        <a:pt x="1411" y="853"/>
                      </a:lnTo>
                      <a:lnTo>
                        <a:pt x="1396" y="873"/>
                      </a:lnTo>
                      <a:lnTo>
                        <a:pt x="1382" y="893"/>
                      </a:lnTo>
                      <a:lnTo>
                        <a:pt x="1370" y="913"/>
                      </a:lnTo>
                      <a:lnTo>
                        <a:pt x="1356" y="934"/>
                      </a:lnTo>
                      <a:lnTo>
                        <a:pt x="1342" y="954"/>
                      </a:lnTo>
                      <a:lnTo>
                        <a:pt x="1326" y="973"/>
                      </a:lnTo>
                      <a:lnTo>
                        <a:pt x="1309" y="990"/>
                      </a:lnTo>
                      <a:lnTo>
                        <a:pt x="1310" y="999"/>
                      </a:lnTo>
                      <a:lnTo>
                        <a:pt x="1309" y="1008"/>
                      </a:lnTo>
                      <a:lnTo>
                        <a:pt x="1305" y="1017"/>
                      </a:lnTo>
                      <a:lnTo>
                        <a:pt x="1301" y="1025"/>
                      </a:lnTo>
                      <a:lnTo>
                        <a:pt x="1296" y="1030"/>
                      </a:lnTo>
                      <a:lnTo>
                        <a:pt x="1291" y="1034"/>
                      </a:lnTo>
                      <a:lnTo>
                        <a:pt x="1287" y="1038"/>
                      </a:lnTo>
                      <a:lnTo>
                        <a:pt x="1282" y="1040"/>
                      </a:lnTo>
                      <a:lnTo>
                        <a:pt x="1276" y="1042"/>
                      </a:lnTo>
                      <a:lnTo>
                        <a:pt x="1269" y="1043"/>
                      </a:lnTo>
                      <a:lnTo>
                        <a:pt x="1261" y="1045"/>
                      </a:lnTo>
                      <a:lnTo>
                        <a:pt x="1253" y="1043"/>
                      </a:lnTo>
                      <a:lnTo>
                        <a:pt x="1238" y="1022"/>
                      </a:lnTo>
                      <a:lnTo>
                        <a:pt x="1225" y="970"/>
                      </a:lnTo>
                      <a:lnTo>
                        <a:pt x="1210" y="901"/>
                      </a:lnTo>
                      <a:lnTo>
                        <a:pt x="1197" y="821"/>
                      </a:lnTo>
                      <a:lnTo>
                        <a:pt x="1185" y="743"/>
                      </a:lnTo>
                      <a:lnTo>
                        <a:pt x="1176" y="675"/>
                      </a:lnTo>
                      <a:lnTo>
                        <a:pt x="1170" y="627"/>
                      </a:lnTo>
                      <a:lnTo>
                        <a:pt x="1168" y="608"/>
                      </a:lnTo>
                      <a:lnTo>
                        <a:pt x="1160" y="595"/>
                      </a:lnTo>
                      <a:lnTo>
                        <a:pt x="1150" y="583"/>
                      </a:lnTo>
                      <a:lnTo>
                        <a:pt x="1137" y="571"/>
                      </a:lnTo>
                      <a:lnTo>
                        <a:pt x="1123" y="561"/>
                      </a:lnTo>
                      <a:lnTo>
                        <a:pt x="1108" y="551"/>
                      </a:lnTo>
                      <a:lnTo>
                        <a:pt x="1092" y="540"/>
                      </a:lnTo>
                      <a:lnTo>
                        <a:pt x="1077" y="529"/>
                      </a:lnTo>
                      <a:lnTo>
                        <a:pt x="1063" y="517"/>
                      </a:lnTo>
                      <a:lnTo>
                        <a:pt x="1064" y="492"/>
                      </a:lnTo>
                      <a:lnTo>
                        <a:pt x="1083" y="502"/>
                      </a:lnTo>
                      <a:lnTo>
                        <a:pt x="1101" y="513"/>
                      </a:lnTo>
                      <a:lnTo>
                        <a:pt x="1121" y="525"/>
                      </a:lnTo>
                      <a:lnTo>
                        <a:pt x="1140" y="538"/>
                      </a:lnTo>
                      <a:lnTo>
                        <a:pt x="1159" y="553"/>
                      </a:lnTo>
                      <a:lnTo>
                        <a:pt x="1175" y="568"/>
                      </a:lnTo>
                      <a:lnTo>
                        <a:pt x="1189" y="585"/>
                      </a:lnTo>
                      <a:lnTo>
                        <a:pt x="1200" y="602"/>
                      </a:lnTo>
                      <a:lnTo>
                        <a:pt x="1204" y="623"/>
                      </a:lnTo>
                      <a:lnTo>
                        <a:pt x="1210" y="666"/>
                      </a:lnTo>
                      <a:lnTo>
                        <a:pt x="1216" y="726"/>
                      </a:lnTo>
                      <a:lnTo>
                        <a:pt x="1223" y="794"/>
                      </a:lnTo>
                      <a:lnTo>
                        <a:pt x="1231" y="863"/>
                      </a:lnTo>
                      <a:lnTo>
                        <a:pt x="1241" y="926"/>
                      </a:lnTo>
                      <a:lnTo>
                        <a:pt x="1250" y="977"/>
                      </a:lnTo>
                      <a:lnTo>
                        <a:pt x="1259" y="1007"/>
                      </a:lnTo>
                      <a:lnTo>
                        <a:pt x="1266" y="1009"/>
                      </a:lnTo>
                      <a:lnTo>
                        <a:pt x="1274" y="1008"/>
                      </a:lnTo>
                      <a:lnTo>
                        <a:pt x="1281" y="1005"/>
                      </a:lnTo>
                      <a:lnTo>
                        <a:pt x="1287" y="1002"/>
                      </a:lnTo>
                      <a:lnTo>
                        <a:pt x="1290" y="988"/>
                      </a:lnTo>
                      <a:lnTo>
                        <a:pt x="1289" y="974"/>
                      </a:lnTo>
                      <a:lnTo>
                        <a:pt x="1286" y="962"/>
                      </a:lnTo>
                      <a:lnTo>
                        <a:pt x="1281" y="949"/>
                      </a:lnTo>
                      <a:lnTo>
                        <a:pt x="1283" y="948"/>
                      </a:lnTo>
                      <a:lnTo>
                        <a:pt x="1288" y="949"/>
                      </a:lnTo>
                      <a:lnTo>
                        <a:pt x="1293" y="951"/>
                      </a:lnTo>
                      <a:lnTo>
                        <a:pt x="1297" y="955"/>
                      </a:lnTo>
                      <a:lnTo>
                        <a:pt x="1321" y="926"/>
                      </a:lnTo>
                      <a:lnTo>
                        <a:pt x="1344" y="896"/>
                      </a:lnTo>
                      <a:lnTo>
                        <a:pt x="1367" y="866"/>
                      </a:lnTo>
                      <a:lnTo>
                        <a:pt x="1389" y="835"/>
                      </a:lnTo>
                      <a:lnTo>
                        <a:pt x="1410" y="804"/>
                      </a:lnTo>
                      <a:lnTo>
                        <a:pt x="1432" y="772"/>
                      </a:lnTo>
                      <a:lnTo>
                        <a:pt x="1453" y="741"/>
                      </a:lnTo>
                      <a:lnTo>
                        <a:pt x="1473" y="709"/>
                      </a:lnTo>
                      <a:lnTo>
                        <a:pt x="1480" y="700"/>
                      </a:lnTo>
                      <a:lnTo>
                        <a:pt x="1486" y="691"/>
                      </a:lnTo>
                      <a:lnTo>
                        <a:pt x="1492" y="682"/>
                      </a:lnTo>
                      <a:lnTo>
                        <a:pt x="1498" y="673"/>
                      </a:lnTo>
                      <a:lnTo>
                        <a:pt x="1501" y="663"/>
                      </a:lnTo>
                      <a:lnTo>
                        <a:pt x="1503" y="654"/>
                      </a:lnTo>
                      <a:lnTo>
                        <a:pt x="1504" y="645"/>
                      </a:lnTo>
                      <a:lnTo>
                        <a:pt x="1502" y="635"/>
                      </a:lnTo>
                      <a:lnTo>
                        <a:pt x="1498" y="622"/>
                      </a:lnTo>
                      <a:lnTo>
                        <a:pt x="1488" y="608"/>
                      </a:lnTo>
                      <a:lnTo>
                        <a:pt x="1478" y="592"/>
                      </a:lnTo>
                      <a:lnTo>
                        <a:pt x="1464" y="575"/>
                      </a:lnTo>
                      <a:lnTo>
                        <a:pt x="1447" y="556"/>
                      </a:lnTo>
                      <a:lnTo>
                        <a:pt x="1428" y="538"/>
                      </a:lnTo>
                      <a:lnTo>
                        <a:pt x="1408" y="517"/>
                      </a:lnTo>
                      <a:lnTo>
                        <a:pt x="1385" y="496"/>
                      </a:lnTo>
                      <a:lnTo>
                        <a:pt x="1360" y="476"/>
                      </a:lnTo>
                      <a:lnTo>
                        <a:pt x="1335" y="454"/>
                      </a:lnTo>
                      <a:lnTo>
                        <a:pt x="1307" y="432"/>
                      </a:lnTo>
                      <a:lnTo>
                        <a:pt x="1280" y="410"/>
                      </a:lnTo>
                      <a:lnTo>
                        <a:pt x="1251" y="388"/>
                      </a:lnTo>
                      <a:lnTo>
                        <a:pt x="1222" y="367"/>
                      </a:lnTo>
                      <a:lnTo>
                        <a:pt x="1192" y="346"/>
                      </a:lnTo>
                      <a:lnTo>
                        <a:pt x="1162" y="325"/>
                      </a:lnTo>
                      <a:lnTo>
                        <a:pt x="1155" y="324"/>
                      </a:lnTo>
                      <a:lnTo>
                        <a:pt x="1144" y="325"/>
                      </a:lnTo>
                      <a:lnTo>
                        <a:pt x="1131" y="325"/>
                      </a:lnTo>
                      <a:lnTo>
                        <a:pt x="1116" y="327"/>
                      </a:lnTo>
                      <a:lnTo>
                        <a:pt x="1101" y="329"/>
                      </a:lnTo>
                      <a:lnTo>
                        <a:pt x="1089" y="333"/>
                      </a:lnTo>
                      <a:lnTo>
                        <a:pt x="1078" y="336"/>
                      </a:lnTo>
                      <a:lnTo>
                        <a:pt x="1071" y="341"/>
                      </a:lnTo>
                      <a:lnTo>
                        <a:pt x="1040" y="405"/>
                      </a:lnTo>
                      <a:lnTo>
                        <a:pt x="1047" y="432"/>
                      </a:lnTo>
                      <a:lnTo>
                        <a:pt x="1051" y="460"/>
                      </a:lnTo>
                      <a:lnTo>
                        <a:pt x="1049" y="487"/>
                      </a:lnTo>
                      <a:lnTo>
                        <a:pt x="1040" y="511"/>
                      </a:lnTo>
                      <a:lnTo>
                        <a:pt x="1033" y="503"/>
                      </a:lnTo>
                      <a:lnTo>
                        <a:pt x="1034" y="484"/>
                      </a:lnTo>
                      <a:lnTo>
                        <a:pt x="1036" y="461"/>
                      </a:lnTo>
                      <a:lnTo>
                        <a:pt x="1031" y="442"/>
                      </a:lnTo>
                      <a:lnTo>
                        <a:pt x="1026" y="435"/>
                      </a:lnTo>
                      <a:lnTo>
                        <a:pt x="1007" y="453"/>
                      </a:lnTo>
                      <a:lnTo>
                        <a:pt x="1015" y="472"/>
                      </a:lnTo>
                      <a:lnTo>
                        <a:pt x="1018" y="493"/>
                      </a:lnTo>
                      <a:lnTo>
                        <a:pt x="1014" y="514"/>
                      </a:lnTo>
                      <a:lnTo>
                        <a:pt x="1002" y="533"/>
                      </a:lnTo>
                      <a:lnTo>
                        <a:pt x="992" y="526"/>
                      </a:lnTo>
                      <a:lnTo>
                        <a:pt x="995" y="515"/>
                      </a:lnTo>
                      <a:lnTo>
                        <a:pt x="998" y="500"/>
                      </a:lnTo>
                      <a:lnTo>
                        <a:pt x="998" y="486"/>
                      </a:lnTo>
                      <a:lnTo>
                        <a:pt x="994" y="472"/>
                      </a:lnTo>
                      <a:lnTo>
                        <a:pt x="990" y="467"/>
                      </a:lnTo>
                      <a:lnTo>
                        <a:pt x="985" y="461"/>
                      </a:lnTo>
                      <a:lnTo>
                        <a:pt x="978" y="456"/>
                      </a:lnTo>
                      <a:lnTo>
                        <a:pt x="971" y="452"/>
                      </a:lnTo>
                      <a:lnTo>
                        <a:pt x="964" y="447"/>
                      </a:lnTo>
                      <a:lnTo>
                        <a:pt x="957" y="442"/>
                      </a:lnTo>
                      <a:lnTo>
                        <a:pt x="950" y="437"/>
                      </a:lnTo>
                      <a:lnTo>
                        <a:pt x="945" y="430"/>
                      </a:lnTo>
                      <a:lnTo>
                        <a:pt x="938" y="431"/>
                      </a:lnTo>
                      <a:lnTo>
                        <a:pt x="932" y="433"/>
                      </a:lnTo>
                      <a:lnTo>
                        <a:pt x="926" y="438"/>
                      </a:lnTo>
                      <a:lnTo>
                        <a:pt x="923" y="441"/>
                      </a:lnTo>
                      <a:lnTo>
                        <a:pt x="918" y="447"/>
                      </a:lnTo>
                      <a:lnTo>
                        <a:pt x="915" y="453"/>
                      </a:lnTo>
                      <a:lnTo>
                        <a:pt x="912" y="458"/>
                      </a:lnTo>
                      <a:lnTo>
                        <a:pt x="910" y="464"/>
                      </a:lnTo>
                      <a:lnTo>
                        <a:pt x="908" y="476"/>
                      </a:lnTo>
                      <a:lnTo>
                        <a:pt x="909" y="487"/>
                      </a:lnTo>
                      <a:lnTo>
                        <a:pt x="913" y="498"/>
                      </a:lnTo>
                      <a:lnTo>
                        <a:pt x="923" y="507"/>
                      </a:lnTo>
                      <a:lnTo>
                        <a:pt x="930" y="511"/>
                      </a:lnTo>
                      <a:lnTo>
                        <a:pt x="937" y="516"/>
                      </a:lnTo>
                      <a:lnTo>
                        <a:pt x="945" y="522"/>
                      </a:lnTo>
                      <a:lnTo>
                        <a:pt x="952" y="526"/>
                      </a:lnTo>
                      <a:lnTo>
                        <a:pt x="960" y="531"/>
                      </a:lnTo>
                      <a:lnTo>
                        <a:pt x="966" y="536"/>
                      </a:lnTo>
                      <a:lnTo>
                        <a:pt x="973" y="539"/>
                      </a:lnTo>
                      <a:lnTo>
                        <a:pt x="980" y="544"/>
                      </a:lnTo>
                      <a:lnTo>
                        <a:pt x="978" y="548"/>
                      </a:lnTo>
                      <a:lnTo>
                        <a:pt x="977" y="556"/>
                      </a:lnTo>
                      <a:lnTo>
                        <a:pt x="973" y="562"/>
                      </a:lnTo>
                      <a:lnTo>
                        <a:pt x="969" y="566"/>
                      </a:lnTo>
                      <a:lnTo>
                        <a:pt x="955" y="560"/>
                      </a:lnTo>
                      <a:lnTo>
                        <a:pt x="942" y="553"/>
                      </a:lnTo>
                      <a:lnTo>
                        <a:pt x="930" y="546"/>
                      </a:lnTo>
                      <a:lnTo>
                        <a:pt x="917" y="539"/>
                      </a:lnTo>
                      <a:lnTo>
                        <a:pt x="905" y="531"/>
                      </a:lnTo>
                      <a:lnTo>
                        <a:pt x="894" y="523"/>
                      </a:lnTo>
                      <a:lnTo>
                        <a:pt x="884" y="515"/>
                      </a:lnTo>
                      <a:lnTo>
                        <a:pt x="874" y="507"/>
                      </a:lnTo>
                      <a:lnTo>
                        <a:pt x="864" y="530"/>
                      </a:lnTo>
                      <a:lnTo>
                        <a:pt x="863" y="554"/>
                      </a:lnTo>
                      <a:lnTo>
                        <a:pt x="866" y="577"/>
                      </a:lnTo>
                      <a:lnTo>
                        <a:pt x="871" y="601"/>
                      </a:lnTo>
                      <a:lnTo>
                        <a:pt x="880" y="601"/>
                      </a:lnTo>
                      <a:lnTo>
                        <a:pt x="888" y="600"/>
                      </a:lnTo>
                      <a:lnTo>
                        <a:pt x="897" y="598"/>
                      </a:lnTo>
                      <a:lnTo>
                        <a:pt x="907" y="594"/>
                      </a:lnTo>
                      <a:lnTo>
                        <a:pt x="916" y="592"/>
                      </a:lnTo>
                      <a:lnTo>
                        <a:pt x="926" y="587"/>
                      </a:lnTo>
                      <a:lnTo>
                        <a:pt x="935" y="585"/>
                      </a:lnTo>
                      <a:lnTo>
                        <a:pt x="945" y="582"/>
                      </a:lnTo>
                      <a:lnTo>
                        <a:pt x="947" y="584"/>
                      </a:lnTo>
                      <a:lnTo>
                        <a:pt x="950" y="586"/>
                      </a:lnTo>
                      <a:lnTo>
                        <a:pt x="953" y="589"/>
                      </a:lnTo>
                      <a:lnTo>
                        <a:pt x="953" y="592"/>
                      </a:lnTo>
                      <a:lnTo>
                        <a:pt x="945" y="600"/>
                      </a:lnTo>
                      <a:lnTo>
                        <a:pt x="935" y="607"/>
                      </a:lnTo>
                      <a:lnTo>
                        <a:pt x="925" y="613"/>
                      </a:lnTo>
                      <a:lnTo>
                        <a:pt x="913" y="617"/>
                      </a:lnTo>
                      <a:lnTo>
                        <a:pt x="902" y="621"/>
                      </a:lnTo>
                      <a:lnTo>
                        <a:pt x="890" y="624"/>
                      </a:lnTo>
                      <a:lnTo>
                        <a:pt x="879" y="628"/>
                      </a:lnTo>
                      <a:lnTo>
                        <a:pt x="867" y="630"/>
                      </a:lnTo>
                      <a:lnTo>
                        <a:pt x="856" y="620"/>
                      </a:lnTo>
                      <a:lnTo>
                        <a:pt x="848" y="608"/>
                      </a:lnTo>
                      <a:lnTo>
                        <a:pt x="842" y="595"/>
                      </a:lnTo>
                      <a:lnTo>
                        <a:pt x="837" y="582"/>
                      </a:lnTo>
                      <a:lnTo>
                        <a:pt x="834" y="568"/>
                      </a:lnTo>
                      <a:lnTo>
                        <a:pt x="833" y="553"/>
                      </a:lnTo>
                      <a:lnTo>
                        <a:pt x="832" y="538"/>
                      </a:lnTo>
                      <a:lnTo>
                        <a:pt x="831" y="524"/>
                      </a:lnTo>
                      <a:lnTo>
                        <a:pt x="836" y="508"/>
                      </a:lnTo>
                      <a:lnTo>
                        <a:pt x="846" y="493"/>
                      </a:lnTo>
                      <a:lnTo>
                        <a:pt x="855" y="480"/>
                      </a:lnTo>
                      <a:lnTo>
                        <a:pt x="864" y="468"/>
                      </a:lnTo>
                      <a:lnTo>
                        <a:pt x="885" y="479"/>
                      </a:lnTo>
                      <a:lnTo>
                        <a:pt x="887" y="468"/>
                      </a:lnTo>
                      <a:lnTo>
                        <a:pt x="889" y="456"/>
                      </a:lnTo>
                      <a:lnTo>
                        <a:pt x="893" y="445"/>
                      </a:lnTo>
                      <a:lnTo>
                        <a:pt x="899" y="433"/>
                      </a:lnTo>
                      <a:lnTo>
                        <a:pt x="905" y="424"/>
                      </a:lnTo>
                      <a:lnTo>
                        <a:pt x="912" y="415"/>
                      </a:lnTo>
                      <a:lnTo>
                        <a:pt x="923" y="408"/>
                      </a:lnTo>
                      <a:lnTo>
                        <a:pt x="933" y="402"/>
                      </a:lnTo>
                      <a:lnTo>
                        <a:pt x="932" y="399"/>
                      </a:lnTo>
                      <a:lnTo>
                        <a:pt x="932" y="396"/>
                      </a:lnTo>
                      <a:lnTo>
                        <a:pt x="932" y="393"/>
                      </a:lnTo>
                      <a:lnTo>
                        <a:pt x="930" y="391"/>
                      </a:lnTo>
                      <a:lnTo>
                        <a:pt x="920" y="393"/>
                      </a:lnTo>
                      <a:lnTo>
                        <a:pt x="912" y="396"/>
                      </a:lnTo>
                      <a:lnTo>
                        <a:pt x="907" y="402"/>
                      </a:lnTo>
                      <a:lnTo>
                        <a:pt x="902" y="409"/>
                      </a:lnTo>
                      <a:lnTo>
                        <a:pt x="897" y="417"/>
                      </a:lnTo>
                      <a:lnTo>
                        <a:pt x="894" y="424"/>
                      </a:lnTo>
                      <a:lnTo>
                        <a:pt x="890" y="432"/>
                      </a:lnTo>
                      <a:lnTo>
                        <a:pt x="886" y="438"/>
                      </a:lnTo>
                      <a:lnTo>
                        <a:pt x="874" y="427"/>
                      </a:lnTo>
                      <a:lnTo>
                        <a:pt x="874" y="419"/>
                      </a:lnTo>
                      <a:lnTo>
                        <a:pt x="877" y="410"/>
                      </a:lnTo>
                      <a:lnTo>
                        <a:pt x="880" y="401"/>
                      </a:lnTo>
                      <a:lnTo>
                        <a:pt x="887" y="392"/>
                      </a:lnTo>
                      <a:lnTo>
                        <a:pt x="896" y="382"/>
                      </a:lnTo>
                      <a:lnTo>
                        <a:pt x="909" y="376"/>
                      </a:lnTo>
                      <a:lnTo>
                        <a:pt x="923" y="370"/>
                      </a:lnTo>
                      <a:lnTo>
                        <a:pt x="940" y="365"/>
                      </a:lnTo>
                      <a:lnTo>
                        <a:pt x="939" y="343"/>
                      </a:lnTo>
                      <a:lnTo>
                        <a:pt x="928" y="347"/>
                      </a:lnTo>
                      <a:lnTo>
                        <a:pt x="919" y="349"/>
                      </a:lnTo>
                      <a:lnTo>
                        <a:pt x="911" y="353"/>
                      </a:lnTo>
                      <a:lnTo>
                        <a:pt x="902" y="356"/>
                      </a:lnTo>
                      <a:lnTo>
                        <a:pt x="894" y="361"/>
                      </a:lnTo>
                      <a:lnTo>
                        <a:pt x="885" y="367"/>
                      </a:lnTo>
                      <a:lnTo>
                        <a:pt x="873" y="376"/>
                      </a:lnTo>
                      <a:lnTo>
                        <a:pt x="862" y="387"/>
                      </a:lnTo>
                      <a:lnTo>
                        <a:pt x="860" y="394"/>
                      </a:lnTo>
                      <a:lnTo>
                        <a:pt x="856" y="401"/>
                      </a:lnTo>
                      <a:lnTo>
                        <a:pt x="850" y="410"/>
                      </a:lnTo>
                      <a:lnTo>
                        <a:pt x="843" y="418"/>
                      </a:lnTo>
                      <a:lnTo>
                        <a:pt x="836" y="427"/>
                      </a:lnTo>
                      <a:lnTo>
                        <a:pt x="829" y="435"/>
                      </a:lnTo>
                      <a:lnTo>
                        <a:pt x="822" y="442"/>
                      </a:lnTo>
                      <a:lnTo>
                        <a:pt x="818" y="448"/>
                      </a:lnTo>
                      <a:lnTo>
                        <a:pt x="809" y="445"/>
                      </a:lnTo>
                      <a:lnTo>
                        <a:pt x="796" y="437"/>
                      </a:lnTo>
                      <a:lnTo>
                        <a:pt x="783" y="427"/>
                      </a:lnTo>
                      <a:lnTo>
                        <a:pt x="769" y="415"/>
                      </a:lnTo>
                      <a:lnTo>
                        <a:pt x="757" y="403"/>
                      </a:lnTo>
                      <a:lnTo>
                        <a:pt x="745" y="392"/>
                      </a:lnTo>
                      <a:lnTo>
                        <a:pt x="735" y="382"/>
                      </a:lnTo>
                      <a:lnTo>
                        <a:pt x="728" y="376"/>
                      </a:lnTo>
                      <a:lnTo>
                        <a:pt x="736" y="373"/>
                      </a:lnTo>
                      <a:lnTo>
                        <a:pt x="745" y="374"/>
                      </a:lnTo>
                      <a:lnTo>
                        <a:pt x="757" y="378"/>
                      </a:lnTo>
                      <a:lnTo>
                        <a:pt x="769" y="384"/>
                      </a:lnTo>
                      <a:lnTo>
                        <a:pt x="781" y="392"/>
                      </a:lnTo>
                      <a:lnTo>
                        <a:pt x="793" y="400"/>
                      </a:lnTo>
                      <a:lnTo>
                        <a:pt x="803" y="409"/>
                      </a:lnTo>
                      <a:lnTo>
                        <a:pt x="811" y="417"/>
                      </a:lnTo>
                      <a:lnTo>
                        <a:pt x="820" y="411"/>
                      </a:lnTo>
                      <a:lnTo>
                        <a:pt x="826" y="403"/>
                      </a:lnTo>
                      <a:lnTo>
                        <a:pt x="826" y="394"/>
                      </a:lnTo>
                      <a:lnTo>
                        <a:pt x="819" y="387"/>
                      </a:lnTo>
                      <a:lnTo>
                        <a:pt x="811" y="382"/>
                      </a:lnTo>
                      <a:lnTo>
                        <a:pt x="801" y="377"/>
                      </a:lnTo>
                      <a:lnTo>
                        <a:pt x="789" y="370"/>
                      </a:lnTo>
                      <a:lnTo>
                        <a:pt x="779" y="362"/>
                      </a:lnTo>
                      <a:lnTo>
                        <a:pt x="769" y="353"/>
                      </a:lnTo>
                      <a:lnTo>
                        <a:pt x="763" y="344"/>
                      </a:lnTo>
                      <a:lnTo>
                        <a:pt x="760" y="335"/>
                      </a:lnTo>
                      <a:lnTo>
                        <a:pt x="763" y="327"/>
                      </a:lnTo>
                      <a:lnTo>
                        <a:pt x="766" y="329"/>
                      </a:lnTo>
                      <a:lnTo>
                        <a:pt x="773" y="334"/>
                      </a:lnTo>
                      <a:lnTo>
                        <a:pt x="784" y="341"/>
                      </a:lnTo>
                      <a:lnTo>
                        <a:pt x="798" y="350"/>
                      </a:lnTo>
                      <a:lnTo>
                        <a:pt x="812" y="359"/>
                      </a:lnTo>
                      <a:lnTo>
                        <a:pt x="825" y="367"/>
                      </a:lnTo>
                      <a:lnTo>
                        <a:pt x="834" y="374"/>
                      </a:lnTo>
                      <a:lnTo>
                        <a:pt x="840" y="379"/>
                      </a:lnTo>
                      <a:lnTo>
                        <a:pt x="851" y="366"/>
                      </a:lnTo>
                      <a:lnTo>
                        <a:pt x="864" y="354"/>
                      </a:lnTo>
                      <a:lnTo>
                        <a:pt x="878" y="343"/>
                      </a:lnTo>
                      <a:lnTo>
                        <a:pt x="894" y="335"/>
                      </a:lnTo>
                      <a:lnTo>
                        <a:pt x="910" y="328"/>
                      </a:lnTo>
                      <a:lnTo>
                        <a:pt x="926" y="324"/>
                      </a:lnTo>
                      <a:lnTo>
                        <a:pt x="942" y="320"/>
                      </a:lnTo>
                      <a:lnTo>
                        <a:pt x="958" y="320"/>
                      </a:lnTo>
                      <a:lnTo>
                        <a:pt x="963" y="309"/>
                      </a:lnTo>
                      <a:lnTo>
                        <a:pt x="966" y="296"/>
                      </a:lnTo>
                      <a:lnTo>
                        <a:pt x="966" y="285"/>
                      </a:lnTo>
                      <a:lnTo>
                        <a:pt x="964" y="273"/>
                      </a:lnTo>
                      <a:lnTo>
                        <a:pt x="945" y="272"/>
                      </a:lnTo>
                      <a:lnTo>
                        <a:pt x="919" y="273"/>
                      </a:lnTo>
                      <a:lnTo>
                        <a:pt x="892" y="277"/>
                      </a:lnTo>
                      <a:lnTo>
                        <a:pt x="864" y="281"/>
                      </a:lnTo>
                      <a:lnTo>
                        <a:pt x="837" y="286"/>
                      </a:lnTo>
                      <a:lnTo>
                        <a:pt x="814" y="291"/>
                      </a:lnTo>
                      <a:lnTo>
                        <a:pt x="798" y="295"/>
                      </a:lnTo>
                      <a:lnTo>
                        <a:pt x="790" y="298"/>
                      </a:lnTo>
                      <a:lnTo>
                        <a:pt x="784" y="297"/>
                      </a:lnTo>
                      <a:lnTo>
                        <a:pt x="783" y="293"/>
                      </a:lnTo>
                      <a:lnTo>
                        <a:pt x="783" y="288"/>
                      </a:lnTo>
                      <a:lnTo>
                        <a:pt x="782" y="283"/>
                      </a:lnTo>
                      <a:lnTo>
                        <a:pt x="807" y="270"/>
                      </a:lnTo>
                      <a:lnTo>
                        <a:pt x="804" y="264"/>
                      </a:lnTo>
                      <a:lnTo>
                        <a:pt x="798" y="258"/>
                      </a:lnTo>
                      <a:lnTo>
                        <a:pt x="790" y="251"/>
                      </a:lnTo>
                      <a:lnTo>
                        <a:pt x="782" y="244"/>
                      </a:lnTo>
                      <a:lnTo>
                        <a:pt x="773" y="237"/>
                      </a:lnTo>
                      <a:lnTo>
                        <a:pt x="766" y="230"/>
                      </a:lnTo>
                      <a:lnTo>
                        <a:pt x="761" y="225"/>
                      </a:lnTo>
                      <a:lnTo>
                        <a:pt x="759" y="219"/>
                      </a:lnTo>
                      <a:lnTo>
                        <a:pt x="764" y="218"/>
                      </a:lnTo>
                      <a:lnTo>
                        <a:pt x="771" y="220"/>
                      </a:lnTo>
                      <a:lnTo>
                        <a:pt x="781" y="225"/>
                      </a:lnTo>
                      <a:lnTo>
                        <a:pt x="793" y="232"/>
                      </a:lnTo>
                      <a:lnTo>
                        <a:pt x="805" y="239"/>
                      </a:lnTo>
                      <a:lnTo>
                        <a:pt x="817" y="247"/>
                      </a:lnTo>
                      <a:lnTo>
                        <a:pt x="828" y="253"/>
                      </a:lnTo>
                      <a:lnTo>
                        <a:pt x="836" y="260"/>
                      </a:lnTo>
                      <a:lnTo>
                        <a:pt x="846" y="258"/>
                      </a:lnTo>
                      <a:lnTo>
                        <a:pt x="855" y="257"/>
                      </a:lnTo>
                      <a:lnTo>
                        <a:pt x="862" y="256"/>
                      </a:lnTo>
                      <a:lnTo>
                        <a:pt x="869" y="255"/>
                      </a:lnTo>
                      <a:lnTo>
                        <a:pt x="875" y="253"/>
                      </a:lnTo>
                      <a:lnTo>
                        <a:pt x="884" y="252"/>
                      </a:lnTo>
                      <a:lnTo>
                        <a:pt x="890" y="251"/>
                      </a:lnTo>
                      <a:lnTo>
                        <a:pt x="900" y="248"/>
                      </a:lnTo>
                      <a:lnTo>
                        <a:pt x="886" y="235"/>
                      </a:lnTo>
                      <a:lnTo>
                        <a:pt x="869" y="221"/>
                      </a:lnTo>
                      <a:lnTo>
                        <a:pt x="850" y="206"/>
                      </a:lnTo>
                      <a:lnTo>
                        <a:pt x="833" y="191"/>
                      </a:lnTo>
                      <a:lnTo>
                        <a:pt x="816" y="179"/>
                      </a:lnTo>
                      <a:lnTo>
                        <a:pt x="803" y="168"/>
                      </a:lnTo>
                      <a:lnTo>
                        <a:pt x="794" y="160"/>
                      </a:lnTo>
                      <a:lnTo>
                        <a:pt x="790" y="158"/>
                      </a:lnTo>
                      <a:lnTo>
                        <a:pt x="811" y="167"/>
                      </a:lnTo>
                      <a:lnTo>
                        <a:pt x="835" y="179"/>
                      </a:lnTo>
                      <a:lnTo>
                        <a:pt x="860" y="192"/>
                      </a:lnTo>
                      <a:lnTo>
                        <a:pt x="886" y="206"/>
                      </a:lnTo>
                      <a:lnTo>
                        <a:pt x="908" y="220"/>
                      </a:lnTo>
                      <a:lnTo>
                        <a:pt x="926" y="230"/>
                      </a:lnTo>
                      <a:lnTo>
                        <a:pt x="939" y="239"/>
                      </a:lnTo>
                      <a:lnTo>
                        <a:pt x="943" y="241"/>
                      </a:lnTo>
                      <a:lnTo>
                        <a:pt x="934" y="224"/>
                      </a:lnTo>
                      <a:lnTo>
                        <a:pt x="923" y="207"/>
                      </a:lnTo>
                      <a:lnTo>
                        <a:pt x="909" y="192"/>
                      </a:lnTo>
                      <a:lnTo>
                        <a:pt x="892" y="180"/>
                      </a:lnTo>
                      <a:lnTo>
                        <a:pt x="874" y="167"/>
                      </a:lnTo>
                      <a:lnTo>
                        <a:pt x="856" y="157"/>
                      </a:lnTo>
                      <a:lnTo>
                        <a:pt x="837" y="148"/>
                      </a:lnTo>
                      <a:lnTo>
                        <a:pt x="819" y="139"/>
                      </a:lnTo>
                      <a:lnTo>
                        <a:pt x="788" y="130"/>
                      </a:lnTo>
                      <a:lnTo>
                        <a:pt x="764" y="131"/>
                      </a:lnTo>
                      <a:lnTo>
                        <a:pt x="745" y="141"/>
                      </a:lnTo>
                      <a:lnTo>
                        <a:pt x="731" y="154"/>
                      </a:lnTo>
                      <a:lnTo>
                        <a:pt x="722" y="171"/>
                      </a:lnTo>
                      <a:lnTo>
                        <a:pt x="715" y="188"/>
                      </a:lnTo>
                      <a:lnTo>
                        <a:pt x="711" y="203"/>
                      </a:lnTo>
                      <a:lnTo>
                        <a:pt x="707" y="214"/>
                      </a:lnTo>
                      <a:lnTo>
                        <a:pt x="687" y="201"/>
                      </a:lnTo>
                      <a:lnTo>
                        <a:pt x="693" y="183"/>
                      </a:lnTo>
                      <a:lnTo>
                        <a:pt x="700" y="167"/>
                      </a:lnTo>
                      <a:lnTo>
                        <a:pt x="707" y="152"/>
                      </a:lnTo>
                      <a:lnTo>
                        <a:pt x="714" y="137"/>
                      </a:lnTo>
                      <a:lnTo>
                        <a:pt x="723" y="125"/>
                      </a:lnTo>
                      <a:lnTo>
                        <a:pt x="733" y="113"/>
                      </a:lnTo>
                      <a:lnTo>
                        <a:pt x="745" y="104"/>
                      </a:lnTo>
                      <a:lnTo>
                        <a:pt x="760" y="97"/>
                      </a:lnTo>
                      <a:lnTo>
                        <a:pt x="778" y="98"/>
                      </a:lnTo>
                      <a:lnTo>
                        <a:pt x="796" y="100"/>
                      </a:lnTo>
                      <a:lnTo>
                        <a:pt x="814" y="106"/>
                      </a:lnTo>
                      <a:lnTo>
                        <a:pt x="834" y="114"/>
                      </a:lnTo>
                      <a:lnTo>
                        <a:pt x="854" y="123"/>
                      </a:lnTo>
                      <a:lnTo>
                        <a:pt x="873" y="135"/>
                      </a:lnTo>
                      <a:lnTo>
                        <a:pt x="892" y="146"/>
                      </a:lnTo>
                      <a:lnTo>
                        <a:pt x="910" y="160"/>
                      </a:lnTo>
                      <a:lnTo>
                        <a:pt x="927" y="173"/>
                      </a:lnTo>
                      <a:lnTo>
                        <a:pt x="943" y="187"/>
                      </a:lnTo>
                      <a:lnTo>
                        <a:pt x="958" y="199"/>
                      </a:lnTo>
                      <a:lnTo>
                        <a:pt x="971" y="212"/>
                      </a:lnTo>
                      <a:lnTo>
                        <a:pt x="983" y="225"/>
                      </a:lnTo>
                      <a:lnTo>
                        <a:pt x="991" y="235"/>
                      </a:lnTo>
                      <a:lnTo>
                        <a:pt x="996" y="244"/>
                      </a:lnTo>
                      <a:lnTo>
                        <a:pt x="999" y="251"/>
                      </a:lnTo>
                      <a:lnTo>
                        <a:pt x="1001" y="272"/>
                      </a:lnTo>
                      <a:lnTo>
                        <a:pt x="1001" y="291"/>
                      </a:lnTo>
                      <a:lnTo>
                        <a:pt x="999" y="310"/>
                      </a:lnTo>
                      <a:lnTo>
                        <a:pt x="994" y="328"/>
                      </a:lnTo>
                      <a:lnTo>
                        <a:pt x="988" y="347"/>
                      </a:lnTo>
                      <a:lnTo>
                        <a:pt x="981" y="365"/>
                      </a:lnTo>
                      <a:lnTo>
                        <a:pt x="973" y="384"/>
                      </a:lnTo>
                      <a:lnTo>
                        <a:pt x="966" y="403"/>
                      </a:lnTo>
                      <a:lnTo>
                        <a:pt x="992" y="423"/>
                      </a:lnTo>
                      <a:lnTo>
                        <a:pt x="1002" y="408"/>
                      </a:lnTo>
                      <a:lnTo>
                        <a:pt x="1014" y="387"/>
                      </a:lnTo>
                      <a:lnTo>
                        <a:pt x="1024" y="362"/>
                      </a:lnTo>
                      <a:lnTo>
                        <a:pt x="1036" y="334"/>
                      </a:lnTo>
                      <a:lnTo>
                        <a:pt x="1045" y="308"/>
                      </a:lnTo>
                      <a:lnTo>
                        <a:pt x="1052" y="283"/>
                      </a:lnTo>
                      <a:lnTo>
                        <a:pt x="1056" y="264"/>
                      </a:lnTo>
                      <a:lnTo>
                        <a:pt x="1056" y="251"/>
                      </a:lnTo>
                      <a:lnTo>
                        <a:pt x="1043" y="232"/>
                      </a:lnTo>
                      <a:lnTo>
                        <a:pt x="1026" y="213"/>
                      </a:lnTo>
                      <a:lnTo>
                        <a:pt x="1010" y="195"/>
                      </a:lnTo>
                      <a:lnTo>
                        <a:pt x="993" y="177"/>
                      </a:lnTo>
                      <a:lnTo>
                        <a:pt x="976" y="161"/>
                      </a:lnTo>
                      <a:lnTo>
                        <a:pt x="957" y="145"/>
                      </a:lnTo>
                      <a:lnTo>
                        <a:pt x="939" y="131"/>
                      </a:lnTo>
                      <a:lnTo>
                        <a:pt x="919" y="118"/>
                      </a:lnTo>
                      <a:lnTo>
                        <a:pt x="900" y="105"/>
                      </a:lnTo>
                      <a:lnTo>
                        <a:pt x="880" y="92"/>
                      </a:lnTo>
                      <a:lnTo>
                        <a:pt x="860" y="82"/>
                      </a:lnTo>
                      <a:lnTo>
                        <a:pt x="842" y="72"/>
                      </a:lnTo>
                      <a:lnTo>
                        <a:pt x="822" y="62"/>
                      </a:lnTo>
                      <a:lnTo>
                        <a:pt x="804" y="54"/>
                      </a:lnTo>
                      <a:lnTo>
                        <a:pt x="786" y="46"/>
                      </a:lnTo>
                      <a:lnTo>
                        <a:pt x="768" y="40"/>
                      </a:lnTo>
                      <a:lnTo>
                        <a:pt x="758" y="37"/>
                      </a:lnTo>
                      <a:lnTo>
                        <a:pt x="750" y="36"/>
                      </a:lnTo>
                      <a:lnTo>
                        <a:pt x="743" y="35"/>
                      </a:lnTo>
                      <a:lnTo>
                        <a:pt x="738" y="35"/>
                      </a:lnTo>
                      <a:lnTo>
                        <a:pt x="736" y="35"/>
                      </a:lnTo>
                      <a:lnTo>
                        <a:pt x="734" y="35"/>
                      </a:lnTo>
                      <a:lnTo>
                        <a:pt x="733" y="36"/>
                      </a:lnTo>
                      <a:lnTo>
                        <a:pt x="712" y="54"/>
                      </a:lnTo>
                      <a:lnTo>
                        <a:pt x="696" y="74"/>
                      </a:lnTo>
                      <a:lnTo>
                        <a:pt x="682" y="93"/>
                      </a:lnTo>
                      <a:lnTo>
                        <a:pt x="673" y="114"/>
                      </a:lnTo>
                      <a:lnTo>
                        <a:pt x="663" y="136"/>
                      </a:lnTo>
                      <a:lnTo>
                        <a:pt x="658" y="159"/>
                      </a:lnTo>
                      <a:lnTo>
                        <a:pt x="652" y="182"/>
                      </a:lnTo>
                      <a:lnTo>
                        <a:pt x="646" y="206"/>
                      </a:lnTo>
                      <a:lnTo>
                        <a:pt x="650" y="215"/>
                      </a:lnTo>
                      <a:lnTo>
                        <a:pt x="655" y="222"/>
                      </a:lnTo>
                      <a:lnTo>
                        <a:pt x="662" y="227"/>
                      </a:lnTo>
                      <a:lnTo>
                        <a:pt x="669" y="232"/>
                      </a:lnTo>
                      <a:lnTo>
                        <a:pt x="676" y="237"/>
                      </a:lnTo>
                      <a:lnTo>
                        <a:pt x="682" y="243"/>
                      </a:lnTo>
                      <a:lnTo>
                        <a:pt x="685" y="251"/>
                      </a:lnTo>
                      <a:lnTo>
                        <a:pt x="685" y="262"/>
                      </a:lnTo>
                      <a:lnTo>
                        <a:pt x="676" y="264"/>
                      </a:lnTo>
                      <a:lnTo>
                        <a:pt x="668" y="262"/>
                      </a:lnTo>
                      <a:lnTo>
                        <a:pt x="659" y="258"/>
                      </a:lnTo>
                      <a:lnTo>
                        <a:pt x="651" y="252"/>
                      </a:lnTo>
                      <a:lnTo>
                        <a:pt x="643" y="248"/>
                      </a:lnTo>
                      <a:lnTo>
                        <a:pt x="635" y="247"/>
                      </a:lnTo>
                      <a:lnTo>
                        <a:pt x="628" y="250"/>
                      </a:lnTo>
                      <a:lnTo>
                        <a:pt x="621" y="260"/>
                      </a:lnTo>
                      <a:lnTo>
                        <a:pt x="615" y="270"/>
                      </a:lnTo>
                      <a:lnTo>
                        <a:pt x="613" y="279"/>
                      </a:lnTo>
                      <a:lnTo>
                        <a:pt x="609" y="287"/>
                      </a:lnTo>
                      <a:lnTo>
                        <a:pt x="601" y="295"/>
                      </a:lnTo>
                      <a:lnTo>
                        <a:pt x="600" y="283"/>
                      </a:lnTo>
                      <a:lnTo>
                        <a:pt x="599" y="271"/>
                      </a:lnTo>
                      <a:lnTo>
                        <a:pt x="600" y="259"/>
                      </a:lnTo>
                      <a:lnTo>
                        <a:pt x="604" y="248"/>
                      </a:lnTo>
                      <a:lnTo>
                        <a:pt x="619" y="229"/>
                      </a:lnTo>
                      <a:lnTo>
                        <a:pt x="610" y="207"/>
                      </a:lnTo>
                      <a:lnTo>
                        <a:pt x="600" y="212"/>
                      </a:lnTo>
                      <a:lnTo>
                        <a:pt x="592" y="218"/>
                      </a:lnTo>
                      <a:lnTo>
                        <a:pt x="586" y="225"/>
                      </a:lnTo>
                      <a:lnTo>
                        <a:pt x="583" y="233"/>
                      </a:lnTo>
                      <a:lnTo>
                        <a:pt x="579" y="242"/>
                      </a:lnTo>
                      <a:lnTo>
                        <a:pt x="578" y="251"/>
                      </a:lnTo>
                      <a:lnTo>
                        <a:pt x="577" y="262"/>
                      </a:lnTo>
                      <a:lnTo>
                        <a:pt x="576" y="273"/>
                      </a:lnTo>
                      <a:lnTo>
                        <a:pt x="577" y="285"/>
                      </a:lnTo>
                      <a:lnTo>
                        <a:pt x="582" y="294"/>
                      </a:lnTo>
                      <a:lnTo>
                        <a:pt x="590" y="303"/>
                      </a:lnTo>
                      <a:lnTo>
                        <a:pt x="599" y="311"/>
                      </a:lnTo>
                      <a:lnTo>
                        <a:pt x="610" y="318"/>
                      </a:lnTo>
                      <a:lnTo>
                        <a:pt x="622" y="324"/>
                      </a:lnTo>
                      <a:lnTo>
                        <a:pt x="634" y="329"/>
                      </a:lnTo>
                      <a:lnTo>
                        <a:pt x="643" y="335"/>
                      </a:lnTo>
                      <a:lnTo>
                        <a:pt x="652" y="327"/>
                      </a:lnTo>
                      <a:lnTo>
                        <a:pt x="660" y="319"/>
                      </a:lnTo>
                      <a:lnTo>
                        <a:pt x="667" y="310"/>
                      </a:lnTo>
                      <a:lnTo>
                        <a:pt x="673" y="301"/>
                      </a:lnTo>
                      <a:lnTo>
                        <a:pt x="678" y="291"/>
                      </a:lnTo>
                      <a:lnTo>
                        <a:pt x="684" y="281"/>
                      </a:lnTo>
                      <a:lnTo>
                        <a:pt x="690" y="272"/>
                      </a:lnTo>
                      <a:lnTo>
                        <a:pt x="696" y="262"/>
                      </a:lnTo>
                      <a:lnTo>
                        <a:pt x="703" y="267"/>
                      </a:lnTo>
                      <a:lnTo>
                        <a:pt x="704" y="275"/>
                      </a:lnTo>
                      <a:lnTo>
                        <a:pt x="703" y="285"/>
                      </a:lnTo>
                      <a:lnTo>
                        <a:pt x="702" y="294"/>
                      </a:lnTo>
                      <a:lnTo>
                        <a:pt x="698" y="304"/>
                      </a:lnTo>
                      <a:lnTo>
                        <a:pt x="692" y="315"/>
                      </a:lnTo>
                      <a:lnTo>
                        <a:pt x="687" y="325"/>
                      </a:lnTo>
                      <a:lnTo>
                        <a:pt x="683" y="334"/>
                      </a:lnTo>
                      <a:lnTo>
                        <a:pt x="693" y="328"/>
                      </a:lnTo>
                      <a:lnTo>
                        <a:pt x="704" y="321"/>
                      </a:lnTo>
                      <a:lnTo>
                        <a:pt x="711" y="313"/>
                      </a:lnTo>
                      <a:lnTo>
                        <a:pt x="718" y="303"/>
                      </a:lnTo>
                      <a:lnTo>
                        <a:pt x="722" y="293"/>
                      </a:lnTo>
                      <a:lnTo>
                        <a:pt x="726" y="282"/>
                      </a:lnTo>
                      <a:lnTo>
                        <a:pt x="728" y="270"/>
                      </a:lnTo>
                      <a:lnTo>
                        <a:pt x="729" y="258"/>
                      </a:lnTo>
                      <a:lnTo>
                        <a:pt x="727" y="249"/>
                      </a:lnTo>
                      <a:lnTo>
                        <a:pt x="722" y="241"/>
                      </a:lnTo>
                      <a:lnTo>
                        <a:pt x="721" y="233"/>
                      </a:lnTo>
                      <a:lnTo>
                        <a:pt x="728" y="227"/>
                      </a:lnTo>
                      <a:lnTo>
                        <a:pt x="737" y="230"/>
                      </a:lnTo>
                      <a:lnTo>
                        <a:pt x="743" y="237"/>
                      </a:lnTo>
                      <a:lnTo>
                        <a:pt x="745" y="247"/>
                      </a:lnTo>
                      <a:lnTo>
                        <a:pt x="750" y="255"/>
                      </a:lnTo>
                      <a:lnTo>
                        <a:pt x="750" y="277"/>
                      </a:lnTo>
                      <a:lnTo>
                        <a:pt x="746" y="298"/>
                      </a:lnTo>
                      <a:lnTo>
                        <a:pt x="740" y="318"/>
                      </a:lnTo>
                      <a:lnTo>
                        <a:pt x="728" y="336"/>
                      </a:lnTo>
                      <a:lnTo>
                        <a:pt x="722" y="339"/>
                      </a:lnTo>
                      <a:lnTo>
                        <a:pt x="716" y="341"/>
                      </a:lnTo>
                      <a:lnTo>
                        <a:pt x="711" y="344"/>
                      </a:lnTo>
                      <a:lnTo>
                        <a:pt x="705" y="348"/>
                      </a:lnTo>
                      <a:lnTo>
                        <a:pt x="699" y="351"/>
                      </a:lnTo>
                      <a:lnTo>
                        <a:pt x="693" y="354"/>
                      </a:lnTo>
                      <a:lnTo>
                        <a:pt x="688" y="356"/>
                      </a:lnTo>
                      <a:lnTo>
                        <a:pt x="682" y="356"/>
                      </a:lnTo>
                      <a:lnTo>
                        <a:pt x="681" y="359"/>
                      </a:lnTo>
                      <a:lnTo>
                        <a:pt x="681" y="364"/>
                      </a:lnTo>
                      <a:lnTo>
                        <a:pt x="681" y="370"/>
                      </a:lnTo>
                      <a:lnTo>
                        <a:pt x="677" y="373"/>
                      </a:lnTo>
                      <a:lnTo>
                        <a:pt x="667" y="371"/>
                      </a:lnTo>
                      <a:lnTo>
                        <a:pt x="652" y="366"/>
                      </a:lnTo>
                      <a:lnTo>
                        <a:pt x="635" y="358"/>
                      </a:lnTo>
                      <a:lnTo>
                        <a:pt x="615" y="349"/>
                      </a:lnTo>
                      <a:lnTo>
                        <a:pt x="596" y="340"/>
                      </a:lnTo>
                      <a:lnTo>
                        <a:pt x="579" y="329"/>
                      </a:lnTo>
                      <a:lnTo>
                        <a:pt x="566" y="319"/>
                      </a:lnTo>
                      <a:lnTo>
                        <a:pt x="559" y="311"/>
                      </a:lnTo>
                      <a:lnTo>
                        <a:pt x="549" y="328"/>
                      </a:lnTo>
                      <a:lnTo>
                        <a:pt x="543" y="355"/>
                      </a:lnTo>
                      <a:lnTo>
                        <a:pt x="541" y="381"/>
                      </a:lnTo>
                      <a:lnTo>
                        <a:pt x="549" y="403"/>
                      </a:lnTo>
                      <a:lnTo>
                        <a:pt x="559" y="404"/>
                      </a:lnTo>
                      <a:lnTo>
                        <a:pt x="569" y="403"/>
                      </a:lnTo>
                      <a:lnTo>
                        <a:pt x="578" y="401"/>
                      </a:lnTo>
                      <a:lnTo>
                        <a:pt x="587" y="397"/>
                      </a:lnTo>
                      <a:lnTo>
                        <a:pt x="597" y="394"/>
                      </a:lnTo>
                      <a:lnTo>
                        <a:pt x="606" y="389"/>
                      </a:lnTo>
                      <a:lnTo>
                        <a:pt x="615" y="385"/>
                      </a:lnTo>
                      <a:lnTo>
                        <a:pt x="624" y="381"/>
                      </a:lnTo>
                      <a:lnTo>
                        <a:pt x="655" y="396"/>
                      </a:lnTo>
                      <a:lnTo>
                        <a:pt x="540" y="439"/>
                      </a:lnTo>
                      <a:lnTo>
                        <a:pt x="524" y="420"/>
                      </a:lnTo>
                      <a:lnTo>
                        <a:pt x="515" y="397"/>
                      </a:lnTo>
                      <a:lnTo>
                        <a:pt x="511" y="373"/>
                      </a:lnTo>
                      <a:lnTo>
                        <a:pt x="508" y="349"/>
                      </a:lnTo>
                      <a:lnTo>
                        <a:pt x="511" y="336"/>
                      </a:lnTo>
                      <a:lnTo>
                        <a:pt x="518" y="324"/>
                      </a:lnTo>
                      <a:lnTo>
                        <a:pt x="526" y="311"/>
                      </a:lnTo>
                      <a:lnTo>
                        <a:pt x="536" y="298"/>
                      </a:lnTo>
                      <a:lnTo>
                        <a:pt x="544" y="288"/>
                      </a:lnTo>
                      <a:lnTo>
                        <a:pt x="552" y="280"/>
                      </a:lnTo>
                      <a:lnTo>
                        <a:pt x="556" y="274"/>
                      </a:lnTo>
                      <a:lnTo>
                        <a:pt x="559" y="272"/>
                      </a:lnTo>
                      <a:lnTo>
                        <a:pt x="560" y="257"/>
                      </a:lnTo>
                      <a:lnTo>
                        <a:pt x="562" y="241"/>
                      </a:lnTo>
                      <a:lnTo>
                        <a:pt x="566" y="227"/>
                      </a:lnTo>
                      <a:lnTo>
                        <a:pt x="571" y="213"/>
                      </a:lnTo>
                      <a:lnTo>
                        <a:pt x="579" y="201"/>
                      </a:lnTo>
                      <a:lnTo>
                        <a:pt x="590" y="190"/>
                      </a:lnTo>
                      <a:lnTo>
                        <a:pt x="602" y="181"/>
                      </a:lnTo>
                      <a:lnTo>
                        <a:pt x="619" y="173"/>
                      </a:lnTo>
                      <a:lnTo>
                        <a:pt x="615" y="169"/>
                      </a:lnTo>
                      <a:lnTo>
                        <a:pt x="604" y="161"/>
                      </a:lnTo>
                      <a:lnTo>
                        <a:pt x="587" y="150"/>
                      </a:lnTo>
                      <a:lnTo>
                        <a:pt x="567" y="135"/>
                      </a:lnTo>
                      <a:lnTo>
                        <a:pt x="545" y="120"/>
                      </a:lnTo>
                      <a:lnTo>
                        <a:pt x="522" y="104"/>
                      </a:lnTo>
                      <a:lnTo>
                        <a:pt x="499" y="89"/>
                      </a:lnTo>
                      <a:lnTo>
                        <a:pt x="479" y="76"/>
                      </a:lnTo>
                      <a:lnTo>
                        <a:pt x="471" y="83"/>
                      </a:lnTo>
                      <a:lnTo>
                        <a:pt x="464" y="93"/>
                      </a:lnTo>
                      <a:lnTo>
                        <a:pt x="457" y="104"/>
                      </a:lnTo>
                      <a:lnTo>
                        <a:pt x="452" y="114"/>
                      </a:lnTo>
                      <a:lnTo>
                        <a:pt x="560" y="189"/>
                      </a:lnTo>
                      <a:lnTo>
                        <a:pt x="547" y="210"/>
                      </a:lnTo>
                      <a:lnTo>
                        <a:pt x="426" y="134"/>
                      </a:lnTo>
                      <a:lnTo>
                        <a:pt x="411" y="143"/>
                      </a:lnTo>
                      <a:lnTo>
                        <a:pt x="395" y="152"/>
                      </a:lnTo>
                      <a:lnTo>
                        <a:pt x="380" y="161"/>
                      </a:lnTo>
                      <a:lnTo>
                        <a:pt x="366" y="171"/>
                      </a:lnTo>
                      <a:lnTo>
                        <a:pt x="351" y="180"/>
                      </a:lnTo>
                      <a:lnTo>
                        <a:pt x="336" y="189"/>
                      </a:lnTo>
                      <a:lnTo>
                        <a:pt x="322" y="198"/>
                      </a:lnTo>
                      <a:lnTo>
                        <a:pt x="307" y="207"/>
                      </a:lnTo>
                      <a:lnTo>
                        <a:pt x="293" y="215"/>
                      </a:lnTo>
                      <a:lnTo>
                        <a:pt x="279" y="225"/>
                      </a:lnTo>
                      <a:lnTo>
                        <a:pt x="264" y="234"/>
                      </a:lnTo>
                      <a:lnTo>
                        <a:pt x="249" y="243"/>
                      </a:lnTo>
                      <a:lnTo>
                        <a:pt x="235" y="252"/>
                      </a:lnTo>
                      <a:lnTo>
                        <a:pt x="220" y="262"/>
                      </a:lnTo>
                      <a:lnTo>
                        <a:pt x="204" y="272"/>
                      </a:lnTo>
                      <a:lnTo>
                        <a:pt x="189" y="281"/>
                      </a:lnTo>
                      <a:lnTo>
                        <a:pt x="166" y="317"/>
                      </a:lnTo>
                      <a:lnTo>
                        <a:pt x="140" y="373"/>
                      </a:lnTo>
                      <a:lnTo>
                        <a:pt x="116" y="445"/>
                      </a:lnTo>
                      <a:lnTo>
                        <a:pt x="93" y="522"/>
                      </a:lnTo>
                      <a:lnTo>
                        <a:pt x="72" y="601"/>
                      </a:lnTo>
                      <a:lnTo>
                        <a:pt x="54" y="675"/>
                      </a:lnTo>
                      <a:lnTo>
                        <a:pt x="39" y="737"/>
                      </a:lnTo>
                      <a:lnTo>
                        <a:pt x="29" y="781"/>
                      </a:lnTo>
                      <a:lnTo>
                        <a:pt x="22" y="781"/>
                      </a:lnTo>
                      <a:lnTo>
                        <a:pt x="14" y="781"/>
                      </a:lnTo>
                      <a:lnTo>
                        <a:pt x="7" y="780"/>
                      </a:lnTo>
                      <a:lnTo>
                        <a:pt x="0" y="776"/>
                      </a:lnTo>
                      <a:lnTo>
                        <a:pt x="3" y="756"/>
                      </a:lnTo>
                      <a:lnTo>
                        <a:pt x="14" y="701"/>
                      </a:lnTo>
                      <a:lnTo>
                        <a:pt x="30" y="623"/>
                      </a:lnTo>
                      <a:lnTo>
                        <a:pt x="49" y="532"/>
                      </a:lnTo>
                      <a:lnTo>
                        <a:pt x="74" y="438"/>
                      </a:lnTo>
                      <a:lnTo>
                        <a:pt x="99" y="351"/>
                      </a:lnTo>
                      <a:lnTo>
                        <a:pt x="128" y="282"/>
                      </a:lnTo>
                      <a:lnTo>
                        <a:pt x="155" y="242"/>
                      </a:lnTo>
                      <a:lnTo>
                        <a:pt x="158" y="241"/>
                      </a:lnTo>
                      <a:lnTo>
                        <a:pt x="166" y="236"/>
                      </a:lnTo>
                      <a:lnTo>
                        <a:pt x="177" y="230"/>
                      </a:lnTo>
                      <a:lnTo>
                        <a:pt x="193" y="222"/>
                      </a:lnTo>
                      <a:lnTo>
                        <a:pt x="212" y="213"/>
                      </a:lnTo>
                      <a:lnTo>
                        <a:pt x="233" y="203"/>
                      </a:lnTo>
                      <a:lnTo>
                        <a:pt x="255" y="190"/>
                      </a:lnTo>
                      <a:lnTo>
                        <a:pt x="279" y="179"/>
                      </a:lnTo>
                      <a:lnTo>
                        <a:pt x="302" y="166"/>
                      </a:lnTo>
                      <a:lnTo>
                        <a:pt x="325" y="153"/>
                      </a:lnTo>
                      <a:lnTo>
                        <a:pt x="348" y="142"/>
                      </a:lnTo>
                      <a:lnTo>
                        <a:pt x="367" y="130"/>
                      </a:lnTo>
                      <a:lnTo>
                        <a:pt x="386" y="120"/>
                      </a:lnTo>
                      <a:lnTo>
                        <a:pt x="401" y="111"/>
                      </a:lnTo>
                      <a:lnTo>
                        <a:pt x="412" y="104"/>
                      </a:lnTo>
                      <a:lnTo>
                        <a:pt x="419" y="99"/>
                      </a:lnTo>
                      <a:lnTo>
                        <a:pt x="425" y="93"/>
                      </a:lnTo>
                      <a:lnTo>
                        <a:pt x="432" y="83"/>
                      </a:lnTo>
                      <a:lnTo>
                        <a:pt x="441" y="72"/>
                      </a:lnTo>
                      <a:lnTo>
                        <a:pt x="450" y="59"/>
                      </a:lnTo>
                      <a:lnTo>
                        <a:pt x="460" y="47"/>
                      </a:lnTo>
                      <a:lnTo>
                        <a:pt x="470" y="39"/>
                      </a:lnTo>
                      <a:lnTo>
                        <a:pt x="479" y="34"/>
                      </a:lnTo>
                      <a:lnTo>
                        <a:pt x="488" y="35"/>
                      </a:lnTo>
                      <a:lnTo>
                        <a:pt x="498" y="42"/>
                      </a:lnTo>
                      <a:lnTo>
                        <a:pt x="511" y="52"/>
                      </a:lnTo>
                      <a:lnTo>
                        <a:pt x="530" y="65"/>
                      </a:lnTo>
                      <a:lnTo>
                        <a:pt x="552" y="78"/>
                      </a:lnTo>
                      <a:lnTo>
                        <a:pt x="574" y="93"/>
                      </a:lnTo>
                      <a:lnTo>
                        <a:pt x="596" y="108"/>
                      </a:lnTo>
                      <a:lnTo>
                        <a:pt x="614" y="121"/>
                      </a:lnTo>
                      <a:lnTo>
                        <a:pt x="629" y="130"/>
                      </a:lnTo>
                      <a:lnTo>
                        <a:pt x="638" y="110"/>
                      </a:lnTo>
                      <a:lnTo>
                        <a:pt x="649" y="87"/>
                      </a:lnTo>
                      <a:lnTo>
                        <a:pt x="659" y="63"/>
                      </a:lnTo>
                      <a:lnTo>
                        <a:pt x="672" y="42"/>
                      </a:lnTo>
                      <a:lnTo>
                        <a:pt x="687" y="23"/>
                      </a:lnTo>
                      <a:lnTo>
                        <a:pt x="704" y="8"/>
                      </a:lnTo>
                      <a:lnTo>
                        <a:pt x="726" y="0"/>
                      </a:lnTo>
                      <a:lnTo>
                        <a:pt x="751" y="0"/>
                      </a:lnTo>
                      <a:lnTo>
                        <a:pt x="760" y="2"/>
                      </a:lnTo>
                      <a:lnTo>
                        <a:pt x="772" y="5"/>
                      </a:lnTo>
                      <a:lnTo>
                        <a:pt x="783" y="9"/>
                      </a:lnTo>
                      <a:lnTo>
                        <a:pt x="797" y="15"/>
                      </a:lnTo>
                      <a:lnTo>
                        <a:pt x="811" y="21"/>
                      </a:lnTo>
                      <a:lnTo>
                        <a:pt x="826" y="28"/>
                      </a:lnTo>
                      <a:lnTo>
                        <a:pt x="842" y="35"/>
                      </a:lnTo>
                      <a:lnTo>
                        <a:pt x="857" y="42"/>
                      </a:lnTo>
                      <a:lnTo>
                        <a:pt x="872" y="50"/>
                      </a:lnTo>
                      <a:lnTo>
                        <a:pt x="887" y="58"/>
                      </a:lnTo>
                      <a:lnTo>
                        <a:pt x="901" y="66"/>
                      </a:lnTo>
                      <a:lnTo>
                        <a:pt x="915" y="74"/>
                      </a:lnTo>
                      <a:lnTo>
                        <a:pt x="926" y="81"/>
                      </a:lnTo>
                      <a:lnTo>
                        <a:pt x="937" y="88"/>
                      </a:lnTo>
                      <a:lnTo>
                        <a:pt x="946" y="95"/>
                      </a:lnTo>
                      <a:lnTo>
                        <a:pt x="953" y="100"/>
                      </a:lnTo>
                      <a:lnTo>
                        <a:pt x="958" y="95"/>
                      </a:lnTo>
                      <a:lnTo>
                        <a:pt x="964" y="89"/>
                      </a:lnTo>
                      <a:lnTo>
                        <a:pt x="970" y="84"/>
                      </a:lnTo>
                      <a:lnTo>
                        <a:pt x="978" y="81"/>
                      </a:lnTo>
                      <a:lnTo>
                        <a:pt x="998" y="77"/>
                      </a:lnTo>
                      <a:lnTo>
                        <a:pt x="1015" y="76"/>
                      </a:lnTo>
                      <a:lnTo>
                        <a:pt x="1032" y="77"/>
                      </a:lnTo>
                      <a:lnTo>
                        <a:pt x="1048" y="81"/>
                      </a:lnTo>
                      <a:lnTo>
                        <a:pt x="1064" y="88"/>
                      </a:lnTo>
                      <a:lnTo>
                        <a:pt x="1083" y="96"/>
                      </a:lnTo>
                      <a:lnTo>
                        <a:pt x="1101" y="106"/>
                      </a:lnTo>
                      <a:lnTo>
                        <a:pt x="1123" y="118"/>
                      </a:lnTo>
                      <a:lnTo>
                        <a:pt x="1144" y="130"/>
                      </a:lnTo>
                      <a:lnTo>
                        <a:pt x="1165" y="143"/>
                      </a:lnTo>
                      <a:lnTo>
                        <a:pt x="1184" y="156"/>
                      </a:lnTo>
                      <a:lnTo>
                        <a:pt x="1204" y="169"/>
                      </a:lnTo>
                      <a:lnTo>
                        <a:pt x="1223" y="183"/>
                      </a:lnTo>
                      <a:lnTo>
                        <a:pt x="1243" y="198"/>
                      </a:lnTo>
                      <a:lnTo>
                        <a:pt x="1261" y="213"/>
                      </a:lnTo>
                      <a:lnTo>
                        <a:pt x="1281" y="229"/>
                      </a:lnTo>
                      <a:lnTo>
                        <a:pt x="1295" y="244"/>
                      </a:lnTo>
                      <a:lnTo>
                        <a:pt x="1306" y="259"/>
                      </a:lnTo>
                      <a:lnTo>
                        <a:pt x="1316" y="273"/>
                      </a:lnTo>
                      <a:lnTo>
                        <a:pt x="1322" y="287"/>
                      </a:lnTo>
                      <a:lnTo>
                        <a:pt x="1327" y="300"/>
                      </a:lnTo>
                      <a:lnTo>
                        <a:pt x="1331" y="313"/>
                      </a:lnTo>
                      <a:lnTo>
                        <a:pt x="1332" y="327"/>
                      </a:lnTo>
                      <a:lnTo>
                        <a:pt x="1332" y="341"/>
                      </a:lnTo>
                      <a:lnTo>
                        <a:pt x="1331" y="349"/>
                      </a:lnTo>
                      <a:lnTo>
                        <a:pt x="1328" y="356"/>
                      </a:lnTo>
                      <a:lnTo>
                        <a:pt x="1324" y="362"/>
                      </a:lnTo>
                      <a:lnTo>
                        <a:pt x="1317" y="364"/>
                      </a:lnTo>
                      <a:lnTo>
                        <a:pt x="1311" y="356"/>
                      </a:lnTo>
                      <a:lnTo>
                        <a:pt x="1307" y="344"/>
                      </a:lnTo>
                      <a:lnTo>
                        <a:pt x="1306" y="334"/>
                      </a:lnTo>
                      <a:lnTo>
                        <a:pt x="1306" y="323"/>
                      </a:lnTo>
                      <a:lnTo>
                        <a:pt x="1301" y="308"/>
                      </a:lnTo>
                      <a:lnTo>
                        <a:pt x="1294" y="293"/>
                      </a:lnTo>
                      <a:lnTo>
                        <a:pt x="1283" y="279"/>
                      </a:lnTo>
                      <a:lnTo>
                        <a:pt x="1273" y="265"/>
                      </a:lnTo>
                      <a:lnTo>
                        <a:pt x="1260" y="251"/>
                      </a:lnTo>
                      <a:lnTo>
                        <a:pt x="1246" y="239"/>
                      </a:lnTo>
                      <a:lnTo>
                        <a:pt x="1231" y="226"/>
                      </a:lnTo>
                      <a:lnTo>
                        <a:pt x="1215" y="213"/>
                      </a:lnTo>
                      <a:lnTo>
                        <a:pt x="1199" y="202"/>
                      </a:lnTo>
                      <a:lnTo>
                        <a:pt x="1182" y="190"/>
                      </a:lnTo>
                      <a:lnTo>
                        <a:pt x="1165" y="179"/>
                      </a:lnTo>
                      <a:lnTo>
                        <a:pt x="1147" y="168"/>
                      </a:lnTo>
                      <a:lnTo>
                        <a:pt x="1129" y="158"/>
                      </a:lnTo>
                      <a:lnTo>
                        <a:pt x="1113" y="148"/>
                      </a:lnTo>
                      <a:lnTo>
                        <a:pt x="1096" y="137"/>
                      </a:lnTo>
                      <a:lnTo>
                        <a:pt x="1079" y="127"/>
                      </a:lnTo>
                      <a:lnTo>
                        <a:pt x="1067" y="121"/>
                      </a:lnTo>
                      <a:lnTo>
                        <a:pt x="1054" y="114"/>
                      </a:lnTo>
                      <a:lnTo>
                        <a:pt x="1043" y="110"/>
                      </a:lnTo>
                      <a:lnTo>
                        <a:pt x="1030" y="105"/>
                      </a:lnTo>
                      <a:lnTo>
                        <a:pt x="1017" y="104"/>
                      </a:lnTo>
                      <a:lnTo>
                        <a:pt x="1006" y="105"/>
                      </a:lnTo>
                      <a:lnTo>
                        <a:pt x="994" y="111"/>
                      </a:lnTo>
                      <a:lnTo>
                        <a:pt x="983" y="120"/>
                      </a:lnTo>
                      <a:lnTo>
                        <a:pt x="988" y="127"/>
                      </a:lnTo>
                      <a:lnTo>
                        <a:pt x="994" y="133"/>
                      </a:lnTo>
                      <a:lnTo>
                        <a:pt x="1000" y="138"/>
                      </a:lnTo>
                      <a:lnTo>
                        <a:pt x="1007" y="144"/>
                      </a:lnTo>
                      <a:lnTo>
                        <a:pt x="1013" y="149"/>
                      </a:lnTo>
                      <a:lnTo>
                        <a:pt x="1019" y="154"/>
                      </a:lnTo>
                      <a:lnTo>
                        <a:pt x="1026" y="160"/>
                      </a:lnTo>
                      <a:lnTo>
                        <a:pt x="1032" y="166"/>
                      </a:lnTo>
                      <a:lnTo>
                        <a:pt x="1049" y="169"/>
                      </a:lnTo>
                      <a:lnTo>
                        <a:pt x="1067" y="175"/>
                      </a:lnTo>
                      <a:lnTo>
                        <a:pt x="1083" y="181"/>
                      </a:lnTo>
                      <a:lnTo>
                        <a:pt x="1100" y="188"/>
                      </a:lnTo>
                      <a:lnTo>
                        <a:pt x="1117" y="196"/>
                      </a:lnTo>
                      <a:lnTo>
                        <a:pt x="1134" y="204"/>
                      </a:lnTo>
                      <a:lnTo>
                        <a:pt x="1151" y="213"/>
                      </a:lnTo>
                      <a:lnTo>
                        <a:pt x="1166" y="222"/>
                      </a:lnTo>
                      <a:lnTo>
                        <a:pt x="1181" y="233"/>
                      </a:lnTo>
                      <a:lnTo>
                        <a:pt x="1196" y="243"/>
                      </a:lnTo>
                      <a:lnTo>
                        <a:pt x="1210" y="253"/>
                      </a:lnTo>
                      <a:lnTo>
                        <a:pt x="1222" y="264"/>
                      </a:lnTo>
                      <a:lnTo>
                        <a:pt x="1235" y="274"/>
                      </a:lnTo>
                      <a:lnTo>
                        <a:pt x="1245" y="286"/>
                      </a:lnTo>
                      <a:lnTo>
                        <a:pt x="1256" y="296"/>
                      </a:lnTo>
                      <a:lnTo>
                        <a:pt x="1264" y="306"/>
                      </a:lnTo>
                      <a:lnTo>
                        <a:pt x="1264" y="313"/>
                      </a:lnTo>
                      <a:lnTo>
                        <a:pt x="1264" y="321"/>
                      </a:lnTo>
                      <a:lnTo>
                        <a:pt x="1263" y="329"/>
                      </a:lnTo>
                      <a:lnTo>
                        <a:pt x="1260" y="338"/>
                      </a:lnTo>
                      <a:lnTo>
                        <a:pt x="1250" y="325"/>
                      </a:lnTo>
                      <a:lnTo>
                        <a:pt x="1243" y="315"/>
                      </a:lnTo>
                      <a:lnTo>
                        <a:pt x="1236" y="305"/>
                      </a:lnTo>
                      <a:lnTo>
                        <a:pt x="1228" y="297"/>
                      </a:lnTo>
                      <a:lnTo>
                        <a:pt x="1208" y="281"/>
                      </a:lnTo>
                      <a:lnTo>
                        <a:pt x="1190" y="265"/>
                      </a:lnTo>
                      <a:lnTo>
                        <a:pt x="1170" y="250"/>
                      </a:lnTo>
                      <a:lnTo>
                        <a:pt x="1150" y="235"/>
                      </a:lnTo>
                      <a:lnTo>
                        <a:pt x="1129" y="222"/>
                      </a:lnTo>
                      <a:lnTo>
                        <a:pt x="1107" y="211"/>
                      </a:lnTo>
                      <a:lnTo>
                        <a:pt x="1084" y="202"/>
                      </a:lnTo>
                      <a:lnTo>
                        <a:pt x="1060" y="195"/>
                      </a:lnTo>
                      <a:lnTo>
                        <a:pt x="1066" y="201"/>
                      </a:lnTo>
                      <a:lnTo>
                        <a:pt x="1070" y="206"/>
                      </a:lnTo>
                      <a:lnTo>
                        <a:pt x="1075" y="213"/>
                      </a:lnTo>
                      <a:lnTo>
                        <a:pt x="1079" y="220"/>
                      </a:lnTo>
                      <a:lnTo>
                        <a:pt x="1084" y="227"/>
                      </a:lnTo>
                      <a:lnTo>
                        <a:pt x="1087" y="234"/>
                      </a:lnTo>
                      <a:lnTo>
                        <a:pt x="1092" y="242"/>
                      </a:lnTo>
                      <a:lnTo>
                        <a:pt x="1096" y="249"/>
                      </a:lnTo>
                      <a:lnTo>
                        <a:pt x="1100" y="250"/>
                      </a:lnTo>
                      <a:lnTo>
                        <a:pt x="1108" y="250"/>
                      </a:lnTo>
                      <a:lnTo>
                        <a:pt x="1120" y="250"/>
                      </a:lnTo>
                      <a:lnTo>
                        <a:pt x="1131" y="251"/>
                      </a:lnTo>
                      <a:lnTo>
                        <a:pt x="1143" y="255"/>
                      </a:lnTo>
                      <a:lnTo>
                        <a:pt x="1153" y="258"/>
                      </a:lnTo>
                      <a:lnTo>
                        <a:pt x="1160" y="264"/>
                      </a:lnTo>
                      <a:lnTo>
                        <a:pt x="1162" y="272"/>
                      </a:lnTo>
                      <a:lnTo>
                        <a:pt x="1151" y="272"/>
                      </a:lnTo>
                      <a:lnTo>
                        <a:pt x="1140" y="271"/>
                      </a:lnTo>
                      <a:lnTo>
                        <a:pt x="1131" y="271"/>
                      </a:lnTo>
                      <a:lnTo>
                        <a:pt x="1122" y="270"/>
                      </a:lnTo>
                      <a:lnTo>
                        <a:pt x="1114" y="270"/>
                      </a:lnTo>
                      <a:lnTo>
                        <a:pt x="1107" y="270"/>
                      </a:lnTo>
                      <a:lnTo>
                        <a:pt x="1101" y="270"/>
                      </a:lnTo>
                      <a:lnTo>
                        <a:pt x="1096" y="270"/>
                      </a:lnTo>
                      <a:lnTo>
                        <a:pt x="1084" y="3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AutoShape 38"/>
                <p:cNvSpPr/>
                <p:nvPr/>
              </p:nvSpPr>
              <p:spPr>
                <a:xfrm rot="20460000">
                  <a:off x="4441680" y="1545480"/>
                  <a:ext cx="428040" cy="53316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533160"/>
                    <a:gd name="textAreaBottom" fmla="*/ 533520 h 533160"/>
                  </a:gdLst>
                  <a:ahLst/>
                  <a:rect l="textAreaLeft" t="textAreaTop" r="textAreaRight" b="textAreaBottom"/>
                  <a:pathLst>
                    <a:path w="423" h="552">
                      <a:moveTo>
                        <a:pt x="147" y="552"/>
                      </a:moveTo>
                      <a:lnTo>
                        <a:pt x="169" y="548"/>
                      </a:lnTo>
                      <a:lnTo>
                        <a:pt x="189" y="542"/>
                      </a:lnTo>
                      <a:lnTo>
                        <a:pt x="210" y="535"/>
                      </a:lnTo>
                      <a:lnTo>
                        <a:pt x="228" y="527"/>
                      </a:lnTo>
                      <a:lnTo>
                        <a:pt x="246" y="519"/>
                      </a:lnTo>
                      <a:lnTo>
                        <a:pt x="263" y="510"/>
                      </a:lnTo>
                      <a:lnTo>
                        <a:pt x="280" y="500"/>
                      </a:lnTo>
                      <a:lnTo>
                        <a:pt x="295" y="490"/>
                      </a:lnTo>
                      <a:lnTo>
                        <a:pt x="310" y="479"/>
                      </a:lnTo>
                      <a:lnTo>
                        <a:pt x="324" y="467"/>
                      </a:lnTo>
                      <a:lnTo>
                        <a:pt x="336" y="454"/>
                      </a:lnTo>
                      <a:lnTo>
                        <a:pt x="349" y="441"/>
                      </a:lnTo>
                      <a:lnTo>
                        <a:pt x="359" y="427"/>
                      </a:lnTo>
                      <a:lnTo>
                        <a:pt x="370" y="413"/>
                      </a:lnTo>
                      <a:lnTo>
                        <a:pt x="380" y="398"/>
                      </a:lnTo>
                      <a:lnTo>
                        <a:pt x="388" y="382"/>
                      </a:lnTo>
                      <a:lnTo>
                        <a:pt x="394" y="363"/>
                      </a:lnTo>
                      <a:lnTo>
                        <a:pt x="399" y="351"/>
                      </a:lnTo>
                      <a:lnTo>
                        <a:pt x="402" y="342"/>
                      </a:lnTo>
                      <a:lnTo>
                        <a:pt x="405" y="335"/>
                      </a:lnTo>
                      <a:lnTo>
                        <a:pt x="409" y="331"/>
                      </a:lnTo>
                      <a:lnTo>
                        <a:pt x="412" y="328"/>
                      </a:lnTo>
                      <a:lnTo>
                        <a:pt x="417" y="325"/>
                      </a:lnTo>
                      <a:lnTo>
                        <a:pt x="423" y="323"/>
                      </a:lnTo>
                      <a:lnTo>
                        <a:pt x="423" y="314"/>
                      </a:lnTo>
                      <a:lnTo>
                        <a:pt x="417" y="313"/>
                      </a:lnTo>
                      <a:lnTo>
                        <a:pt x="412" y="312"/>
                      </a:lnTo>
                      <a:lnTo>
                        <a:pt x="408" y="313"/>
                      </a:lnTo>
                      <a:lnTo>
                        <a:pt x="403" y="315"/>
                      </a:lnTo>
                      <a:lnTo>
                        <a:pt x="400" y="318"/>
                      </a:lnTo>
                      <a:lnTo>
                        <a:pt x="395" y="322"/>
                      </a:lnTo>
                      <a:lnTo>
                        <a:pt x="392" y="325"/>
                      </a:lnTo>
                      <a:lnTo>
                        <a:pt x="388" y="329"/>
                      </a:lnTo>
                      <a:lnTo>
                        <a:pt x="371" y="321"/>
                      </a:lnTo>
                      <a:lnTo>
                        <a:pt x="357" y="308"/>
                      </a:lnTo>
                      <a:lnTo>
                        <a:pt x="344" y="293"/>
                      </a:lnTo>
                      <a:lnTo>
                        <a:pt x="334" y="276"/>
                      </a:lnTo>
                      <a:lnTo>
                        <a:pt x="325" y="255"/>
                      </a:lnTo>
                      <a:lnTo>
                        <a:pt x="316" y="233"/>
                      </a:lnTo>
                      <a:lnTo>
                        <a:pt x="308" y="211"/>
                      </a:lnTo>
                      <a:lnTo>
                        <a:pt x="298" y="187"/>
                      </a:lnTo>
                      <a:lnTo>
                        <a:pt x="289" y="164"/>
                      </a:lnTo>
                      <a:lnTo>
                        <a:pt x="279" y="141"/>
                      </a:lnTo>
                      <a:lnTo>
                        <a:pt x="267" y="119"/>
                      </a:lnTo>
                      <a:lnTo>
                        <a:pt x="253" y="99"/>
                      </a:lnTo>
                      <a:lnTo>
                        <a:pt x="238" y="80"/>
                      </a:lnTo>
                      <a:lnTo>
                        <a:pt x="219" y="64"/>
                      </a:lnTo>
                      <a:lnTo>
                        <a:pt x="197" y="51"/>
                      </a:lnTo>
                      <a:lnTo>
                        <a:pt x="172" y="42"/>
                      </a:lnTo>
                      <a:lnTo>
                        <a:pt x="166" y="41"/>
                      </a:lnTo>
                      <a:lnTo>
                        <a:pt x="159" y="41"/>
                      </a:lnTo>
                      <a:lnTo>
                        <a:pt x="153" y="41"/>
                      </a:lnTo>
                      <a:lnTo>
                        <a:pt x="147" y="42"/>
                      </a:lnTo>
                      <a:lnTo>
                        <a:pt x="143" y="43"/>
                      </a:lnTo>
                      <a:lnTo>
                        <a:pt x="137" y="44"/>
                      </a:lnTo>
                      <a:lnTo>
                        <a:pt x="132" y="46"/>
                      </a:lnTo>
                      <a:lnTo>
                        <a:pt x="129" y="47"/>
                      </a:lnTo>
                      <a:lnTo>
                        <a:pt x="113" y="25"/>
                      </a:lnTo>
                      <a:lnTo>
                        <a:pt x="123" y="24"/>
                      </a:lnTo>
                      <a:lnTo>
                        <a:pt x="132" y="21"/>
                      </a:lnTo>
                      <a:lnTo>
                        <a:pt x="140" y="20"/>
                      </a:lnTo>
                      <a:lnTo>
                        <a:pt x="149" y="19"/>
                      </a:lnTo>
                      <a:lnTo>
                        <a:pt x="157" y="18"/>
                      </a:lnTo>
                      <a:lnTo>
                        <a:pt x="165" y="18"/>
                      </a:lnTo>
                      <a:lnTo>
                        <a:pt x="172" y="19"/>
                      </a:lnTo>
                      <a:lnTo>
                        <a:pt x="180" y="20"/>
                      </a:lnTo>
                      <a:lnTo>
                        <a:pt x="214" y="32"/>
                      </a:lnTo>
                      <a:lnTo>
                        <a:pt x="243" y="50"/>
                      </a:lnTo>
                      <a:lnTo>
                        <a:pt x="268" y="74"/>
                      </a:lnTo>
                      <a:lnTo>
                        <a:pt x="290" y="103"/>
                      </a:lnTo>
                      <a:lnTo>
                        <a:pt x="309" y="134"/>
                      </a:lnTo>
                      <a:lnTo>
                        <a:pt x="325" y="168"/>
                      </a:lnTo>
                      <a:lnTo>
                        <a:pt x="339" y="200"/>
                      </a:lnTo>
                      <a:lnTo>
                        <a:pt x="351" y="230"/>
                      </a:lnTo>
                      <a:lnTo>
                        <a:pt x="356" y="238"/>
                      </a:lnTo>
                      <a:lnTo>
                        <a:pt x="361" y="247"/>
                      </a:lnTo>
                      <a:lnTo>
                        <a:pt x="364" y="255"/>
                      </a:lnTo>
                      <a:lnTo>
                        <a:pt x="369" y="262"/>
                      </a:lnTo>
                      <a:lnTo>
                        <a:pt x="373" y="268"/>
                      </a:lnTo>
                      <a:lnTo>
                        <a:pt x="379" y="271"/>
                      </a:lnTo>
                      <a:lnTo>
                        <a:pt x="386" y="274"/>
                      </a:lnTo>
                      <a:lnTo>
                        <a:pt x="394" y="274"/>
                      </a:lnTo>
                      <a:lnTo>
                        <a:pt x="389" y="264"/>
                      </a:lnTo>
                      <a:lnTo>
                        <a:pt x="387" y="257"/>
                      </a:lnTo>
                      <a:lnTo>
                        <a:pt x="385" y="252"/>
                      </a:lnTo>
                      <a:lnTo>
                        <a:pt x="382" y="245"/>
                      </a:lnTo>
                      <a:lnTo>
                        <a:pt x="370" y="216"/>
                      </a:lnTo>
                      <a:lnTo>
                        <a:pt x="358" y="187"/>
                      </a:lnTo>
                      <a:lnTo>
                        <a:pt x="347" y="156"/>
                      </a:lnTo>
                      <a:lnTo>
                        <a:pt x="335" y="126"/>
                      </a:lnTo>
                      <a:lnTo>
                        <a:pt x="321" y="97"/>
                      </a:lnTo>
                      <a:lnTo>
                        <a:pt x="305" y="71"/>
                      </a:lnTo>
                      <a:lnTo>
                        <a:pt x="284" y="48"/>
                      </a:lnTo>
                      <a:lnTo>
                        <a:pt x="258" y="28"/>
                      </a:lnTo>
                      <a:lnTo>
                        <a:pt x="237" y="17"/>
                      </a:lnTo>
                      <a:lnTo>
                        <a:pt x="215" y="9"/>
                      </a:lnTo>
                      <a:lnTo>
                        <a:pt x="195" y="3"/>
                      </a:lnTo>
                      <a:lnTo>
                        <a:pt x="174" y="1"/>
                      </a:lnTo>
                      <a:lnTo>
                        <a:pt x="153" y="0"/>
                      </a:lnTo>
                      <a:lnTo>
                        <a:pt x="132" y="1"/>
                      </a:lnTo>
                      <a:lnTo>
                        <a:pt x="113" y="4"/>
                      </a:lnTo>
                      <a:lnTo>
                        <a:pt x="93" y="9"/>
                      </a:lnTo>
                      <a:lnTo>
                        <a:pt x="79" y="2"/>
                      </a:lnTo>
                      <a:lnTo>
                        <a:pt x="69" y="1"/>
                      </a:lnTo>
                      <a:lnTo>
                        <a:pt x="60" y="0"/>
                      </a:lnTo>
                      <a:lnTo>
                        <a:pt x="52" y="1"/>
                      </a:lnTo>
                      <a:lnTo>
                        <a:pt x="43" y="2"/>
                      </a:lnTo>
                      <a:lnTo>
                        <a:pt x="34" y="4"/>
                      </a:lnTo>
                      <a:lnTo>
                        <a:pt x="26" y="6"/>
                      </a:lnTo>
                      <a:lnTo>
                        <a:pt x="17" y="10"/>
                      </a:lnTo>
                      <a:lnTo>
                        <a:pt x="8" y="13"/>
                      </a:lnTo>
                      <a:lnTo>
                        <a:pt x="2" y="19"/>
                      </a:lnTo>
                      <a:lnTo>
                        <a:pt x="0" y="25"/>
                      </a:lnTo>
                      <a:lnTo>
                        <a:pt x="2" y="31"/>
                      </a:lnTo>
                      <a:lnTo>
                        <a:pt x="8" y="36"/>
                      </a:lnTo>
                      <a:lnTo>
                        <a:pt x="20" y="38"/>
                      </a:lnTo>
                      <a:lnTo>
                        <a:pt x="28" y="42"/>
                      </a:lnTo>
                      <a:lnTo>
                        <a:pt x="34" y="49"/>
                      </a:lnTo>
                      <a:lnTo>
                        <a:pt x="40" y="56"/>
                      </a:lnTo>
                      <a:lnTo>
                        <a:pt x="45" y="65"/>
                      </a:lnTo>
                      <a:lnTo>
                        <a:pt x="47" y="72"/>
                      </a:lnTo>
                      <a:lnTo>
                        <a:pt x="48" y="78"/>
                      </a:lnTo>
                      <a:lnTo>
                        <a:pt x="49" y="80"/>
                      </a:lnTo>
                      <a:lnTo>
                        <a:pt x="53" y="80"/>
                      </a:lnTo>
                      <a:lnTo>
                        <a:pt x="56" y="79"/>
                      </a:lnTo>
                      <a:lnTo>
                        <a:pt x="59" y="77"/>
                      </a:lnTo>
                      <a:lnTo>
                        <a:pt x="61" y="74"/>
                      </a:lnTo>
                      <a:lnTo>
                        <a:pt x="59" y="59"/>
                      </a:lnTo>
                      <a:lnTo>
                        <a:pt x="53" y="47"/>
                      </a:lnTo>
                      <a:lnTo>
                        <a:pt x="44" y="35"/>
                      </a:lnTo>
                      <a:lnTo>
                        <a:pt x="31" y="26"/>
                      </a:lnTo>
                      <a:lnTo>
                        <a:pt x="33" y="24"/>
                      </a:lnTo>
                      <a:lnTo>
                        <a:pt x="38" y="21"/>
                      </a:lnTo>
                      <a:lnTo>
                        <a:pt x="44" y="19"/>
                      </a:lnTo>
                      <a:lnTo>
                        <a:pt x="49" y="17"/>
                      </a:lnTo>
                      <a:lnTo>
                        <a:pt x="56" y="14"/>
                      </a:lnTo>
                      <a:lnTo>
                        <a:pt x="63" y="14"/>
                      </a:lnTo>
                      <a:lnTo>
                        <a:pt x="70" y="14"/>
                      </a:lnTo>
                      <a:lnTo>
                        <a:pt x="77" y="17"/>
                      </a:lnTo>
                      <a:lnTo>
                        <a:pt x="90" y="28"/>
                      </a:lnTo>
                      <a:lnTo>
                        <a:pt x="99" y="41"/>
                      </a:lnTo>
                      <a:lnTo>
                        <a:pt x="105" y="55"/>
                      </a:lnTo>
                      <a:lnTo>
                        <a:pt x="111" y="69"/>
                      </a:lnTo>
                      <a:lnTo>
                        <a:pt x="104" y="72"/>
                      </a:lnTo>
                      <a:lnTo>
                        <a:pt x="97" y="76"/>
                      </a:lnTo>
                      <a:lnTo>
                        <a:pt x="89" y="79"/>
                      </a:lnTo>
                      <a:lnTo>
                        <a:pt x="82" y="81"/>
                      </a:lnTo>
                      <a:lnTo>
                        <a:pt x="74" y="85"/>
                      </a:lnTo>
                      <a:lnTo>
                        <a:pt x="66" y="87"/>
                      </a:lnTo>
                      <a:lnTo>
                        <a:pt x="58" y="89"/>
                      </a:lnTo>
                      <a:lnTo>
                        <a:pt x="49" y="93"/>
                      </a:lnTo>
                      <a:lnTo>
                        <a:pt x="43" y="90"/>
                      </a:lnTo>
                      <a:lnTo>
                        <a:pt x="36" y="87"/>
                      </a:lnTo>
                      <a:lnTo>
                        <a:pt x="29" y="82"/>
                      </a:lnTo>
                      <a:lnTo>
                        <a:pt x="23" y="77"/>
                      </a:lnTo>
                      <a:lnTo>
                        <a:pt x="18" y="70"/>
                      </a:lnTo>
                      <a:lnTo>
                        <a:pt x="14" y="63"/>
                      </a:lnTo>
                      <a:lnTo>
                        <a:pt x="9" y="56"/>
                      </a:lnTo>
                      <a:lnTo>
                        <a:pt x="6" y="49"/>
                      </a:lnTo>
                      <a:lnTo>
                        <a:pt x="3" y="66"/>
                      </a:lnTo>
                      <a:lnTo>
                        <a:pt x="7" y="80"/>
                      </a:lnTo>
                      <a:lnTo>
                        <a:pt x="14" y="93"/>
                      </a:lnTo>
                      <a:lnTo>
                        <a:pt x="22" y="103"/>
                      </a:lnTo>
                      <a:lnTo>
                        <a:pt x="31" y="110"/>
                      </a:lnTo>
                      <a:lnTo>
                        <a:pt x="40" y="116"/>
                      </a:lnTo>
                      <a:lnTo>
                        <a:pt x="46" y="119"/>
                      </a:lnTo>
                      <a:lnTo>
                        <a:pt x="48" y="120"/>
                      </a:lnTo>
                      <a:lnTo>
                        <a:pt x="61" y="118"/>
                      </a:lnTo>
                      <a:lnTo>
                        <a:pt x="74" y="115"/>
                      </a:lnTo>
                      <a:lnTo>
                        <a:pt x="86" y="110"/>
                      </a:lnTo>
                      <a:lnTo>
                        <a:pt x="98" y="105"/>
                      </a:lnTo>
                      <a:lnTo>
                        <a:pt x="108" y="100"/>
                      </a:lnTo>
                      <a:lnTo>
                        <a:pt x="117" y="94"/>
                      </a:lnTo>
                      <a:lnTo>
                        <a:pt x="125" y="87"/>
                      </a:lnTo>
                      <a:lnTo>
                        <a:pt x="130" y="80"/>
                      </a:lnTo>
                      <a:lnTo>
                        <a:pt x="130" y="74"/>
                      </a:lnTo>
                      <a:lnTo>
                        <a:pt x="131" y="70"/>
                      </a:lnTo>
                      <a:lnTo>
                        <a:pt x="134" y="66"/>
                      </a:lnTo>
                      <a:lnTo>
                        <a:pt x="137" y="64"/>
                      </a:lnTo>
                      <a:lnTo>
                        <a:pt x="149" y="62"/>
                      </a:lnTo>
                      <a:lnTo>
                        <a:pt x="159" y="61"/>
                      </a:lnTo>
                      <a:lnTo>
                        <a:pt x="170" y="63"/>
                      </a:lnTo>
                      <a:lnTo>
                        <a:pt x="183" y="66"/>
                      </a:lnTo>
                      <a:lnTo>
                        <a:pt x="195" y="73"/>
                      </a:lnTo>
                      <a:lnTo>
                        <a:pt x="206" y="82"/>
                      </a:lnTo>
                      <a:lnTo>
                        <a:pt x="219" y="94"/>
                      </a:lnTo>
                      <a:lnTo>
                        <a:pt x="230" y="108"/>
                      </a:lnTo>
                      <a:lnTo>
                        <a:pt x="246" y="132"/>
                      </a:lnTo>
                      <a:lnTo>
                        <a:pt x="258" y="156"/>
                      </a:lnTo>
                      <a:lnTo>
                        <a:pt x="267" y="180"/>
                      </a:lnTo>
                      <a:lnTo>
                        <a:pt x="275" y="204"/>
                      </a:lnTo>
                      <a:lnTo>
                        <a:pt x="283" y="229"/>
                      </a:lnTo>
                      <a:lnTo>
                        <a:pt x="291" y="252"/>
                      </a:lnTo>
                      <a:lnTo>
                        <a:pt x="301" y="276"/>
                      </a:lnTo>
                      <a:lnTo>
                        <a:pt x="312" y="299"/>
                      </a:lnTo>
                      <a:lnTo>
                        <a:pt x="320" y="309"/>
                      </a:lnTo>
                      <a:lnTo>
                        <a:pt x="327" y="318"/>
                      </a:lnTo>
                      <a:lnTo>
                        <a:pt x="333" y="327"/>
                      </a:lnTo>
                      <a:lnTo>
                        <a:pt x="340" y="333"/>
                      </a:lnTo>
                      <a:lnTo>
                        <a:pt x="347" y="339"/>
                      </a:lnTo>
                      <a:lnTo>
                        <a:pt x="355" y="346"/>
                      </a:lnTo>
                      <a:lnTo>
                        <a:pt x="365" y="351"/>
                      </a:lnTo>
                      <a:lnTo>
                        <a:pt x="377" y="356"/>
                      </a:lnTo>
                      <a:lnTo>
                        <a:pt x="370" y="371"/>
                      </a:lnTo>
                      <a:lnTo>
                        <a:pt x="361" y="386"/>
                      </a:lnTo>
                      <a:lnTo>
                        <a:pt x="351" y="401"/>
                      </a:lnTo>
                      <a:lnTo>
                        <a:pt x="342" y="415"/>
                      </a:lnTo>
                      <a:lnTo>
                        <a:pt x="331" y="429"/>
                      </a:lnTo>
                      <a:lnTo>
                        <a:pt x="319" y="443"/>
                      </a:lnTo>
                      <a:lnTo>
                        <a:pt x="305" y="456"/>
                      </a:lnTo>
                      <a:lnTo>
                        <a:pt x="291" y="468"/>
                      </a:lnTo>
                      <a:lnTo>
                        <a:pt x="276" y="480"/>
                      </a:lnTo>
                      <a:lnTo>
                        <a:pt x="260" y="491"/>
                      </a:lnTo>
                      <a:lnTo>
                        <a:pt x="243" y="502"/>
                      </a:lnTo>
                      <a:lnTo>
                        <a:pt x="225" y="510"/>
                      </a:lnTo>
                      <a:lnTo>
                        <a:pt x="205" y="518"/>
                      </a:lnTo>
                      <a:lnTo>
                        <a:pt x="185" y="525"/>
                      </a:lnTo>
                      <a:lnTo>
                        <a:pt x="164" y="530"/>
                      </a:lnTo>
                      <a:lnTo>
                        <a:pt x="140" y="534"/>
                      </a:lnTo>
                      <a:lnTo>
                        <a:pt x="147" y="5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AutoShape 39"/>
                <p:cNvSpPr/>
                <p:nvPr/>
              </p:nvSpPr>
              <p:spPr>
                <a:xfrm rot="20460000">
                  <a:off x="4273920" y="1618920"/>
                  <a:ext cx="710280" cy="676080"/>
                </a:xfrm>
                <a:custGeom>
                  <a:avLst/>
                  <a:gdLst>
                    <a:gd name="textAreaLeft" fmla="*/ 0 w 710280"/>
                    <a:gd name="textAreaRight" fmla="*/ 710640 w 710280"/>
                    <a:gd name="textAreaTop" fmla="*/ 0 h 676080"/>
                    <a:gd name="textAreaBottom" fmla="*/ 676440 h 676080"/>
                  </a:gdLst>
                  <a:ahLst/>
                  <a:rect l="textAreaLeft" t="textAreaTop" r="textAreaRight" b="textAreaBottom"/>
                  <a:pathLst>
                    <a:path w="704" h="700">
                      <a:moveTo>
                        <a:pt x="66" y="53"/>
                      </a:moveTo>
                      <a:lnTo>
                        <a:pt x="77" y="64"/>
                      </a:lnTo>
                      <a:lnTo>
                        <a:pt x="81" y="73"/>
                      </a:lnTo>
                      <a:lnTo>
                        <a:pt x="83" y="82"/>
                      </a:lnTo>
                      <a:lnTo>
                        <a:pt x="84" y="90"/>
                      </a:lnTo>
                      <a:lnTo>
                        <a:pt x="58" y="111"/>
                      </a:lnTo>
                      <a:lnTo>
                        <a:pt x="38" y="128"/>
                      </a:lnTo>
                      <a:lnTo>
                        <a:pt x="22" y="145"/>
                      </a:lnTo>
                      <a:lnTo>
                        <a:pt x="10" y="162"/>
                      </a:lnTo>
                      <a:lnTo>
                        <a:pt x="2" y="178"/>
                      </a:lnTo>
                      <a:lnTo>
                        <a:pt x="0" y="195"/>
                      </a:lnTo>
                      <a:lnTo>
                        <a:pt x="0" y="214"/>
                      </a:lnTo>
                      <a:lnTo>
                        <a:pt x="3" y="236"/>
                      </a:lnTo>
                      <a:lnTo>
                        <a:pt x="13" y="250"/>
                      </a:lnTo>
                      <a:lnTo>
                        <a:pt x="27" y="264"/>
                      </a:lnTo>
                      <a:lnTo>
                        <a:pt x="45" y="278"/>
                      </a:lnTo>
                      <a:lnTo>
                        <a:pt x="63" y="292"/>
                      </a:lnTo>
                      <a:lnTo>
                        <a:pt x="83" y="305"/>
                      </a:lnTo>
                      <a:lnTo>
                        <a:pt x="104" y="318"/>
                      </a:lnTo>
                      <a:lnTo>
                        <a:pt x="126" y="331"/>
                      </a:lnTo>
                      <a:lnTo>
                        <a:pt x="147" y="342"/>
                      </a:lnTo>
                      <a:lnTo>
                        <a:pt x="169" y="353"/>
                      </a:lnTo>
                      <a:lnTo>
                        <a:pt x="189" y="363"/>
                      </a:lnTo>
                      <a:lnTo>
                        <a:pt x="207" y="371"/>
                      </a:lnTo>
                      <a:lnTo>
                        <a:pt x="223" y="379"/>
                      </a:lnTo>
                      <a:lnTo>
                        <a:pt x="237" y="385"/>
                      </a:lnTo>
                      <a:lnTo>
                        <a:pt x="247" y="390"/>
                      </a:lnTo>
                      <a:lnTo>
                        <a:pt x="254" y="392"/>
                      </a:lnTo>
                      <a:lnTo>
                        <a:pt x="257" y="393"/>
                      </a:lnTo>
                      <a:lnTo>
                        <a:pt x="272" y="404"/>
                      </a:lnTo>
                      <a:lnTo>
                        <a:pt x="284" y="425"/>
                      </a:lnTo>
                      <a:lnTo>
                        <a:pt x="296" y="452"/>
                      </a:lnTo>
                      <a:lnTo>
                        <a:pt x="307" y="482"/>
                      </a:lnTo>
                      <a:lnTo>
                        <a:pt x="318" y="514"/>
                      </a:lnTo>
                      <a:lnTo>
                        <a:pt x="330" y="547"/>
                      </a:lnTo>
                      <a:lnTo>
                        <a:pt x="344" y="578"/>
                      </a:lnTo>
                      <a:lnTo>
                        <a:pt x="360" y="606"/>
                      </a:lnTo>
                      <a:lnTo>
                        <a:pt x="375" y="626"/>
                      </a:lnTo>
                      <a:lnTo>
                        <a:pt x="391" y="643"/>
                      </a:lnTo>
                      <a:lnTo>
                        <a:pt x="409" y="657"/>
                      </a:lnTo>
                      <a:lnTo>
                        <a:pt x="428" y="668"/>
                      </a:lnTo>
                      <a:lnTo>
                        <a:pt x="448" y="679"/>
                      </a:lnTo>
                      <a:lnTo>
                        <a:pt x="469" y="685"/>
                      </a:lnTo>
                      <a:lnTo>
                        <a:pt x="490" y="691"/>
                      </a:lnTo>
                      <a:lnTo>
                        <a:pt x="512" y="696"/>
                      </a:lnTo>
                      <a:lnTo>
                        <a:pt x="535" y="698"/>
                      </a:lnTo>
                      <a:lnTo>
                        <a:pt x="558" y="700"/>
                      </a:lnTo>
                      <a:lnTo>
                        <a:pt x="583" y="700"/>
                      </a:lnTo>
                      <a:lnTo>
                        <a:pt x="606" y="700"/>
                      </a:lnTo>
                      <a:lnTo>
                        <a:pt x="630" y="699"/>
                      </a:lnTo>
                      <a:lnTo>
                        <a:pt x="653" y="698"/>
                      </a:lnTo>
                      <a:lnTo>
                        <a:pt x="676" y="696"/>
                      </a:lnTo>
                      <a:lnTo>
                        <a:pt x="699" y="695"/>
                      </a:lnTo>
                      <a:lnTo>
                        <a:pt x="704" y="670"/>
                      </a:lnTo>
                      <a:lnTo>
                        <a:pt x="693" y="673"/>
                      </a:lnTo>
                      <a:lnTo>
                        <a:pt x="682" y="674"/>
                      </a:lnTo>
                      <a:lnTo>
                        <a:pt x="667" y="676"/>
                      </a:lnTo>
                      <a:lnTo>
                        <a:pt x="652" y="677"/>
                      </a:lnTo>
                      <a:lnTo>
                        <a:pt x="634" y="679"/>
                      </a:lnTo>
                      <a:lnTo>
                        <a:pt x="616" y="679"/>
                      </a:lnTo>
                      <a:lnTo>
                        <a:pt x="596" y="679"/>
                      </a:lnTo>
                      <a:lnTo>
                        <a:pt x="577" y="677"/>
                      </a:lnTo>
                      <a:lnTo>
                        <a:pt x="557" y="676"/>
                      </a:lnTo>
                      <a:lnTo>
                        <a:pt x="537" y="674"/>
                      </a:lnTo>
                      <a:lnTo>
                        <a:pt x="517" y="670"/>
                      </a:lnTo>
                      <a:lnTo>
                        <a:pt x="496" y="667"/>
                      </a:lnTo>
                      <a:lnTo>
                        <a:pt x="478" y="661"/>
                      </a:lnTo>
                      <a:lnTo>
                        <a:pt x="459" y="654"/>
                      </a:lnTo>
                      <a:lnTo>
                        <a:pt x="442" y="647"/>
                      </a:lnTo>
                      <a:lnTo>
                        <a:pt x="427" y="638"/>
                      </a:lnTo>
                      <a:lnTo>
                        <a:pt x="416" y="630"/>
                      </a:lnTo>
                      <a:lnTo>
                        <a:pt x="405" y="622"/>
                      </a:lnTo>
                      <a:lnTo>
                        <a:pt x="395" y="613"/>
                      </a:lnTo>
                      <a:lnTo>
                        <a:pt x="387" y="603"/>
                      </a:lnTo>
                      <a:lnTo>
                        <a:pt x="378" y="590"/>
                      </a:lnTo>
                      <a:lnTo>
                        <a:pt x="369" y="575"/>
                      </a:lnTo>
                      <a:lnTo>
                        <a:pt x="361" y="559"/>
                      </a:lnTo>
                      <a:lnTo>
                        <a:pt x="353" y="539"/>
                      </a:lnTo>
                      <a:lnTo>
                        <a:pt x="346" y="516"/>
                      </a:lnTo>
                      <a:lnTo>
                        <a:pt x="339" y="492"/>
                      </a:lnTo>
                      <a:lnTo>
                        <a:pt x="331" y="469"/>
                      </a:lnTo>
                      <a:lnTo>
                        <a:pt x="322" y="446"/>
                      </a:lnTo>
                      <a:lnTo>
                        <a:pt x="311" y="425"/>
                      </a:lnTo>
                      <a:lnTo>
                        <a:pt x="299" y="407"/>
                      </a:lnTo>
                      <a:lnTo>
                        <a:pt x="284" y="391"/>
                      </a:lnTo>
                      <a:lnTo>
                        <a:pt x="268" y="378"/>
                      </a:lnTo>
                      <a:lnTo>
                        <a:pt x="254" y="370"/>
                      </a:lnTo>
                      <a:lnTo>
                        <a:pt x="239" y="363"/>
                      </a:lnTo>
                      <a:lnTo>
                        <a:pt x="225" y="356"/>
                      </a:lnTo>
                      <a:lnTo>
                        <a:pt x="212" y="348"/>
                      </a:lnTo>
                      <a:lnTo>
                        <a:pt x="197" y="341"/>
                      </a:lnTo>
                      <a:lnTo>
                        <a:pt x="183" y="333"/>
                      </a:lnTo>
                      <a:lnTo>
                        <a:pt x="169" y="325"/>
                      </a:lnTo>
                      <a:lnTo>
                        <a:pt x="154" y="317"/>
                      </a:lnTo>
                      <a:lnTo>
                        <a:pt x="140" y="309"/>
                      </a:lnTo>
                      <a:lnTo>
                        <a:pt x="126" y="301"/>
                      </a:lnTo>
                      <a:lnTo>
                        <a:pt x="113" y="293"/>
                      </a:lnTo>
                      <a:lnTo>
                        <a:pt x="99" y="284"/>
                      </a:lnTo>
                      <a:lnTo>
                        <a:pt x="85" y="274"/>
                      </a:lnTo>
                      <a:lnTo>
                        <a:pt x="72" y="264"/>
                      </a:lnTo>
                      <a:lnTo>
                        <a:pt x="58" y="254"/>
                      </a:lnTo>
                      <a:lnTo>
                        <a:pt x="46" y="243"/>
                      </a:lnTo>
                      <a:lnTo>
                        <a:pt x="33" y="228"/>
                      </a:lnTo>
                      <a:lnTo>
                        <a:pt x="25" y="211"/>
                      </a:lnTo>
                      <a:lnTo>
                        <a:pt x="24" y="191"/>
                      </a:lnTo>
                      <a:lnTo>
                        <a:pt x="31" y="168"/>
                      </a:lnTo>
                      <a:lnTo>
                        <a:pt x="34" y="159"/>
                      </a:lnTo>
                      <a:lnTo>
                        <a:pt x="39" y="151"/>
                      </a:lnTo>
                      <a:lnTo>
                        <a:pt x="45" y="144"/>
                      </a:lnTo>
                      <a:lnTo>
                        <a:pt x="50" y="138"/>
                      </a:lnTo>
                      <a:lnTo>
                        <a:pt x="57" y="133"/>
                      </a:lnTo>
                      <a:lnTo>
                        <a:pt x="65" y="127"/>
                      </a:lnTo>
                      <a:lnTo>
                        <a:pt x="72" y="120"/>
                      </a:lnTo>
                      <a:lnTo>
                        <a:pt x="79" y="114"/>
                      </a:lnTo>
                      <a:lnTo>
                        <a:pt x="89" y="115"/>
                      </a:lnTo>
                      <a:lnTo>
                        <a:pt x="100" y="114"/>
                      </a:lnTo>
                      <a:lnTo>
                        <a:pt x="111" y="112"/>
                      </a:lnTo>
                      <a:lnTo>
                        <a:pt x="122" y="109"/>
                      </a:lnTo>
                      <a:lnTo>
                        <a:pt x="132" y="104"/>
                      </a:lnTo>
                      <a:lnTo>
                        <a:pt x="142" y="99"/>
                      </a:lnTo>
                      <a:lnTo>
                        <a:pt x="152" y="94"/>
                      </a:lnTo>
                      <a:lnTo>
                        <a:pt x="161" y="87"/>
                      </a:lnTo>
                      <a:lnTo>
                        <a:pt x="168" y="76"/>
                      </a:lnTo>
                      <a:lnTo>
                        <a:pt x="170" y="65"/>
                      </a:lnTo>
                      <a:lnTo>
                        <a:pt x="168" y="53"/>
                      </a:lnTo>
                      <a:lnTo>
                        <a:pt x="163" y="42"/>
                      </a:lnTo>
                      <a:lnTo>
                        <a:pt x="157" y="31"/>
                      </a:lnTo>
                      <a:lnTo>
                        <a:pt x="153" y="22"/>
                      </a:lnTo>
                      <a:lnTo>
                        <a:pt x="147" y="16"/>
                      </a:lnTo>
                      <a:lnTo>
                        <a:pt x="141" y="11"/>
                      </a:lnTo>
                      <a:lnTo>
                        <a:pt x="134" y="7"/>
                      </a:lnTo>
                      <a:lnTo>
                        <a:pt x="128" y="4"/>
                      </a:lnTo>
                      <a:lnTo>
                        <a:pt x="121" y="1"/>
                      </a:lnTo>
                      <a:lnTo>
                        <a:pt x="111" y="0"/>
                      </a:lnTo>
                      <a:lnTo>
                        <a:pt x="106" y="1"/>
                      </a:lnTo>
                      <a:lnTo>
                        <a:pt x="101" y="3"/>
                      </a:lnTo>
                      <a:lnTo>
                        <a:pt x="95" y="4"/>
                      </a:lnTo>
                      <a:lnTo>
                        <a:pt x="91" y="5"/>
                      </a:lnTo>
                      <a:lnTo>
                        <a:pt x="86" y="7"/>
                      </a:lnTo>
                      <a:lnTo>
                        <a:pt x="80" y="10"/>
                      </a:lnTo>
                      <a:lnTo>
                        <a:pt x="73" y="13"/>
                      </a:lnTo>
                      <a:lnTo>
                        <a:pt x="66" y="18"/>
                      </a:lnTo>
                      <a:lnTo>
                        <a:pt x="55" y="39"/>
                      </a:lnTo>
                      <a:lnTo>
                        <a:pt x="62" y="35"/>
                      </a:lnTo>
                      <a:lnTo>
                        <a:pt x="69" y="30"/>
                      </a:lnTo>
                      <a:lnTo>
                        <a:pt x="77" y="26"/>
                      </a:lnTo>
                      <a:lnTo>
                        <a:pt x="84" y="22"/>
                      </a:lnTo>
                      <a:lnTo>
                        <a:pt x="91" y="20"/>
                      </a:lnTo>
                      <a:lnTo>
                        <a:pt x="98" y="18"/>
                      </a:lnTo>
                      <a:lnTo>
                        <a:pt x="103" y="18"/>
                      </a:lnTo>
                      <a:lnTo>
                        <a:pt x="109" y="18"/>
                      </a:lnTo>
                      <a:lnTo>
                        <a:pt x="118" y="21"/>
                      </a:lnTo>
                      <a:lnTo>
                        <a:pt x="125" y="26"/>
                      </a:lnTo>
                      <a:lnTo>
                        <a:pt x="132" y="31"/>
                      </a:lnTo>
                      <a:lnTo>
                        <a:pt x="137" y="39"/>
                      </a:lnTo>
                      <a:lnTo>
                        <a:pt x="139" y="46"/>
                      </a:lnTo>
                      <a:lnTo>
                        <a:pt x="141" y="54"/>
                      </a:lnTo>
                      <a:lnTo>
                        <a:pt x="141" y="62"/>
                      </a:lnTo>
                      <a:lnTo>
                        <a:pt x="140" y="69"/>
                      </a:lnTo>
                      <a:lnTo>
                        <a:pt x="134" y="73"/>
                      </a:lnTo>
                      <a:lnTo>
                        <a:pt x="128" y="77"/>
                      </a:lnTo>
                      <a:lnTo>
                        <a:pt x="122" y="81"/>
                      </a:lnTo>
                      <a:lnTo>
                        <a:pt x="115" y="83"/>
                      </a:lnTo>
                      <a:lnTo>
                        <a:pt x="108" y="84"/>
                      </a:lnTo>
                      <a:lnTo>
                        <a:pt x="103" y="84"/>
                      </a:lnTo>
                      <a:lnTo>
                        <a:pt x="100" y="82"/>
                      </a:lnTo>
                      <a:lnTo>
                        <a:pt x="98" y="77"/>
                      </a:lnTo>
                      <a:lnTo>
                        <a:pt x="94" y="69"/>
                      </a:lnTo>
                      <a:lnTo>
                        <a:pt x="92" y="61"/>
                      </a:lnTo>
                      <a:lnTo>
                        <a:pt x="87" y="53"/>
                      </a:lnTo>
                      <a:lnTo>
                        <a:pt x="81" y="46"/>
                      </a:lnTo>
                      <a:lnTo>
                        <a:pt x="66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AutoShape 40"/>
                <p:cNvSpPr/>
                <p:nvPr/>
              </p:nvSpPr>
              <p:spPr>
                <a:xfrm rot="20460000">
                  <a:off x="4213440" y="1769400"/>
                  <a:ext cx="270360" cy="341640"/>
                </a:xfrm>
                <a:custGeom>
                  <a:avLst/>
                  <a:gdLst>
                    <a:gd name="textAreaLeft" fmla="*/ 0 w 270360"/>
                    <a:gd name="textAreaRight" fmla="*/ 270720 w 270360"/>
                    <a:gd name="textAreaTop" fmla="*/ 0 h 341640"/>
                    <a:gd name="textAreaBottom" fmla="*/ 342000 h 341640"/>
                  </a:gdLst>
                  <a:ahLst/>
                  <a:rect l="textAreaLeft" t="textAreaTop" r="textAreaRight" b="textAreaBottom"/>
                  <a:pathLst>
                    <a:path w="269" h="353">
                      <a:moveTo>
                        <a:pt x="96" y="0"/>
                      </a:moveTo>
                      <a:lnTo>
                        <a:pt x="92" y="2"/>
                      </a:lnTo>
                      <a:lnTo>
                        <a:pt x="84" y="6"/>
                      </a:lnTo>
                      <a:lnTo>
                        <a:pt x="75" y="13"/>
                      </a:lnTo>
                      <a:lnTo>
                        <a:pt x="64" y="22"/>
                      </a:lnTo>
                      <a:lnTo>
                        <a:pt x="51" y="33"/>
                      </a:lnTo>
                      <a:lnTo>
                        <a:pt x="38" y="47"/>
                      </a:lnTo>
                      <a:lnTo>
                        <a:pt x="26" y="62"/>
                      </a:lnTo>
                      <a:lnTo>
                        <a:pt x="15" y="78"/>
                      </a:lnTo>
                      <a:lnTo>
                        <a:pt x="6" y="101"/>
                      </a:lnTo>
                      <a:lnTo>
                        <a:pt x="0" y="127"/>
                      </a:lnTo>
                      <a:lnTo>
                        <a:pt x="0" y="155"/>
                      </a:lnTo>
                      <a:lnTo>
                        <a:pt x="7" y="188"/>
                      </a:lnTo>
                      <a:lnTo>
                        <a:pt x="11" y="198"/>
                      </a:lnTo>
                      <a:lnTo>
                        <a:pt x="15" y="208"/>
                      </a:lnTo>
                      <a:lnTo>
                        <a:pt x="21" y="218"/>
                      </a:lnTo>
                      <a:lnTo>
                        <a:pt x="27" y="227"/>
                      </a:lnTo>
                      <a:lnTo>
                        <a:pt x="32" y="235"/>
                      </a:lnTo>
                      <a:lnTo>
                        <a:pt x="40" y="243"/>
                      </a:lnTo>
                      <a:lnTo>
                        <a:pt x="47" y="250"/>
                      </a:lnTo>
                      <a:lnTo>
                        <a:pt x="55" y="257"/>
                      </a:lnTo>
                      <a:lnTo>
                        <a:pt x="65" y="264"/>
                      </a:lnTo>
                      <a:lnTo>
                        <a:pt x="75" y="270"/>
                      </a:lnTo>
                      <a:lnTo>
                        <a:pt x="85" y="277"/>
                      </a:lnTo>
                      <a:lnTo>
                        <a:pt x="97" y="283"/>
                      </a:lnTo>
                      <a:lnTo>
                        <a:pt x="107" y="289"/>
                      </a:lnTo>
                      <a:lnTo>
                        <a:pt x="119" y="295"/>
                      </a:lnTo>
                      <a:lnTo>
                        <a:pt x="129" y="300"/>
                      </a:lnTo>
                      <a:lnTo>
                        <a:pt x="141" y="306"/>
                      </a:lnTo>
                      <a:lnTo>
                        <a:pt x="152" y="312"/>
                      </a:lnTo>
                      <a:lnTo>
                        <a:pt x="166" y="318"/>
                      </a:lnTo>
                      <a:lnTo>
                        <a:pt x="180" y="323"/>
                      </a:lnTo>
                      <a:lnTo>
                        <a:pt x="195" y="330"/>
                      </a:lnTo>
                      <a:lnTo>
                        <a:pt x="209" y="336"/>
                      </a:lnTo>
                      <a:lnTo>
                        <a:pt x="223" y="343"/>
                      </a:lnTo>
                      <a:lnTo>
                        <a:pt x="236" y="349"/>
                      </a:lnTo>
                      <a:lnTo>
                        <a:pt x="248" y="353"/>
                      </a:lnTo>
                      <a:lnTo>
                        <a:pt x="269" y="344"/>
                      </a:lnTo>
                      <a:lnTo>
                        <a:pt x="255" y="337"/>
                      </a:lnTo>
                      <a:lnTo>
                        <a:pt x="239" y="330"/>
                      </a:lnTo>
                      <a:lnTo>
                        <a:pt x="224" y="323"/>
                      </a:lnTo>
                      <a:lnTo>
                        <a:pt x="209" y="317"/>
                      </a:lnTo>
                      <a:lnTo>
                        <a:pt x="194" y="310"/>
                      </a:lnTo>
                      <a:lnTo>
                        <a:pt x="180" y="304"/>
                      </a:lnTo>
                      <a:lnTo>
                        <a:pt x="168" y="299"/>
                      </a:lnTo>
                      <a:lnTo>
                        <a:pt x="159" y="295"/>
                      </a:lnTo>
                      <a:lnTo>
                        <a:pt x="136" y="283"/>
                      </a:lnTo>
                      <a:lnTo>
                        <a:pt x="113" y="270"/>
                      </a:lnTo>
                      <a:lnTo>
                        <a:pt x="90" y="258"/>
                      </a:lnTo>
                      <a:lnTo>
                        <a:pt x="69" y="242"/>
                      </a:lnTo>
                      <a:lnTo>
                        <a:pt x="51" y="226"/>
                      </a:lnTo>
                      <a:lnTo>
                        <a:pt x="36" y="206"/>
                      </a:lnTo>
                      <a:lnTo>
                        <a:pt x="24" y="185"/>
                      </a:lnTo>
                      <a:lnTo>
                        <a:pt x="19" y="162"/>
                      </a:lnTo>
                      <a:lnTo>
                        <a:pt x="19" y="135"/>
                      </a:lnTo>
                      <a:lnTo>
                        <a:pt x="23" y="109"/>
                      </a:lnTo>
                      <a:lnTo>
                        <a:pt x="32" y="87"/>
                      </a:lnTo>
                      <a:lnTo>
                        <a:pt x="45" y="67"/>
                      </a:lnTo>
                      <a:lnTo>
                        <a:pt x="51" y="60"/>
                      </a:lnTo>
                      <a:lnTo>
                        <a:pt x="57" y="53"/>
                      </a:lnTo>
                      <a:lnTo>
                        <a:pt x="62" y="46"/>
                      </a:lnTo>
                      <a:lnTo>
                        <a:pt x="69" y="39"/>
                      </a:lnTo>
                      <a:lnTo>
                        <a:pt x="76" y="33"/>
                      </a:lnTo>
                      <a:lnTo>
                        <a:pt x="84" y="26"/>
                      </a:lnTo>
                      <a:lnTo>
                        <a:pt x="91" y="19"/>
                      </a:lnTo>
                      <a:lnTo>
                        <a:pt x="99" y="13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AutoShape 41"/>
                <p:cNvSpPr/>
                <p:nvPr/>
              </p:nvSpPr>
              <p:spPr>
                <a:xfrm rot="20460000">
                  <a:off x="4762440" y="1632240"/>
                  <a:ext cx="1081800" cy="1087560"/>
                </a:xfrm>
                <a:custGeom>
                  <a:avLst/>
                  <a:gdLst>
                    <a:gd name="textAreaLeft" fmla="*/ 0 w 1081800"/>
                    <a:gd name="textAreaRight" fmla="*/ 1082160 w 1081800"/>
                    <a:gd name="textAreaTop" fmla="*/ 0 h 1087560"/>
                    <a:gd name="textAreaBottom" fmla="*/ 1087920 h 1087560"/>
                  </a:gdLst>
                  <a:ahLst/>
                  <a:rect l="textAreaLeft" t="textAreaTop" r="textAreaRight" b="textAreaBottom"/>
                  <a:pathLst>
                    <a:path w="1071" h="1126">
                      <a:moveTo>
                        <a:pt x="2" y="308"/>
                      </a:moveTo>
                      <a:lnTo>
                        <a:pt x="31" y="300"/>
                      </a:lnTo>
                      <a:lnTo>
                        <a:pt x="58" y="292"/>
                      </a:lnTo>
                      <a:lnTo>
                        <a:pt x="83" y="284"/>
                      </a:lnTo>
                      <a:lnTo>
                        <a:pt x="104" y="275"/>
                      </a:lnTo>
                      <a:lnTo>
                        <a:pt x="125" y="265"/>
                      </a:lnTo>
                      <a:lnTo>
                        <a:pt x="144" y="255"/>
                      </a:lnTo>
                      <a:lnTo>
                        <a:pt x="161" y="243"/>
                      </a:lnTo>
                      <a:lnTo>
                        <a:pt x="177" y="232"/>
                      </a:lnTo>
                      <a:lnTo>
                        <a:pt x="192" y="220"/>
                      </a:lnTo>
                      <a:lnTo>
                        <a:pt x="206" y="208"/>
                      </a:lnTo>
                      <a:lnTo>
                        <a:pt x="220" y="194"/>
                      </a:lnTo>
                      <a:lnTo>
                        <a:pt x="232" y="179"/>
                      </a:lnTo>
                      <a:lnTo>
                        <a:pt x="244" y="164"/>
                      </a:lnTo>
                      <a:lnTo>
                        <a:pt x="257" y="148"/>
                      </a:lnTo>
                      <a:lnTo>
                        <a:pt x="268" y="131"/>
                      </a:lnTo>
                      <a:lnTo>
                        <a:pt x="281" y="112"/>
                      </a:lnTo>
                      <a:lnTo>
                        <a:pt x="296" y="114"/>
                      </a:lnTo>
                      <a:lnTo>
                        <a:pt x="311" y="119"/>
                      </a:lnTo>
                      <a:lnTo>
                        <a:pt x="326" y="125"/>
                      </a:lnTo>
                      <a:lnTo>
                        <a:pt x="339" y="132"/>
                      </a:lnTo>
                      <a:lnTo>
                        <a:pt x="354" y="139"/>
                      </a:lnTo>
                      <a:lnTo>
                        <a:pt x="368" y="148"/>
                      </a:lnTo>
                      <a:lnTo>
                        <a:pt x="381" y="156"/>
                      </a:lnTo>
                      <a:lnTo>
                        <a:pt x="395" y="165"/>
                      </a:lnTo>
                      <a:lnTo>
                        <a:pt x="412" y="179"/>
                      </a:lnTo>
                      <a:lnTo>
                        <a:pt x="427" y="194"/>
                      </a:lnTo>
                      <a:lnTo>
                        <a:pt x="441" y="211"/>
                      </a:lnTo>
                      <a:lnTo>
                        <a:pt x="452" y="231"/>
                      </a:lnTo>
                      <a:lnTo>
                        <a:pt x="462" y="250"/>
                      </a:lnTo>
                      <a:lnTo>
                        <a:pt x="467" y="272"/>
                      </a:lnTo>
                      <a:lnTo>
                        <a:pt x="471" y="294"/>
                      </a:lnTo>
                      <a:lnTo>
                        <a:pt x="472" y="316"/>
                      </a:lnTo>
                      <a:lnTo>
                        <a:pt x="471" y="329"/>
                      </a:lnTo>
                      <a:lnTo>
                        <a:pt x="468" y="346"/>
                      </a:lnTo>
                      <a:lnTo>
                        <a:pt x="465" y="366"/>
                      </a:lnTo>
                      <a:lnTo>
                        <a:pt x="458" y="379"/>
                      </a:lnTo>
                      <a:lnTo>
                        <a:pt x="454" y="380"/>
                      </a:lnTo>
                      <a:lnTo>
                        <a:pt x="449" y="380"/>
                      </a:lnTo>
                      <a:lnTo>
                        <a:pt x="443" y="379"/>
                      </a:lnTo>
                      <a:lnTo>
                        <a:pt x="436" y="379"/>
                      </a:lnTo>
                      <a:lnTo>
                        <a:pt x="428" y="379"/>
                      </a:lnTo>
                      <a:lnTo>
                        <a:pt x="420" y="380"/>
                      </a:lnTo>
                      <a:lnTo>
                        <a:pt x="409" y="384"/>
                      </a:lnTo>
                      <a:lnTo>
                        <a:pt x="397" y="389"/>
                      </a:lnTo>
                      <a:lnTo>
                        <a:pt x="380" y="398"/>
                      </a:lnTo>
                      <a:lnTo>
                        <a:pt x="367" y="409"/>
                      </a:lnTo>
                      <a:lnTo>
                        <a:pt x="359" y="422"/>
                      </a:lnTo>
                      <a:lnTo>
                        <a:pt x="353" y="435"/>
                      </a:lnTo>
                      <a:lnTo>
                        <a:pt x="350" y="447"/>
                      </a:lnTo>
                      <a:lnTo>
                        <a:pt x="349" y="456"/>
                      </a:lnTo>
                      <a:lnTo>
                        <a:pt x="349" y="463"/>
                      </a:lnTo>
                      <a:lnTo>
                        <a:pt x="351" y="467"/>
                      </a:lnTo>
                      <a:lnTo>
                        <a:pt x="361" y="450"/>
                      </a:lnTo>
                      <a:lnTo>
                        <a:pt x="372" y="436"/>
                      </a:lnTo>
                      <a:lnTo>
                        <a:pt x="381" y="424"/>
                      </a:lnTo>
                      <a:lnTo>
                        <a:pt x="391" y="416"/>
                      </a:lnTo>
                      <a:lnTo>
                        <a:pt x="402" y="410"/>
                      </a:lnTo>
                      <a:lnTo>
                        <a:pt x="413" y="406"/>
                      </a:lnTo>
                      <a:lnTo>
                        <a:pt x="427" y="404"/>
                      </a:lnTo>
                      <a:lnTo>
                        <a:pt x="442" y="402"/>
                      </a:lnTo>
                      <a:lnTo>
                        <a:pt x="454" y="404"/>
                      </a:lnTo>
                      <a:lnTo>
                        <a:pt x="466" y="406"/>
                      </a:lnTo>
                      <a:lnTo>
                        <a:pt x="478" y="410"/>
                      </a:lnTo>
                      <a:lnTo>
                        <a:pt x="489" y="416"/>
                      </a:lnTo>
                      <a:lnTo>
                        <a:pt x="498" y="424"/>
                      </a:lnTo>
                      <a:lnTo>
                        <a:pt x="508" y="433"/>
                      </a:lnTo>
                      <a:lnTo>
                        <a:pt x="516" y="444"/>
                      </a:lnTo>
                      <a:lnTo>
                        <a:pt x="521" y="455"/>
                      </a:lnTo>
                      <a:lnTo>
                        <a:pt x="525" y="470"/>
                      </a:lnTo>
                      <a:lnTo>
                        <a:pt x="527" y="486"/>
                      </a:lnTo>
                      <a:lnTo>
                        <a:pt x="525" y="504"/>
                      </a:lnTo>
                      <a:lnTo>
                        <a:pt x="518" y="519"/>
                      </a:lnTo>
                      <a:lnTo>
                        <a:pt x="523" y="523"/>
                      </a:lnTo>
                      <a:lnTo>
                        <a:pt x="527" y="529"/>
                      </a:lnTo>
                      <a:lnTo>
                        <a:pt x="532" y="534"/>
                      </a:lnTo>
                      <a:lnTo>
                        <a:pt x="538" y="538"/>
                      </a:lnTo>
                      <a:lnTo>
                        <a:pt x="542" y="544"/>
                      </a:lnTo>
                      <a:lnTo>
                        <a:pt x="548" y="550"/>
                      </a:lnTo>
                      <a:lnTo>
                        <a:pt x="553" y="556"/>
                      </a:lnTo>
                      <a:lnTo>
                        <a:pt x="558" y="561"/>
                      </a:lnTo>
                      <a:lnTo>
                        <a:pt x="576" y="594"/>
                      </a:lnTo>
                      <a:lnTo>
                        <a:pt x="584" y="625"/>
                      </a:lnTo>
                      <a:lnTo>
                        <a:pt x="584" y="656"/>
                      </a:lnTo>
                      <a:lnTo>
                        <a:pt x="579" y="691"/>
                      </a:lnTo>
                      <a:lnTo>
                        <a:pt x="550" y="830"/>
                      </a:lnTo>
                      <a:lnTo>
                        <a:pt x="548" y="848"/>
                      </a:lnTo>
                      <a:lnTo>
                        <a:pt x="548" y="868"/>
                      </a:lnTo>
                      <a:lnTo>
                        <a:pt x="550" y="885"/>
                      </a:lnTo>
                      <a:lnTo>
                        <a:pt x="556" y="902"/>
                      </a:lnTo>
                      <a:lnTo>
                        <a:pt x="563" y="918"/>
                      </a:lnTo>
                      <a:lnTo>
                        <a:pt x="572" y="933"/>
                      </a:lnTo>
                      <a:lnTo>
                        <a:pt x="584" y="946"/>
                      </a:lnTo>
                      <a:lnTo>
                        <a:pt x="599" y="957"/>
                      </a:lnTo>
                      <a:lnTo>
                        <a:pt x="617" y="969"/>
                      </a:lnTo>
                      <a:lnTo>
                        <a:pt x="634" y="978"/>
                      </a:lnTo>
                      <a:lnTo>
                        <a:pt x="653" y="985"/>
                      </a:lnTo>
                      <a:lnTo>
                        <a:pt x="670" y="991"/>
                      </a:lnTo>
                      <a:lnTo>
                        <a:pt x="690" y="995"/>
                      </a:lnTo>
                      <a:lnTo>
                        <a:pt x="710" y="998"/>
                      </a:lnTo>
                      <a:lnTo>
                        <a:pt x="733" y="1000"/>
                      </a:lnTo>
                      <a:lnTo>
                        <a:pt x="759" y="1002"/>
                      </a:lnTo>
                      <a:lnTo>
                        <a:pt x="777" y="1002"/>
                      </a:lnTo>
                      <a:lnTo>
                        <a:pt x="796" y="1000"/>
                      </a:lnTo>
                      <a:lnTo>
                        <a:pt x="813" y="999"/>
                      </a:lnTo>
                      <a:lnTo>
                        <a:pt x="830" y="995"/>
                      </a:lnTo>
                      <a:lnTo>
                        <a:pt x="845" y="992"/>
                      </a:lnTo>
                      <a:lnTo>
                        <a:pt x="858" y="988"/>
                      </a:lnTo>
                      <a:lnTo>
                        <a:pt x="871" y="985"/>
                      </a:lnTo>
                      <a:lnTo>
                        <a:pt x="880" y="980"/>
                      </a:lnTo>
                      <a:lnTo>
                        <a:pt x="881" y="1000"/>
                      </a:lnTo>
                      <a:lnTo>
                        <a:pt x="882" y="1020"/>
                      </a:lnTo>
                      <a:lnTo>
                        <a:pt x="884" y="1038"/>
                      </a:lnTo>
                      <a:lnTo>
                        <a:pt x="892" y="1055"/>
                      </a:lnTo>
                      <a:lnTo>
                        <a:pt x="954" y="1082"/>
                      </a:lnTo>
                      <a:lnTo>
                        <a:pt x="950" y="1060"/>
                      </a:lnTo>
                      <a:lnTo>
                        <a:pt x="907" y="1039"/>
                      </a:lnTo>
                      <a:lnTo>
                        <a:pt x="904" y="1016"/>
                      </a:lnTo>
                      <a:lnTo>
                        <a:pt x="904" y="992"/>
                      </a:lnTo>
                      <a:lnTo>
                        <a:pt x="906" y="970"/>
                      </a:lnTo>
                      <a:lnTo>
                        <a:pt x="911" y="949"/>
                      </a:lnTo>
                      <a:lnTo>
                        <a:pt x="952" y="944"/>
                      </a:lnTo>
                      <a:lnTo>
                        <a:pt x="952" y="970"/>
                      </a:lnTo>
                      <a:lnTo>
                        <a:pt x="955" y="1001"/>
                      </a:lnTo>
                      <a:lnTo>
                        <a:pt x="958" y="1031"/>
                      </a:lnTo>
                      <a:lnTo>
                        <a:pt x="965" y="1059"/>
                      </a:lnTo>
                      <a:lnTo>
                        <a:pt x="966" y="1040"/>
                      </a:lnTo>
                      <a:lnTo>
                        <a:pt x="970" y="995"/>
                      </a:lnTo>
                      <a:lnTo>
                        <a:pt x="978" y="942"/>
                      </a:lnTo>
                      <a:lnTo>
                        <a:pt x="990" y="899"/>
                      </a:lnTo>
                      <a:lnTo>
                        <a:pt x="995" y="892"/>
                      </a:lnTo>
                      <a:lnTo>
                        <a:pt x="1002" y="887"/>
                      </a:lnTo>
                      <a:lnTo>
                        <a:pt x="1009" y="885"/>
                      </a:lnTo>
                      <a:lnTo>
                        <a:pt x="1016" y="884"/>
                      </a:lnTo>
                      <a:lnTo>
                        <a:pt x="1011" y="932"/>
                      </a:lnTo>
                      <a:lnTo>
                        <a:pt x="1007" y="984"/>
                      </a:lnTo>
                      <a:lnTo>
                        <a:pt x="1005" y="1037"/>
                      </a:lnTo>
                      <a:lnTo>
                        <a:pt x="1008" y="1086"/>
                      </a:lnTo>
                      <a:lnTo>
                        <a:pt x="1004" y="1088"/>
                      </a:lnTo>
                      <a:lnTo>
                        <a:pt x="1000" y="1089"/>
                      </a:lnTo>
                      <a:lnTo>
                        <a:pt x="995" y="1089"/>
                      </a:lnTo>
                      <a:lnTo>
                        <a:pt x="990" y="1088"/>
                      </a:lnTo>
                      <a:lnTo>
                        <a:pt x="985" y="1086"/>
                      </a:lnTo>
                      <a:lnTo>
                        <a:pt x="980" y="1084"/>
                      </a:lnTo>
                      <a:lnTo>
                        <a:pt x="974" y="1082"/>
                      </a:lnTo>
                      <a:lnTo>
                        <a:pt x="970" y="1079"/>
                      </a:lnTo>
                      <a:lnTo>
                        <a:pt x="972" y="1089"/>
                      </a:lnTo>
                      <a:lnTo>
                        <a:pt x="977" y="1097"/>
                      </a:lnTo>
                      <a:lnTo>
                        <a:pt x="985" y="1104"/>
                      </a:lnTo>
                      <a:lnTo>
                        <a:pt x="994" y="1111"/>
                      </a:lnTo>
                      <a:lnTo>
                        <a:pt x="1004" y="1115"/>
                      </a:lnTo>
                      <a:lnTo>
                        <a:pt x="1015" y="1120"/>
                      </a:lnTo>
                      <a:lnTo>
                        <a:pt x="1025" y="1123"/>
                      </a:lnTo>
                      <a:lnTo>
                        <a:pt x="1034" y="1126"/>
                      </a:lnTo>
                      <a:lnTo>
                        <a:pt x="1032" y="1099"/>
                      </a:lnTo>
                      <a:lnTo>
                        <a:pt x="1028" y="1037"/>
                      </a:lnTo>
                      <a:lnTo>
                        <a:pt x="1028" y="964"/>
                      </a:lnTo>
                      <a:lnTo>
                        <a:pt x="1038" y="904"/>
                      </a:lnTo>
                      <a:lnTo>
                        <a:pt x="1051" y="944"/>
                      </a:lnTo>
                      <a:lnTo>
                        <a:pt x="1055" y="1001"/>
                      </a:lnTo>
                      <a:lnTo>
                        <a:pt x="1054" y="1052"/>
                      </a:lnTo>
                      <a:lnTo>
                        <a:pt x="1054" y="1074"/>
                      </a:lnTo>
                      <a:lnTo>
                        <a:pt x="1068" y="1023"/>
                      </a:lnTo>
                      <a:lnTo>
                        <a:pt x="1071" y="971"/>
                      </a:lnTo>
                      <a:lnTo>
                        <a:pt x="1065" y="918"/>
                      </a:lnTo>
                      <a:lnTo>
                        <a:pt x="1054" y="864"/>
                      </a:lnTo>
                      <a:lnTo>
                        <a:pt x="1045" y="860"/>
                      </a:lnTo>
                      <a:lnTo>
                        <a:pt x="1033" y="857"/>
                      </a:lnTo>
                      <a:lnTo>
                        <a:pt x="1020" y="857"/>
                      </a:lnTo>
                      <a:lnTo>
                        <a:pt x="1008" y="858"/>
                      </a:lnTo>
                      <a:lnTo>
                        <a:pt x="994" y="863"/>
                      </a:lnTo>
                      <a:lnTo>
                        <a:pt x="982" y="869"/>
                      </a:lnTo>
                      <a:lnTo>
                        <a:pt x="973" y="876"/>
                      </a:lnTo>
                      <a:lnTo>
                        <a:pt x="967" y="885"/>
                      </a:lnTo>
                      <a:lnTo>
                        <a:pt x="956" y="922"/>
                      </a:lnTo>
                      <a:lnTo>
                        <a:pt x="945" y="923"/>
                      </a:lnTo>
                      <a:lnTo>
                        <a:pt x="935" y="923"/>
                      </a:lnTo>
                      <a:lnTo>
                        <a:pt x="924" y="924"/>
                      </a:lnTo>
                      <a:lnTo>
                        <a:pt x="913" y="925"/>
                      </a:lnTo>
                      <a:lnTo>
                        <a:pt x="903" y="927"/>
                      </a:lnTo>
                      <a:lnTo>
                        <a:pt x="895" y="931"/>
                      </a:lnTo>
                      <a:lnTo>
                        <a:pt x="888" y="937"/>
                      </a:lnTo>
                      <a:lnTo>
                        <a:pt x="883" y="945"/>
                      </a:lnTo>
                      <a:lnTo>
                        <a:pt x="873" y="953"/>
                      </a:lnTo>
                      <a:lnTo>
                        <a:pt x="858" y="960"/>
                      </a:lnTo>
                      <a:lnTo>
                        <a:pt x="839" y="965"/>
                      </a:lnTo>
                      <a:lnTo>
                        <a:pt x="818" y="971"/>
                      </a:lnTo>
                      <a:lnTo>
                        <a:pt x="795" y="975"/>
                      </a:lnTo>
                      <a:lnTo>
                        <a:pt x="769" y="977"/>
                      </a:lnTo>
                      <a:lnTo>
                        <a:pt x="744" y="978"/>
                      </a:lnTo>
                      <a:lnTo>
                        <a:pt x="718" y="976"/>
                      </a:lnTo>
                      <a:lnTo>
                        <a:pt x="702" y="974"/>
                      </a:lnTo>
                      <a:lnTo>
                        <a:pt x="686" y="970"/>
                      </a:lnTo>
                      <a:lnTo>
                        <a:pt x="671" y="965"/>
                      </a:lnTo>
                      <a:lnTo>
                        <a:pt x="656" y="961"/>
                      </a:lnTo>
                      <a:lnTo>
                        <a:pt x="642" y="954"/>
                      </a:lnTo>
                      <a:lnTo>
                        <a:pt x="630" y="946"/>
                      </a:lnTo>
                      <a:lnTo>
                        <a:pt x="617" y="937"/>
                      </a:lnTo>
                      <a:lnTo>
                        <a:pt x="607" y="926"/>
                      </a:lnTo>
                      <a:lnTo>
                        <a:pt x="595" y="908"/>
                      </a:lnTo>
                      <a:lnTo>
                        <a:pt x="587" y="888"/>
                      </a:lnTo>
                      <a:lnTo>
                        <a:pt x="581" y="870"/>
                      </a:lnTo>
                      <a:lnTo>
                        <a:pt x="579" y="850"/>
                      </a:lnTo>
                      <a:lnTo>
                        <a:pt x="578" y="832"/>
                      </a:lnTo>
                      <a:lnTo>
                        <a:pt x="579" y="812"/>
                      </a:lnTo>
                      <a:lnTo>
                        <a:pt x="581" y="793"/>
                      </a:lnTo>
                      <a:lnTo>
                        <a:pt x="585" y="773"/>
                      </a:lnTo>
                      <a:lnTo>
                        <a:pt x="591" y="743"/>
                      </a:lnTo>
                      <a:lnTo>
                        <a:pt x="598" y="712"/>
                      </a:lnTo>
                      <a:lnTo>
                        <a:pt x="603" y="682"/>
                      </a:lnTo>
                      <a:lnTo>
                        <a:pt x="606" y="652"/>
                      </a:lnTo>
                      <a:lnTo>
                        <a:pt x="606" y="623"/>
                      </a:lnTo>
                      <a:lnTo>
                        <a:pt x="600" y="595"/>
                      </a:lnTo>
                      <a:lnTo>
                        <a:pt x="587" y="567"/>
                      </a:lnTo>
                      <a:lnTo>
                        <a:pt x="568" y="539"/>
                      </a:lnTo>
                      <a:lnTo>
                        <a:pt x="550" y="521"/>
                      </a:lnTo>
                      <a:lnTo>
                        <a:pt x="556" y="506"/>
                      </a:lnTo>
                      <a:lnTo>
                        <a:pt x="558" y="490"/>
                      </a:lnTo>
                      <a:lnTo>
                        <a:pt x="558" y="475"/>
                      </a:lnTo>
                      <a:lnTo>
                        <a:pt x="555" y="460"/>
                      </a:lnTo>
                      <a:lnTo>
                        <a:pt x="550" y="445"/>
                      </a:lnTo>
                      <a:lnTo>
                        <a:pt x="543" y="431"/>
                      </a:lnTo>
                      <a:lnTo>
                        <a:pt x="535" y="417"/>
                      </a:lnTo>
                      <a:lnTo>
                        <a:pt x="527" y="405"/>
                      </a:lnTo>
                      <a:lnTo>
                        <a:pt x="534" y="395"/>
                      </a:lnTo>
                      <a:lnTo>
                        <a:pt x="541" y="386"/>
                      </a:lnTo>
                      <a:lnTo>
                        <a:pt x="547" y="376"/>
                      </a:lnTo>
                      <a:lnTo>
                        <a:pt x="553" y="364"/>
                      </a:lnTo>
                      <a:lnTo>
                        <a:pt x="557" y="354"/>
                      </a:lnTo>
                      <a:lnTo>
                        <a:pt x="562" y="342"/>
                      </a:lnTo>
                      <a:lnTo>
                        <a:pt x="565" y="330"/>
                      </a:lnTo>
                      <a:lnTo>
                        <a:pt x="568" y="318"/>
                      </a:lnTo>
                      <a:lnTo>
                        <a:pt x="569" y="296"/>
                      </a:lnTo>
                      <a:lnTo>
                        <a:pt x="566" y="272"/>
                      </a:lnTo>
                      <a:lnTo>
                        <a:pt x="563" y="247"/>
                      </a:lnTo>
                      <a:lnTo>
                        <a:pt x="554" y="219"/>
                      </a:lnTo>
                      <a:lnTo>
                        <a:pt x="539" y="192"/>
                      </a:lnTo>
                      <a:lnTo>
                        <a:pt x="518" y="163"/>
                      </a:lnTo>
                      <a:lnTo>
                        <a:pt x="490" y="133"/>
                      </a:lnTo>
                      <a:lnTo>
                        <a:pt x="452" y="103"/>
                      </a:lnTo>
                      <a:lnTo>
                        <a:pt x="435" y="91"/>
                      </a:lnTo>
                      <a:lnTo>
                        <a:pt x="418" y="81"/>
                      </a:lnTo>
                      <a:lnTo>
                        <a:pt x="399" y="72"/>
                      </a:lnTo>
                      <a:lnTo>
                        <a:pt x="381" y="63"/>
                      </a:lnTo>
                      <a:lnTo>
                        <a:pt x="363" y="55"/>
                      </a:lnTo>
                      <a:lnTo>
                        <a:pt x="344" y="45"/>
                      </a:lnTo>
                      <a:lnTo>
                        <a:pt x="327" y="37"/>
                      </a:lnTo>
                      <a:lnTo>
                        <a:pt x="310" y="27"/>
                      </a:lnTo>
                      <a:lnTo>
                        <a:pt x="305" y="24"/>
                      </a:lnTo>
                      <a:lnTo>
                        <a:pt x="300" y="21"/>
                      </a:lnTo>
                      <a:lnTo>
                        <a:pt x="296" y="18"/>
                      </a:lnTo>
                      <a:lnTo>
                        <a:pt x="290" y="14"/>
                      </a:lnTo>
                      <a:lnTo>
                        <a:pt x="284" y="11"/>
                      </a:lnTo>
                      <a:lnTo>
                        <a:pt x="278" y="7"/>
                      </a:lnTo>
                      <a:lnTo>
                        <a:pt x="271" y="4"/>
                      </a:lnTo>
                      <a:lnTo>
                        <a:pt x="263" y="0"/>
                      </a:lnTo>
                      <a:lnTo>
                        <a:pt x="267" y="6"/>
                      </a:lnTo>
                      <a:lnTo>
                        <a:pt x="275" y="19"/>
                      </a:lnTo>
                      <a:lnTo>
                        <a:pt x="285" y="33"/>
                      </a:lnTo>
                      <a:lnTo>
                        <a:pt x="296" y="43"/>
                      </a:lnTo>
                      <a:lnTo>
                        <a:pt x="415" y="111"/>
                      </a:lnTo>
                      <a:lnTo>
                        <a:pt x="441" y="127"/>
                      </a:lnTo>
                      <a:lnTo>
                        <a:pt x="464" y="143"/>
                      </a:lnTo>
                      <a:lnTo>
                        <a:pt x="485" y="162"/>
                      </a:lnTo>
                      <a:lnTo>
                        <a:pt x="502" y="182"/>
                      </a:lnTo>
                      <a:lnTo>
                        <a:pt x="516" y="205"/>
                      </a:lnTo>
                      <a:lnTo>
                        <a:pt x="527" y="232"/>
                      </a:lnTo>
                      <a:lnTo>
                        <a:pt x="535" y="261"/>
                      </a:lnTo>
                      <a:lnTo>
                        <a:pt x="540" y="294"/>
                      </a:lnTo>
                      <a:lnTo>
                        <a:pt x="540" y="308"/>
                      </a:lnTo>
                      <a:lnTo>
                        <a:pt x="539" y="322"/>
                      </a:lnTo>
                      <a:lnTo>
                        <a:pt x="535" y="334"/>
                      </a:lnTo>
                      <a:lnTo>
                        <a:pt x="531" y="347"/>
                      </a:lnTo>
                      <a:lnTo>
                        <a:pt x="526" y="359"/>
                      </a:lnTo>
                      <a:lnTo>
                        <a:pt x="519" y="370"/>
                      </a:lnTo>
                      <a:lnTo>
                        <a:pt x="512" y="382"/>
                      </a:lnTo>
                      <a:lnTo>
                        <a:pt x="504" y="392"/>
                      </a:lnTo>
                      <a:lnTo>
                        <a:pt x="488" y="385"/>
                      </a:lnTo>
                      <a:lnTo>
                        <a:pt x="501" y="351"/>
                      </a:lnTo>
                      <a:lnTo>
                        <a:pt x="504" y="311"/>
                      </a:lnTo>
                      <a:lnTo>
                        <a:pt x="500" y="273"/>
                      </a:lnTo>
                      <a:lnTo>
                        <a:pt x="488" y="239"/>
                      </a:lnTo>
                      <a:lnTo>
                        <a:pt x="478" y="220"/>
                      </a:lnTo>
                      <a:lnTo>
                        <a:pt x="467" y="204"/>
                      </a:lnTo>
                      <a:lnTo>
                        <a:pt x="456" y="188"/>
                      </a:lnTo>
                      <a:lnTo>
                        <a:pt x="444" y="174"/>
                      </a:lnTo>
                      <a:lnTo>
                        <a:pt x="432" y="162"/>
                      </a:lnTo>
                      <a:lnTo>
                        <a:pt x="418" y="150"/>
                      </a:lnTo>
                      <a:lnTo>
                        <a:pt x="405" y="139"/>
                      </a:lnTo>
                      <a:lnTo>
                        <a:pt x="391" y="129"/>
                      </a:lnTo>
                      <a:lnTo>
                        <a:pt x="376" y="120"/>
                      </a:lnTo>
                      <a:lnTo>
                        <a:pt x="363" y="113"/>
                      </a:lnTo>
                      <a:lnTo>
                        <a:pt x="348" y="105"/>
                      </a:lnTo>
                      <a:lnTo>
                        <a:pt x="333" y="100"/>
                      </a:lnTo>
                      <a:lnTo>
                        <a:pt x="318" y="94"/>
                      </a:lnTo>
                      <a:lnTo>
                        <a:pt x="303" y="88"/>
                      </a:lnTo>
                      <a:lnTo>
                        <a:pt x="286" y="83"/>
                      </a:lnTo>
                      <a:lnTo>
                        <a:pt x="271" y="79"/>
                      </a:lnTo>
                      <a:lnTo>
                        <a:pt x="266" y="90"/>
                      </a:lnTo>
                      <a:lnTo>
                        <a:pt x="260" y="102"/>
                      </a:lnTo>
                      <a:lnTo>
                        <a:pt x="255" y="111"/>
                      </a:lnTo>
                      <a:lnTo>
                        <a:pt x="250" y="120"/>
                      </a:lnTo>
                      <a:lnTo>
                        <a:pt x="245" y="129"/>
                      </a:lnTo>
                      <a:lnTo>
                        <a:pt x="238" y="139"/>
                      </a:lnTo>
                      <a:lnTo>
                        <a:pt x="230" y="149"/>
                      </a:lnTo>
                      <a:lnTo>
                        <a:pt x="221" y="161"/>
                      </a:lnTo>
                      <a:lnTo>
                        <a:pt x="210" y="172"/>
                      </a:lnTo>
                      <a:lnTo>
                        <a:pt x="200" y="182"/>
                      </a:lnTo>
                      <a:lnTo>
                        <a:pt x="190" y="194"/>
                      </a:lnTo>
                      <a:lnTo>
                        <a:pt x="178" y="204"/>
                      </a:lnTo>
                      <a:lnTo>
                        <a:pt x="167" y="214"/>
                      </a:lnTo>
                      <a:lnTo>
                        <a:pt x="155" y="224"/>
                      </a:lnTo>
                      <a:lnTo>
                        <a:pt x="142" y="233"/>
                      </a:lnTo>
                      <a:lnTo>
                        <a:pt x="129" y="241"/>
                      </a:lnTo>
                      <a:lnTo>
                        <a:pt x="115" y="249"/>
                      </a:lnTo>
                      <a:lnTo>
                        <a:pt x="101" y="257"/>
                      </a:lnTo>
                      <a:lnTo>
                        <a:pt x="85" y="264"/>
                      </a:lnTo>
                      <a:lnTo>
                        <a:pt x="70" y="270"/>
                      </a:lnTo>
                      <a:lnTo>
                        <a:pt x="54" y="276"/>
                      </a:lnTo>
                      <a:lnTo>
                        <a:pt x="36" y="280"/>
                      </a:lnTo>
                      <a:lnTo>
                        <a:pt x="18" y="285"/>
                      </a:lnTo>
                      <a:lnTo>
                        <a:pt x="0" y="288"/>
                      </a:lnTo>
                      <a:lnTo>
                        <a:pt x="2" y="3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AutoShape 42"/>
                <p:cNvSpPr/>
                <p:nvPr/>
              </p:nvSpPr>
              <p:spPr>
                <a:xfrm rot="20460000">
                  <a:off x="4570920" y="1941480"/>
                  <a:ext cx="629640" cy="367200"/>
                </a:xfrm>
                <a:custGeom>
                  <a:avLst/>
                  <a:gdLst>
                    <a:gd name="textAreaLeft" fmla="*/ 0 w 629640"/>
                    <a:gd name="textAreaRight" fmla="*/ 630000 w 629640"/>
                    <a:gd name="textAreaTop" fmla="*/ 0 h 367200"/>
                    <a:gd name="textAreaBottom" fmla="*/ 367200 h 367200"/>
                  </a:gdLst>
                  <a:ahLst/>
                  <a:rect l="textAreaLeft" t="textAreaTop" r="textAreaRight" b="textAreaBottom"/>
                  <a:pathLst>
                    <a:path w="622" h="380">
                      <a:moveTo>
                        <a:pt x="0" y="14"/>
                      </a:moveTo>
                      <a:lnTo>
                        <a:pt x="2" y="23"/>
                      </a:lnTo>
                      <a:lnTo>
                        <a:pt x="12" y="45"/>
                      </a:lnTo>
                      <a:lnTo>
                        <a:pt x="24" y="75"/>
                      </a:lnTo>
                      <a:lnTo>
                        <a:pt x="38" y="109"/>
                      </a:lnTo>
                      <a:lnTo>
                        <a:pt x="53" y="143"/>
                      </a:lnTo>
                      <a:lnTo>
                        <a:pt x="67" y="171"/>
                      </a:lnTo>
                      <a:lnTo>
                        <a:pt x="76" y="192"/>
                      </a:lnTo>
                      <a:lnTo>
                        <a:pt x="79" y="200"/>
                      </a:lnTo>
                      <a:lnTo>
                        <a:pt x="89" y="216"/>
                      </a:lnTo>
                      <a:lnTo>
                        <a:pt x="99" y="232"/>
                      </a:lnTo>
                      <a:lnTo>
                        <a:pt x="109" y="247"/>
                      </a:lnTo>
                      <a:lnTo>
                        <a:pt x="121" y="261"/>
                      </a:lnTo>
                      <a:lnTo>
                        <a:pt x="135" y="275"/>
                      </a:lnTo>
                      <a:lnTo>
                        <a:pt x="149" y="287"/>
                      </a:lnTo>
                      <a:lnTo>
                        <a:pt x="164" y="298"/>
                      </a:lnTo>
                      <a:lnTo>
                        <a:pt x="180" y="307"/>
                      </a:lnTo>
                      <a:lnTo>
                        <a:pt x="196" y="315"/>
                      </a:lnTo>
                      <a:lnTo>
                        <a:pt x="212" y="322"/>
                      </a:lnTo>
                      <a:lnTo>
                        <a:pt x="227" y="328"/>
                      </a:lnTo>
                      <a:lnTo>
                        <a:pt x="244" y="333"/>
                      </a:lnTo>
                      <a:lnTo>
                        <a:pt x="260" y="336"/>
                      </a:lnTo>
                      <a:lnTo>
                        <a:pt x="278" y="339"/>
                      </a:lnTo>
                      <a:lnTo>
                        <a:pt x="295" y="342"/>
                      </a:lnTo>
                      <a:lnTo>
                        <a:pt x="313" y="344"/>
                      </a:lnTo>
                      <a:lnTo>
                        <a:pt x="332" y="345"/>
                      </a:lnTo>
                      <a:lnTo>
                        <a:pt x="351" y="346"/>
                      </a:lnTo>
                      <a:lnTo>
                        <a:pt x="372" y="346"/>
                      </a:lnTo>
                      <a:lnTo>
                        <a:pt x="393" y="345"/>
                      </a:lnTo>
                      <a:lnTo>
                        <a:pt x="415" y="344"/>
                      </a:lnTo>
                      <a:lnTo>
                        <a:pt x="438" y="343"/>
                      </a:lnTo>
                      <a:lnTo>
                        <a:pt x="462" y="342"/>
                      </a:lnTo>
                      <a:lnTo>
                        <a:pt x="487" y="339"/>
                      </a:lnTo>
                      <a:lnTo>
                        <a:pt x="501" y="351"/>
                      </a:lnTo>
                      <a:lnTo>
                        <a:pt x="517" y="363"/>
                      </a:lnTo>
                      <a:lnTo>
                        <a:pt x="535" y="371"/>
                      </a:lnTo>
                      <a:lnTo>
                        <a:pt x="554" y="377"/>
                      </a:lnTo>
                      <a:lnTo>
                        <a:pt x="573" y="380"/>
                      </a:lnTo>
                      <a:lnTo>
                        <a:pt x="591" y="379"/>
                      </a:lnTo>
                      <a:lnTo>
                        <a:pt x="608" y="372"/>
                      </a:lnTo>
                      <a:lnTo>
                        <a:pt x="622" y="359"/>
                      </a:lnTo>
                      <a:lnTo>
                        <a:pt x="594" y="359"/>
                      </a:lnTo>
                      <a:lnTo>
                        <a:pt x="571" y="357"/>
                      </a:lnTo>
                      <a:lnTo>
                        <a:pt x="552" y="352"/>
                      </a:lnTo>
                      <a:lnTo>
                        <a:pt x="536" y="344"/>
                      </a:lnTo>
                      <a:lnTo>
                        <a:pt x="523" y="335"/>
                      </a:lnTo>
                      <a:lnTo>
                        <a:pt x="513" y="325"/>
                      </a:lnTo>
                      <a:lnTo>
                        <a:pt x="503" y="312"/>
                      </a:lnTo>
                      <a:lnTo>
                        <a:pt x="497" y="299"/>
                      </a:lnTo>
                      <a:lnTo>
                        <a:pt x="491" y="300"/>
                      </a:lnTo>
                      <a:lnTo>
                        <a:pt x="486" y="306"/>
                      </a:lnTo>
                      <a:lnTo>
                        <a:pt x="482" y="313"/>
                      </a:lnTo>
                      <a:lnTo>
                        <a:pt x="477" y="316"/>
                      </a:lnTo>
                      <a:lnTo>
                        <a:pt x="453" y="319"/>
                      </a:lnTo>
                      <a:lnTo>
                        <a:pt x="430" y="320"/>
                      </a:lnTo>
                      <a:lnTo>
                        <a:pt x="409" y="321"/>
                      </a:lnTo>
                      <a:lnTo>
                        <a:pt x="388" y="321"/>
                      </a:lnTo>
                      <a:lnTo>
                        <a:pt x="370" y="321"/>
                      </a:lnTo>
                      <a:lnTo>
                        <a:pt x="351" y="321"/>
                      </a:lnTo>
                      <a:lnTo>
                        <a:pt x="334" y="321"/>
                      </a:lnTo>
                      <a:lnTo>
                        <a:pt x="317" y="320"/>
                      </a:lnTo>
                      <a:lnTo>
                        <a:pt x="301" y="318"/>
                      </a:lnTo>
                      <a:lnTo>
                        <a:pt x="285" y="315"/>
                      </a:lnTo>
                      <a:lnTo>
                        <a:pt x="268" y="313"/>
                      </a:lnTo>
                      <a:lnTo>
                        <a:pt x="253" y="310"/>
                      </a:lnTo>
                      <a:lnTo>
                        <a:pt x="237" y="306"/>
                      </a:lnTo>
                      <a:lnTo>
                        <a:pt x="222" y="301"/>
                      </a:lnTo>
                      <a:lnTo>
                        <a:pt x="206" y="296"/>
                      </a:lnTo>
                      <a:lnTo>
                        <a:pt x="190" y="290"/>
                      </a:lnTo>
                      <a:lnTo>
                        <a:pt x="153" y="265"/>
                      </a:lnTo>
                      <a:lnTo>
                        <a:pt x="124" y="234"/>
                      </a:lnTo>
                      <a:lnTo>
                        <a:pt x="101" y="200"/>
                      </a:lnTo>
                      <a:lnTo>
                        <a:pt x="83" y="164"/>
                      </a:lnTo>
                      <a:lnTo>
                        <a:pt x="67" y="129"/>
                      </a:lnTo>
                      <a:lnTo>
                        <a:pt x="52" y="92"/>
                      </a:lnTo>
                      <a:lnTo>
                        <a:pt x="37" y="56"/>
                      </a:lnTo>
                      <a:lnTo>
                        <a:pt x="18" y="23"/>
                      </a:lnTo>
                      <a:lnTo>
                        <a:pt x="25" y="18"/>
                      </a:lnTo>
                      <a:lnTo>
                        <a:pt x="33" y="14"/>
                      </a:lnTo>
                      <a:lnTo>
                        <a:pt x="40" y="8"/>
                      </a:lnTo>
                      <a:lnTo>
                        <a:pt x="40" y="0"/>
                      </a:lnTo>
                      <a:lnTo>
                        <a:pt x="37" y="1"/>
                      </a:lnTo>
                      <a:lnTo>
                        <a:pt x="32" y="2"/>
                      </a:lnTo>
                      <a:lnTo>
                        <a:pt x="26" y="4"/>
                      </a:lnTo>
                      <a:lnTo>
                        <a:pt x="21" y="7"/>
                      </a:lnTo>
                      <a:lnTo>
                        <a:pt x="14" y="9"/>
                      </a:lnTo>
                      <a:lnTo>
                        <a:pt x="8" y="11"/>
                      </a:lnTo>
                      <a:lnTo>
                        <a:pt x="3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43"/>
                <p:cNvSpPr/>
                <p:nvPr/>
              </p:nvSpPr>
              <p:spPr>
                <a:xfrm rot="20460000">
                  <a:off x="5328360" y="2094480"/>
                  <a:ext cx="379440" cy="488520"/>
                </a:xfrm>
                <a:custGeom>
                  <a:avLst/>
                  <a:gdLst>
                    <a:gd name="textAreaLeft" fmla="*/ 0 w 379440"/>
                    <a:gd name="textAreaRight" fmla="*/ 379800 w 379440"/>
                    <a:gd name="textAreaTop" fmla="*/ 0 h 488520"/>
                    <a:gd name="textAreaBottom" fmla="*/ 488880 h 488520"/>
                  </a:gdLst>
                  <a:ahLst/>
                  <a:rect l="textAreaLeft" t="textAreaTop" r="textAreaRight" b="textAreaBottom"/>
                  <a:pathLst>
                    <a:path w="375" h="507">
                      <a:moveTo>
                        <a:pt x="371" y="480"/>
                      </a:moveTo>
                      <a:lnTo>
                        <a:pt x="350" y="484"/>
                      </a:lnTo>
                      <a:lnTo>
                        <a:pt x="330" y="485"/>
                      </a:lnTo>
                      <a:lnTo>
                        <a:pt x="312" y="487"/>
                      </a:lnTo>
                      <a:lnTo>
                        <a:pt x="296" y="488"/>
                      </a:lnTo>
                      <a:lnTo>
                        <a:pt x="280" y="488"/>
                      </a:lnTo>
                      <a:lnTo>
                        <a:pt x="265" y="488"/>
                      </a:lnTo>
                      <a:lnTo>
                        <a:pt x="251" y="488"/>
                      </a:lnTo>
                      <a:lnTo>
                        <a:pt x="238" y="487"/>
                      </a:lnTo>
                      <a:lnTo>
                        <a:pt x="226" y="485"/>
                      </a:lnTo>
                      <a:lnTo>
                        <a:pt x="214" y="484"/>
                      </a:lnTo>
                      <a:lnTo>
                        <a:pt x="203" y="481"/>
                      </a:lnTo>
                      <a:lnTo>
                        <a:pt x="192" y="479"/>
                      </a:lnTo>
                      <a:lnTo>
                        <a:pt x="181" y="476"/>
                      </a:lnTo>
                      <a:lnTo>
                        <a:pt x="170" y="473"/>
                      </a:lnTo>
                      <a:lnTo>
                        <a:pt x="160" y="470"/>
                      </a:lnTo>
                      <a:lnTo>
                        <a:pt x="148" y="466"/>
                      </a:lnTo>
                      <a:lnTo>
                        <a:pt x="128" y="458"/>
                      </a:lnTo>
                      <a:lnTo>
                        <a:pt x="108" y="447"/>
                      </a:lnTo>
                      <a:lnTo>
                        <a:pt x="91" y="432"/>
                      </a:lnTo>
                      <a:lnTo>
                        <a:pt x="75" y="416"/>
                      </a:lnTo>
                      <a:lnTo>
                        <a:pt x="61" y="397"/>
                      </a:lnTo>
                      <a:lnTo>
                        <a:pt x="51" y="377"/>
                      </a:lnTo>
                      <a:lnTo>
                        <a:pt x="41" y="355"/>
                      </a:lnTo>
                      <a:lnTo>
                        <a:pt x="37" y="333"/>
                      </a:lnTo>
                      <a:lnTo>
                        <a:pt x="34" y="296"/>
                      </a:lnTo>
                      <a:lnTo>
                        <a:pt x="38" y="259"/>
                      </a:lnTo>
                      <a:lnTo>
                        <a:pt x="44" y="222"/>
                      </a:lnTo>
                      <a:lnTo>
                        <a:pt x="49" y="185"/>
                      </a:lnTo>
                      <a:lnTo>
                        <a:pt x="55" y="149"/>
                      </a:lnTo>
                      <a:lnTo>
                        <a:pt x="56" y="113"/>
                      </a:lnTo>
                      <a:lnTo>
                        <a:pt x="52" y="77"/>
                      </a:lnTo>
                      <a:lnTo>
                        <a:pt x="40" y="41"/>
                      </a:lnTo>
                      <a:lnTo>
                        <a:pt x="33" y="28"/>
                      </a:lnTo>
                      <a:lnTo>
                        <a:pt x="29" y="16"/>
                      </a:lnTo>
                      <a:lnTo>
                        <a:pt x="24" y="7"/>
                      </a:lnTo>
                      <a:lnTo>
                        <a:pt x="17" y="0"/>
                      </a:lnTo>
                      <a:lnTo>
                        <a:pt x="0" y="7"/>
                      </a:lnTo>
                      <a:lnTo>
                        <a:pt x="9" y="24"/>
                      </a:lnTo>
                      <a:lnTo>
                        <a:pt x="15" y="37"/>
                      </a:lnTo>
                      <a:lnTo>
                        <a:pt x="19" y="50"/>
                      </a:lnTo>
                      <a:lnTo>
                        <a:pt x="24" y="66"/>
                      </a:lnTo>
                      <a:lnTo>
                        <a:pt x="30" y="88"/>
                      </a:lnTo>
                      <a:lnTo>
                        <a:pt x="33" y="113"/>
                      </a:lnTo>
                      <a:lnTo>
                        <a:pt x="36" y="139"/>
                      </a:lnTo>
                      <a:lnTo>
                        <a:pt x="34" y="167"/>
                      </a:lnTo>
                      <a:lnTo>
                        <a:pt x="30" y="196"/>
                      </a:lnTo>
                      <a:lnTo>
                        <a:pt x="25" y="223"/>
                      </a:lnTo>
                      <a:lnTo>
                        <a:pt x="21" y="252"/>
                      </a:lnTo>
                      <a:lnTo>
                        <a:pt x="17" y="280"/>
                      </a:lnTo>
                      <a:lnTo>
                        <a:pt x="15" y="307"/>
                      </a:lnTo>
                      <a:lnTo>
                        <a:pt x="16" y="333"/>
                      </a:lnTo>
                      <a:lnTo>
                        <a:pt x="19" y="357"/>
                      </a:lnTo>
                      <a:lnTo>
                        <a:pt x="27" y="380"/>
                      </a:lnTo>
                      <a:lnTo>
                        <a:pt x="39" y="402"/>
                      </a:lnTo>
                      <a:lnTo>
                        <a:pt x="53" y="421"/>
                      </a:lnTo>
                      <a:lnTo>
                        <a:pt x="68" y="439"/>
                      </a:lnTo>
                      <a:lnTo>
                        <a:pt x="85" y="454"/>
                      </a:lnTo>
                      <a:lnTo>
                        <a:pt x="104" y="466"/>
                      </a:lnTo>
                      <a:lnTo>
                        <a:pt x="123" y="478"/>
                      </a:lnTo>
                      <a:lnTo>
                        <a:pt x="145" y="487"/>
                      </a:lnTo>
                      <a:lnTo>
                        <a:pt x="167" y="494"/>
                      </a:lnTo>
                      <a:lnTo>
                        <a:pt x="190" y="500"/>
                      </a:lnTo>
                      <a:lnTo>
                        <a:pt x="215" y="503"/>
                      </a:lnTo>
                      <a:lnTo>
                        <a:pt x="239" y="506"/>
                      </a:lnTo>
                      <a:lnTo>
                        <a:pt x="266" y="507"/>
                      </a:lnTo>
                      <a:lnTo>
                        <a:pt x="292" y="507"/>
                      </a:lnTo>
                      <a:lnTo>
                        <a:pt x="320" y="506"/>
                      </a:lnTo>
                      <a:lnTo>
                        <a:pt x="348" y="503"/>
                      </a:lnTo>
                      <a:lnTo>
                        <a:pt x="375" y="500"/>
                      </a:lnTo>
                      <a:lnTo>
                        <a:pt x="371" y="4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44"/>
                <p:cNvSpPr/>
                <p:nvPr/>
              </p:nvSpPr>
              <p:spPr>
                <a:xfrm rot="20460000">
                  <a:off x="5141880" y="2076840"/>
                  <a:ext cx="86760" cy="84960"/>
                </a:xfrm>
                <a:custGeom>
                  <a:avLst/>
                  <a:gdLst>
                    <a:gd name="textAreaLeft" fmla="*/ 0 w 86760"/>
                    <a:gd name="textAreaRight" fmla="*/ 87120 w 8676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86" h="88">
                      <a:moveTo>
                        <a:pt x="23" y="82"/>
                      </a:moveTo>
                      <a:lnTo>
                        <a:pt x="31" y="81"/>
                      </a:lnTo>
                      <a:lnTo>
                        <a:pt x="39" y="80"/>
                      </a:lnTo>
                      <a:lnTo>
                        <a:pt x="46" y="76"/>
                      </a:lnTo>
                      <a:lnTo>
                        <a:pt x="53" y="72"/>
                      </a:lnTo>
                      <a:lnTo>
                        <a:pt x="57" y="67"/>
                      </a:lnTo>
                      <a:lnTo>
                        <a:pt x="61" y="61"/>
                      </a:lnTo>
                      <a:lnTo>
                        <a:pt x="63" y="56"/>
                      </a:lnTo>
                      <a:lnTo>
                        <a:pt x="64" y="49"/>
                      </a:lnTo>
                      <a:lnTo>
                        <a:pt x="63" y="42"/>
                      </a:lnTo>
                      <a:lnTo>
                        <a:pt x="61" y="36"/>
                      </a:lnTo>
                      <a:lnTo>
                        <a:pt x="57" y="30"/>
                      </a:lnTo>
                      <a:lnTo>
                        <a:pt x="53" y="24"/>
                      </a:lnTo>
                      <a:lnTo>
                        <a:pt x="46" y="21"/>
                      </a:lnTo>
                      <a:lnTo>
                        <a:pt x="39" y="18"/>
                      </a:lnTo>
                      <a:lnTo>
                        <a:pt x="31" y="16"/>
                      </a:lnTo>
                      <a:lnTo>
                        <a:pt x="23" y="15"/>
                      </a:lnTo>
                      <a:lnTo>
                        <a:pt x="17" y="15"/>
                      </a:lnTo>
                      <a:lnTo>
                        <a:pt x="11" y="16"/>
                      </a:lnTo>
                      <a:lnTo>
                        <a:pt x="5" y="19"/>
                      </a:lnTo>
                      <a:lnTo>
                        <a:pt x="0" y="21"/>
                      </a:lnTo>
                      <a:lnTo>
                        <a:pt x="3" y="16"/>
                      </a:lnTo>
                      <a:lnTo>
                        <a:pt x="8" y="13"/>
                      </a:lnTo>
                      <a:lnTo>
                        <a:pt x="12" y="8"/>
                      </a:lnTo>
                      <a:lnTo>
                        <a:pt x="17" y="6"/>
                      </a:lnTo>
                      <a:lnTo>
                        <a:pt x="21" y="4"/>
                      </a:lnTo>
                      <a:lnTo>
                        <a:pt x="27" y="1"/>
                      </a:lnTo>
                      <a:lnTo>
                        <a:pt x="34" y="0"/>
                      </a:lnTo>
                      <a:lnTo>
                        <a:pt x="40" y="0"/>
                      </a:lnTo>
                      <a:lnTo>
                        <a:pt x="49" y="1"/>
                      </a:lnTo>
                      <a:lnTo>
                        <a:pt x="58" y="4"/>
                      </a:lnTo>
                      <a:lnTo>
                        <a:pt x="65" y="7"/>
                      </a:lnTo>
                      <a:lnTo>
                        <a:pt x="72" y="13"/>
                      </a:lnTo>
                      <a:lnTo>
                        <a:pt x="78" y="20"/>
                      </a:lnTo>
                      <a:lnTo>
                        <a:pt x="82" y="27"/>
                      </a:lnTo>
                      <a:lnTo>
                        <a:pt x="85" y="35"/>
                      </a:lnTo>
                      <a:lnTo>
                        <a:pt x="86" y="44"/>
                      </a:lnTo>
                      <a:lnTo>
                        <a:pt x="85" y="53"/>
                      </a:lnTo>
                      <a:lnTo>
                        <a:pt x="82" y="61"/>
                      </a:lnTo>
                      <a:lnTo>
                        <a:pt x="78" y="68"/>
                      </a:lnTo>
                      <a:lnTo>
                        <a:pt x="72" y="75"/>
                      </a:lnTo>
                      <a:lnTo>
                        <a:pt x="65" y="81"/>
                      </a:lnTo>
                      <a:lnTo>
                        <a:pt x="58" y="84"/>
                      </a:lnTo>
                      <a:lnTo>
                        <a:pt x="49" y="87"/>
                      </a:lnTo>
                      <a:lnTo>
                        <a:pt x="40" y="88"/>
                      </a:lnTo>
                      <a:lnTo>
                        <a:pt x="33" y="88"/>
                      </a:lnTo>
                      <a:lnTo>
                        <a:pt x="27" y="86"/>
                      </a:lnTo>
                      <a:lnTo>
                        <a:pt x="21" y="84"/>
                      </a:lnTo>
                      <a:lnTo>
                        <a:pt x="16" y="81"/>
                      </a:lnTo>
                      <a:lnTo>
                        <a:pt x="18" y="81"/>
                      </a:lnTo>
                      <a:lnTo>
                        <a:pt x="19" y="81"/>
                      </a:lnTo>
                      <a:lnTo>
                        <a:pt x="21" y="82"/>
                      </a:lnTo>
                      <a:lnTo>
                        <a:pt x="23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1" name="Group 45"/>
            <p:cNvGrpSpPr/>
            <p:nvPr/>
          </p:nvGrpSpPr>
          <p:grpSpPr>
            <a:xfrm>
              <a:off x="2411280" y="907920"/>
              <a:ext cx="2000520" cy="3643200"/>
              <a:chOff x="2411280" y="907920"/>
              <a:chExt cx="2000520" cy="3643200"/>
            </a:xfrm>
          </p:grpSpPr>
          <p:pic>
            <p:nvPicPr>
              <p:cNvPr id="172" name="Picture 46" descr=""/>
              <p:cNvPicPr/>
              <p:nvPr/>
            </p:nvPicPr>
            <p:blipFill>
              <a:blip r:embed="rId4"/>
              <a:stretch/>
            </p:blipFill>
            <p:spPr>
              <a:xfrm>
                <a:off x="2411280" y="1123560"/>
                <a:ext cx="2000520" cy="342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AutoShape 47"/>
              <p:cNvSpPr/>
              <p:nvPr/>
            </p:nvSpPr>
            <p:spPr>
              <a:xfrm>
                <a:off x="2796840" y="907920"/>
                <a:ext cx="1006920" cy="645840"/>
              </a:xfrm>
              <a:prstGeom prst="can">
                <a:avLst>
                  <a:gd name="adj" fmla="val 25000"/>
                </a:avLst>
              </a:prstGeom>
              <a:solidFill>
                <a:srgbClr val="008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ru-RU" sz="48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0" lang="en-US" sz="4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74" name="Picture 48" descr=""/>
            <p:cNvPicPr/>
            <p:nvPr/>
          </p:nvPicPr>
          <p:blipFill>
            <a:blip r:embed="rId5"/>
            <a:stretch/>
          </p:blipFill>
          <p:spPr>
            <a:xfrm>
              <a:off x="5146560" y="2852640"/>
              <a:ext cx="635040" cy="74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Text Box 49"/>
          <p:cNvSpPr/>
          <p:nvPr/>
        </p:nvSpPr>
        <p:spPr>
          <a:xfrm>
            <a:off x="5928120" y="214200"/>
            <a:ext cx="289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cc99"/>
                </a:solidFill>
                <a:latin typeface="Times New Roman"/>
              </a:rPr>
              <a:t>ДОКТО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0"/>
          <p:cNvSpPr/>
          <p:nvPr/>
        </p:nvSpPr>
        <p:spPr>
          <a:xfrm>
            <a:off x="6314760" y="2071800"/>
            <a:ext cx="255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cc99"/>
                </a:solidFill>
                <a:latin typeface="Arial"/>
              </a:rPr>
              <a:t>Доктор лечит ребятиш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cc99"/>
                </a:solidFill>
                <a:latin typeface="Arial"/>
              </a:rPr>
              <a:t>Малышей и чуть повыш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cc99"/>
                </a:solidFill>
                <a:latin typeface="Arial"/>
              </a:rPr>
              <a:t>Если заболел животик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cc99"/>
                </a:solidFill>
                <a:latin typeface="Arial"/>
              </a:rPr>
              <a:t>Голова или бронхи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cc99"/>
                </a:solidFill>
                <a:latin typeface="Arial"/>
              </a:rPr>
              <a:t>Мама доктору звони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51"/>
          <p:cNvSpPr/>
          <p:nvPr/>
        </p:nvSpPr>
        <p:spPr>
          <a:xfrm>
            <a:off x="3203640" y="1916280"/>
            <a:ext cx="14436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2"/>
          <p:cNvSpPr/>
          <p:nvPr/>
        </p:nvSpPr>
        <p:spPr>
          <a:xfrm>
            <a:off x="4356000" y="60930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1860480" y="214200"/>
            <a:ext cx="569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Сосчитай по цепочк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2"/>
          <p:cNvSpPr/>
          <p:nvPr/>
        </p:nvSpPr>
        <p:spPr>
          <a:xfrm>
            <a:off x="785880" y="1785960"/>
            <a:ext cx="785880" cy="571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3"/>
          <p:cNvSpPr/>
          <p:nvPr/>
        </p:nvSpPr>
        <p:spPr>
          <a:xfrm>
            <a:off x="1071720" y="3286080"/>
            <a:ext cx="714240" cy="5716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2857680" y="3786120"/>
            <a:ext cx="857160" cy="785880"/>
          </a:xfrm>
          <a:prstGeom prst="ellipse">
            <a:avLst/>
          </a:prstGeom>
          <a:solidFill>
            <a:srgbClr val="ffffe2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5"/>
          <p:cNvSpPr/>
          <p:nvPr/>
        </p:nvSpPr>
        <p:spPr>
          <a:xfrm>
            <a:off x="4071960" y="1714680"/>
            <a:ext cx="928800" cy="642600"/>
          </a:xfrm>
          <a:prstGeom prst="ellipse">
            <a:avLst/>
          </a:prstGeom>
          <a:solidFill>
            <a:srgbClr val="ff99cc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6"/>
          <p:cNvSpPr/>
          <p:nvPr/>
        </p:nvSpPr>
        <p:spPr>
          <a:xfrm>
            <a:off x="4071960" y="3857760"/>
            <a:ext cx="1071720" cy="571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7"/>
          <p:cNvSpPr/>
          <p:nvPr/>
        </p:nvSpPr>
        <p:spPr>
          <a:xfrm>
            <a:off x="6000840" y="3500280"/>
            <a:ext cx="92844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8001000" y="2286000"/>
            <a:ext cx="92880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9"/>
          <p:cNvSpPr/>
          <p:nvPr/>
        </p:nvSpPr>
        <p:spPr>
          <a:xfrm>
            <a:off x="7000920" y="5072040"/>
            <a:ext cx="1143000" cy="7142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8" name="AutoShape 10"/>
          <p:cNvCxnSpPr/>
          <p:nvPr/>
        </p:nvCxnSpPr>
        <p:spPr>
          <a:xfrm>
            <a:off x="284040" y="2358720"/>
            <a:ext cx="930960" cy="738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11"/>
          <p:cNvCxnSpPr>
            <a:stCxn id="181" idx="6"/>
            <a:endCxn id="182" idx="2"/>
          </p:cNvCxnSpPr>
          <p:nvPr/>
        </p:nvCxnSpPr>
        <p:spPr>
          <a:xfrm>
            <a:off x="1785600" y="3571560"/>
            <a:ext cx="1072440" cy="6087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12"/>
          <p:cNvCxnSpPr/>
          <p:nvPr/>
        </p:nvCxnSpPr>
        <p:spPr>
          <a:xfrm>
            <a:off x="4786200" y="2357280"/>
            <a:ext cx="215280" cy="5011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1" name="AutoShape 13"/>
          <p:cNvCxnSpPr>
            <a:stCxn id="184" idx="6"/>
          </p:cNvCxnSpPr>
          <p:nvPr/>
        </p:nvCxnSpPr>
        <p:spPr>
          <a:xfrm flipV="1">
            <a:off x="5143320" y="4000320"/>
            <a:ext cx="929160" cy="1432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2" name="AutoShape 14"/>
          <p:cNvCxnSpPr>
            <a:endCxn id="187" idx="1"/>
          </p:cNvCxnSpPr>
          <p:nvPr/>
        </p:nvCxnSpPr>
        <p:spPr>
          <a:xfrm>
            <a:off x="6143760" y="4142880"/>
            <a:ext cx="1024560" cy="10339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15"/>
          <p:cNvCxnSpPr>
            <a:endCxn id="186" idx="4"/>
          </p:cNvCxnSpPr>
          <p:nvPr/>
        </p:nvCxnSpPr>
        <p:spPr>
          <a:xfrm flipH="1" flipV="1">
            <a:off x="8465760" y="2999520"/>
            <a:ext cx="107280" cy="7866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16"/>
          <p:cNvCxnSpPr>
            <a:stCxn id="182" idx="6"/>
            <a:endCxn id="183" idx="3"/>
          </p:cNvCxnSpPr>
          <p:nvPr/>
        </p:nvCxnSpPr>
        <p:spPr>
          <a:xfrm flipV="1">
            <a:off x="3714480" y="2262960"/>
            <a:ext cx="494280" cy="19170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Text Box 17"/>
          <p:cNvSpPr/>
          <p:nvPr/>
        </p:nvSpPr>
        <p:spPr>
          <a:xfrm>
            <a:off x="1400400" y="221472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+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1928880" y="30718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>
            <a:off x="3215160" y="264312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+ 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4472280" y="285768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+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5186880" y="350028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+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6829920" y="421488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+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8115840" y="392904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+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4" descr=""/>
          <p:cNvPicPr/>
          <p:nvPr/>
        </p:nvPicPr>
        <p:blipFill>
          <a:blip r:embed="rId1"/>
          <a:stretch/>
        </p:blipFill>
        <p:spPr>
          <a:xfrm>
            <a:off x="642960" y="3786120"/>
            <a:ext cx="2071800" cy="2806920"/>
          </a:xfrm>
          <a:prstGeom prst="rect">
            <a:avLst/>
          </a:prstGeom>
          <a:ln w="0">
            <a:noFill/>
          </a:ln>
        </p:spPr>
      </p:pic>
      <p:cxnSp>
        <p:nvCxnSpPr>
          <p:cNvPr id="203" name="AutoShape 14"/>
          <p:cNvCxnSpPr/>
          <p:nvPr/>
        </p:nvCxnSpPr>
        <p:spPr>
          <a:xfrm flipV="1">
            <a:off x="7429680" y="4571640"/>
            <a:ext cx="786240" cy="35784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4"/>
          <p:cNvSpPr/>
          <p:nvPr/>
        </p:nvSpPr>
        <p:spPr>
          <a:xfrm>
            <a:off x="4356000" y="189000"/>
            <a:ext cx="4176720" cy="1871640"/>
          </a:xfrm>
          <a:prstGeom prst="cloudCallout">
            <a:avLst>
              <a:gd name="adj1" fmla="val -70296"/>
              <a:gd name="adj2" fmla="val 2141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4356000" y="472428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6" descr=""/>
          <p:cNvPicPr/>
          <p:nvPr/>
        </p:nvPicPr>
        <p:blipFill>
          <a:blip r:embed="rId1"/>
          <a:stretch/>
        </p:blipFill>
        <p:spPr>
          <a:xfrm>
            <a:off x="1357200" y="0"/>
            <a:ext cx="3929040" cy="449424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27"/>
          <p:cNvSpPr/>
          <p:nvPr/>
        </p:nvSpPr>
        <p:spPr>
          <a:xfrm>
            <a:off x="-142920" y="0"/>
            <a:ext cx="2428920" cy="2286000"/>
          </a:xfrm>
          <a:prstGeom prst="cloudCallout">
            <a:avLst>
              <a:gd name="adj1" fmla="val 64564"/>
              <a:gd name="adj2" fmla="val 3500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нанси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хгал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ономи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11" descr="C:\Documents and Settings\Администратор\Рабочий стол\мамы 1 а\12.jpg"/>
          <p:cNvPicPr/>
          <p:nvPr/>
        </p:nvPicPr>
        <p:blipFill>
          <a:blip r:embed="rId2"/>
          <a:stretch/>
        </p:blipFill>
        <p:spPr>
          <a:xfrm>
            <a:off x="5888160" y="0"/>
            <a:ext cx="3255840" cy="4495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C:\Documents and Settings\Администратор\Рабочий стол\мамы 1 а\1.jpg"/>
          <p:cNvPicPr/>
          <p:nvPr/>
        </p:nvPicPr>
        <p:blipFill>
          <a:blip r:embed="rId3"/>
          <a:stretch/>
        </p:blipFill>
        <p:spPr>
          <a:xfrm>
            <a:off x="0" y="2428920"/>
            <a:ext cx="3214800" cy="4727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:\Documents and Settings\Администратор\Рабочий стол\мамы 1 а\14.jpg"/>
          <p:cNvPicPr/>
          <p:nvPr/>
        </p:nvPicPr>
        <p:blipFill>
          <a:blip r:embed="rId4"/>
          <a:stretch/>
        </p:blipFill>
        <p:spPr>
          <a:xfrm>
            <a:off x="3429000" y="3841920"/>
            <a:ext cx="3357720" cy="3016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Oval 1"/>
          <p:cNvSpPr/>
          <p:nvPr/>
        </p:nvSpPr>
        <p:spPr>
          <a:xfrm>
            <a:off x="6300720" y="5084640"/>
            <a:ext cx="28908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2"/>
          <p:cNvSpPr/>
          <p:nvPr/>
        </p:nvSpPr>
        <p:spPr>
          <a:xfrm>
            <a:off x="5867280" y="5157720"/>
            <a:ext cx="28908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6732720" y="5157720"/>
            <a:ext cx="28872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4356000" y="189000"/>
            <a:ext cx="4176720" cy="1871640"/>
          </a:xfrm>
          <a:prstGeom prst="cloudCallout">
            <a:avLst>
              <a:gd name="adj1" fmla="val -70296"/>
              <a:gd name="adj2" fmla="val 2141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000760" y="571680"/>
            <a:ext cx="31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полни </a:t>
            </a:r>
            <a:r>
              <a:rPr b="0" lang="ru-RU" sz="2000" spc="-1" strike="noStrike">
                <a:solidFill>
                  <a:srgbClr val="800080"/>
                </a:solidFill>
                <a:latin typeface="Arial Black"/>
              </a:rPr>
              <a:t>«Волшебный квадрат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5357880" y="3000240"/>
            <a:ext cx="1008000" cy="86364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372360" y="2997360"/>
            <a:ext cx="1008000" cy="86328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7380360" y="2997360"/>
            <a:ext cx="1008000" cy="86328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5364000" y="3860640"/>
            <a:ext cx="1008360" cy="86364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6372360" y="3860640"/>
            <a:ext cx="1008000" cy="86364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7380360" y="3860640"/>
            <a:ext cx="1008000" cy="86364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5364000" y="4724280"/>
            <a:ext cx="1008360" cy="86364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6372360" y="4724280"/>
            <a:ext cx="1008000" cy="86364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7380360" y="4724280"/>
            <a:ext cx="1008000" cy="86364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5435640" y="3141720"/>
            <a:ext cx="649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800000"/>
                </a:solidFill>
                <a:latin typeface="Arial Black"/>
              </a:rPr>
              <a:t>1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4356000" y="472428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6516720" y="3141720"/>
            <a:ext cx="649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800000"/>
                </a:solidFill>
                <a:latin typeface="Arial Black"/>
              </a:rPr>
              <a:t>3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6516720" y="393372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Arial Black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7451640" y="4005360"/>
            <a:ext cx="649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800000"/>
                </a:solidFill>
                <a:latin typeface="Arial Black"/>
              </a:rPr>
              <a:t>2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6516720" y="4797360"/>
            <a:ext cx="649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800000"/>
                </a:solidFill>
                <a:latin typeface="Arial Black"/>
              </a:rPr>
              <a:t>4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6443640" y="3068640"/>
            <a:ext cx="649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7524720" y="3141720"/>
            <a:ext cx="649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800000"/>
                </a:solidFill>
                <a:latin typeface="Arial Black"/>
              </a:rPr>
              <a:t>3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7524720" y="4797360"/>
            <a:ext cx="649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800000"/>
                </a:solidFill>
                <a:latin typeface="Arial Black"/>
              </a:rPr>
              <a:t>2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5508720" y="4797360"/>
            <a:ext cx="649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800000"/>
                </a:solidFill>
                <a:latin typeface="Arial Black"/>
              </a:rPr>
              <a:t>1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5580000" y="3933720"/>
            <a:ext cx="649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800000"/>
                </a:solidFill>
                <a:latin typeface="Arial Black"/>
              </a:rPr>
              <a:t>5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26" descr=""/>
          <p:cNvPicPr/>
          <p:nvPr/>
        </p:nvPicPr>
        <p:blipFill>
          <a:blip r:embed="rId1"/>
          <a:stretch/>
        </p:blipFill>
        <p:spPr>
          <a:xfrm>
            <a:off x="1428840" y="928800"/>
            <a:ext cx="3929040" cy="449424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27"/>
          <p:cNvSpPr/>
          <p:nvPr/>
        </p:nvSpPr>
        <p:spPr>
          <a:xfrm>
            <a:off x="-142920" y="0"/>
            <a:ext cx="2428920" cy="2286000"/>
          </a:xfrm>
          <a:prstGeom prst="cloudCallout">
            <a:avLst>
              <a:gd name="adj1" fmla="val 64564"/>
              <a:gd name="adj2" fmla="val 3500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нанси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хгал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ономи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"/>
          <p:cNvSpPr/>
          <p:nvPr/>
        </p:nvSpPr>
        <p:spPr>
          <a:xfrm>
            <a:off x="841320" y="282600"/>
            <a:ext cx="7257960" cy="868320"/>
          </a:xfrm>
          <a:prstGeom prst="rect">
            <a:avLst/>
          </a:prstGeom>
          <a:noFill/>
          <a:ln w="57240">
            <a:solidFill>
              <a:srgbClr val="e9e9e9"/>
            </a:solidFill>
            <a:miter/>
          </a:ln>
          <a:effectLst>
            <a:outerShdw dist="52300" dir="4563564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b3187"/>
                </a:solidFill>
                <a:latin typeface="Monotype Corsiva"/>
              </a:rPr>
              <a:t>Математические загад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428760" y="1571760"/>
            <a:ext cx="8215200" cy="1556280"/>
          </a:xfrm>
          <a:prstGeom prst="rect">
            <a:avLst/>
          </a:prstGeom>
          <a:noFill/>
          <a:ln w="9360">
            <a:solidFill>
              <a:srgbClr val="4d68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d684d"/>
                </a:solidFill>
                <a:latin typeface="Arial"/>
              </a:rPr>
              <a:t>Пьеро задумал число, прибавил к нему </a:t>
            </a:r>
            <a:r>
              <a:rPr b="1" i="1" lang="en-US" sz="3200" spc="-1" strike="noStrike">
                <a:solidFill>
                  <a:srgbClr val="4d684d"/>
                </a:solidFill>
                <a:latin typeface="Arial"/>
              </a:rPr>
              <a:t>1</a:t>
            </a:r>
            <a:r>
              <a:rPr b="1" i="1" lang="ru-RU" sz="3200" spc="-1" strike="noStrike">
                <a:solidFill>
                  <a:srgbClr val="4d684d"/>
                </a:solidFill>
                <a:latin typeface="Arial"/>
              </a:rPr>
              <a:t>0 и получил </a:t>
            </a:r>
            <a:r>
              <a:rPr b="1" i="1" lang="en-US" sz="3200" spc="-1" strike="noStrike">
                <a:solidFill>
                  <a:srgbClr val="4d684d"/>
                </a:solidFill>
                <a:latin typeface="Arial"/>
              </a:rPr>
              <a:t>14</a:t>
            </a:r>
            <a:r>
              <a:rPr b="1" i="1" lang="ru-RU" sz="3200" spc="-1" strike="noStrike">
                <a:solidFill>
                  <a:srgbClr val="4d684d"/>
                </a:solidFill>
                <a:latin typeface="Arial"/>
              </a:rPr>
              <a:t>. Какое число задумал Пьер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500040" y="3071880"/>
            <a:ext cx="3286080" cy="5713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500040" y="3929040"/>
            <a:ext cx="3286080" cy="5716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500040" y="4786200"/>
            <a:ext cx="3214800" cy="5716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571680" y="3143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 +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0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500040" y="392904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571680" y="478620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0" descr="C:\Documents and Settings\Администратор\Рабочий стол\мамы 1 а\5.jpg"/>
          <p:cNvPicPr/>
          <p:nvPr/>
        </p:nvPicPr>
        <p:blipFill>
          <a:blip r:embed="rId2"/>
          <a:stretch/>
        </p:blipFill>
        <p:spPr>
          <a:xfrm>
            <a:off x="5214960" y="2857680"/>
            <a:ext cx="302904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93" dur="indefinite" restart="never" nodeType="tmRoot">
          <p:childTnLst>
            <p:par>
              <p:cTn id="294" nodeType="interactiveSeq" fill="hold">
                <p:childTnLst>
                  <p:par>
                    <p:cTn id="295" fill="hold"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302" nodeType="interactiveSeq" fill="hold">
                <p:childTnLst>
                  <p:par>
                    <p:cTn id="303" fill="hold"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310" nodeType="interactiveSeq" fill="hold">
                <p:childTnLst>
                  <p:par>
                    <p:cTn id="311" fill="hold"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0:54:54Z</dcterms:created>
  <dc:creator>777</dc:creator>
  <dc:description/>
  <dc:language>en-US</dc:language>
  <cp:lastModifiedBy>Борис</cp:lastModifiedBy>
  <dcterms:modified xsi:type="dcterms:W3CDTF">2014-07-06T16:34:31Z</dcterms:modified>
  <cp:revision>46</cp:revision>
  <dc:subject/>
  <dc:title>Слайд 1</dc:title>
</cp:coreProperties>
</file>